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ABDA-2D51-4915-960F-D93EF0EF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B2D-C54F-4813-89C9-E3B9E088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C60-A8C9-4041-8E1C-7950B785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D6B-4A15-46DE-B5FD-A9F94212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8CDB-218A-4C70-A9A6-8DCD28E3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8637-29AC-430A-9814-A61F2A65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E0FC-DF32-421A-9779-A758DC7E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423A-6B3E-4307-B86E-614AE7FA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CD7A-386D-41F7-BBDE-AA560F44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D79E-0C3B-4504-8082-1FE6E521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4C11-3A15-4AC9-85FD-BBDE6267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127-36D1-4676-BEBB-48A8C7F6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F368-888F-4CFA-BDB9-CBA3802F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D2CA-F487-421A-A9DC-4F5A90C0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7DE6-F17A-49FF-A5A1-9B397DCF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5A47-37F2-4D19-A813-C70D903C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464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4720" y="155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49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464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4720" y="4077000"/>
            <a:ext cx="26661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4524-55BF-4407-A4B1-EB711130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259-CCA8-4A5C-8E68-6E328F89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CB5-4335-469C-A9A8-455FE17B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63F3-080F-48E0-9CC8-B3B8CE2F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4920" y="476280"/>
            <a:ext cx="828036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ABFA-4AF5-4BD4-884B-F5724024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B30-406B-45EE-A7D9-6350FBB0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880" y="407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5133-ADE7-4A5F-B45E-F22F758C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880" y="1557000"/>
            <a:ext cx="4040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4077000"/>
            <a:ext cx="8280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DFF9-7949-4AF5-83E5-FD4227F0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d433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d433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CB59-1F4D-4521-838B-D39A05427DF7}" type="slidenum">
              <a:rPr b="0" lang="zh-TW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d433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d433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d433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79D2-F2DA-4D0C-A199-08A5337534D5}" type="slidenum">
              <a:rPr b="0" lang="zh-TW" sz="1400" spc="-1" strike="noStrike">
                <a:solidFill>
                  <a:srgbClr val="1d433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00" y="146160"/>
            <a:ext cx="89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標楷體"/>
              </a:rPr>
              <a:t>Cold-Pressing Technique - A New Approach to Recycle Stainless Steel Reductive Slag as Coarse Aggregate</a:t>
            </a:r>
            <a:endParaRPr b="0" lang="en-US" sz="3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600" y="4437000"/>
            <a:ext cx="806436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C. T. Tsai, Wei-Sheng Chen*, J. E. Chang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3300"/>
                </a:solidFill>
                <a:latin typeface="Times New Roman"/>
                <a:ea typeface="SimSun"/>
              </a:rPr>
              <a:t>Sustainable Environment Research Laboratories &amp;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ff3300"/>
                </a:solidFill>
                <a:latin typeface="Times New Roman"/>
              </a:rPr>
              <a:t>Department of Resources Engineering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Times New Roman"/>
                <a:ea typeface="SimSun"/>
              </a:rPr>
              <a:t>National Cheng Kung University</a:t>
            </a:r>
            <a:r>
              <a:rPr b="0" lang="zh-TW" sz="2400" spc="-1" strike="noStrike">
                <a:solidFill>
                  <a:srgbClr val="1d433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220011"/>
                </a:solidFill>
                <a:latin typeface="Times New Roman"/>
                <a:ea typeface="標楷體"/>
              </a:rPr>
              <a:t>17 April, 2015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413160" y="2060640"/>
            <a:ext cx="2274840" cy="2158920"/>
          </a:xfrm>
          <a:prstGeom prst="rect">
            <a:avLst/>
          </a:prstGeom>
          <a:ln w="9360">
            <a:solidFill>
              <a:srgbClr val="1d4337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85" name=""/>
          <p:cNvSpPr/>
          <p:nvPr/>
        </p:nvSpPr>
        <p:spPr>
          <a:xfrm>
            <a:off x="5918760" y="6203880"/>
            <a:ext cx="31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0000cc"/>
                </a:solidFill>
                <a:latin typeface="Times New Roman"/>
              </a:rPr>
              <a:t>SERL website: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http://</a:t>
            </a:r>
            <a:r>
              <a:rPr b="1" lang="zh-TW" sz="2400" spc="-1" strike="noStrike" u="sng">
                <a:solidFill>
                  <a:srgbClr val="ff0000"/>
                </a:solidFill>
                <a:uFillTx/>
                <a:latin typeface="Times New Roman"/>
              </a:rPr>
              <a:t>serc.ncku.edu.tw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4920" y="5430960"/>
            <a:ext cx="1441440" cy="1427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rcRect l="39798" t="31239" r="10318" b="9108"/>
          <a:stretch/>
        </p:blipFill>
        <p:spPr>
          <a:xfrm>
            <a:off x="250920" y="1989000"/>
            <a:ext cx="2709720" cy="2157480"/>
          </a:xfrm>
          <a:prstGeom prst="rect">
            <a:avLst/>
          </a:prstGeom>
          <a:ln w="9360">
            <a:solidFill>
              <a:srgbClr val="1d4944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081840" y="2060640"/>
            <a:ext cx="2882880" cy="21603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92088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46680" y="1270080"/>
            <a:ext cx="3828960" cy="2879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39560" y="1268280"/>
            <a:ext cx="3851280" cy="2878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3440" y="4293000"/>
            <a:ext cx="8786880" cy="1629720"/>
          </a:xfrm>
          <a:prstGeom prst="rect">
            <a:avLst/>
          </a:prstGeom>
          <a:gradFill rotWithShape="0">
            <a:gsLst>
              <a:gs pos="0">
                <a:srgbClr val="dfe34f"/>
              </a:gs>
              <a:gs pos="50000">
                <a:srgbClr val="ddffdd"/>
              </a:gs>
              <a:gs pos="100000">
                <a:srgbClr val="dfe3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660066"/>
                </a:solidFill>
                <a:latin typeface="Times New Roman"/>
              </a:rPr>
              <a:t>The forming energy of spirally push method is </a:t>
            </a:r>
            <a:r>
              <a:rPr b="1" i="1" lang="zh-TW" sz="2800" spc="-1" strike="noStrike">
                <a:solidFill>
                  <a:srgbClr val="ff0000"/>
                </a:solidFill>
                <a:latin typeface="Times New Roman"/>
              </a:rPr>
              <a:t>too small to adequately granulate the recycling aggregates</a:t>
            </a:r>
            <a:r>
              <a:rPr b="1" i="1" lang="zh-TW" sz="2800" spc="-1" strike="noStrike">
                <a:solidFill>
                  <a:srgbClr val="660066"/>
                </a:solidFill>
                <a:latin typeface="Times New Roman"/>
              </a:rPr>
              <a:t>, while 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SimSun"/>
              </a:rPr>
              <a:t>the cement-based composite</a:t>
            </a:r>
            <a:r>
              <a:rPr b="1" i="1" lang="zh-TW" sz="2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zh-TW" sz="2800" spc="-1" strike="noStrike">
                <a:solidFill>
                  <a:srgbClr val="ff0000"/>
                </a:solidFill>
                <a:latin typeface="Times New Roman"/>
              </a:rPr>
              <a:t>with lower moisture</a:t>
            </a:r>
            <a:r>
              <a:rPr b="1" i="1" lang="zh-TW" sz="2800" spc="-1" strike="noStrike">
                <a:solidFill>
                  <a:srgbClr val="6600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1084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This way is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</a:rPr>
              <a:t>inappropriate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to granulate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recycling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s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Spirally push method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792640" y="648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92088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3440" y="4222080"/>
            <a:ext cx="8786880" cy="1836360"/>
          </a:xfrm>
          <a:prstGeom prst="rect">
            <a:avLst/>
          </a:prstGeom>
          <a:gradFill rotWithShape="0">
            <a:gsLst>
              <a:gs pos="0">
                <a:srgbClr val="dfe34f"/>
              </a:gs>
              <a:gs pos="50000">
                <a:srgbClr val="ddffdd"/>
              </a:gs>
              <a:gs pos="100000">
                <a:srgbClr val="dfe3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60066"/>
                </a:solidFill>
                <a:latin typeface="Times New Roman"/>
              </a:rPr>
              <a:t>Regardless of the stainless steel reductive slag with moisture, 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the immediately squeeze out method will cause the water of cement-based composite to be drained out </a:t>
            </a:r>
            <a:r>
              <a:rPr b="1" i="1" lang="en-US" sz="2600" spc="-1" strike="noStrike">
                <a:solidFill>
                  <a:srgbClr val="660066"/>
                </a:solidFill>
                <a:latin typeface="Times New Roman"/>
              </a:rPr>
              <a:t>during the process of forming recycling aggregates</a:t>
            </a: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cc"/>
                </a:solidFill>
                <a:latin typeface="Times New Roman"/>
              </a:rPr>
              <a:t>(like consolidation).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3828960" cy="2879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932360" y="1197000"/>
            <a:ext cx="3828960" cy="2879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609264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This way is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</a:rPr>
              <a:t>inappropriate 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to granulate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recycling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s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Immediately squeeze out method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749080" y="648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92376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Press ingot method-1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41320" y="1125360"/>
            <a:ext cx="2889360" cy="2159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499000" y="1125360"/>
            <a:ext cx="2889360" cy="2160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826920" y="4019400"/>
            <a:ext cx="2903760" cy="2160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521320" y="4019400"/>
            <a:ext cx="2889360" cy="2160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55480" y="3214800"/>
            <a:ext cx="352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To fill the mixed cement-based composite into the mold.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9800" y="3232080"/>
            <a:ext cx="352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To set up the pestle into the mold.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4040" y="6111720"/>
            <a:ext cx="352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To press and form the recycling aggregates. 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91200" y="6108840"/>
            <a:ext cx="352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To take off the recycling aggregates from the mold. 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749080" y="648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985000" y="2530440"/>
            <a:ext cx="2619360" cy="1978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260880" y="2492280"/>
            <a:ext cx="2619360" cy="1978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525600" y="2521080"/>
            <a:ext cx="2619360" cy="19778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98100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Press ingot method-2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092600"/>
            <a:ext cx="8626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press ingot method was developed to successfully granulate the cold-pressing recycling coarse aggregates </a:t>
            </a:r>
            <a:r>
              <a:rPr b="1" i="1" lang="en-US" sz="2600" spc="-1" strike="noStrike">
                <a:solidFill>
                  <a:srgbClr val="0000cc"/>
                </a:solidFill>
                <a:latin typeface="Times New Roman"/>
              </a:rPr>
              <a:t>with five various diameter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49280" y="2459160"/>
          <a:ext cx="8224920" cy="2122200"/>
        </p:xfrm>
        <a:graphic>
          <a:graphicData uri="http://schemas.openxmlformats.org/drawingml/2006/table">
            <a:tbl>
              <a:tblPr/>
              <a:tblGrid>
                <a:gridCol w="2744640"/>
                <a:gridCol w="2740320"/>
                <a:gridCol w="2739960"/>
              </a:tblGrid>
              <a:tr h="21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820880" y="4624560"/>
          <a:ext cx="5446800" cy="2117520"/>
        </p:xfrm>
        <a:graphic>
          <a:graphicData uri="http://schemas.openxmlformats.org/drawingml/2006/table">
            <a:tbl>
              <a:tblPr/>
              <a:tblGrid>
                <a:gridCol w="2725560"/>
                <a:gridCol w="2721240"/>
              </a:tblGrid>
              <a:tr h="21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871640" y="4702320"/>
            <a:ext cx="2638440" cy="1979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4592520" y="4700520"/>
            <a:ext cx="2638440" cy="1979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053080" y="25938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=24 mm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89800" y="263700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=18 mm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55320" y="260208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=12 mm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66160" y="472428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=8 mm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00000" y="47480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=5 mm</a:t>
            </a:r>
            <a:endParaRPr b="0" lang="en-US" sz="1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749080" y="648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90792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Optimum Moisture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" y="907920"/>
            <a:ext cx="8369280" cy="1460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e purpose of exploring the optimum moisture of stainless steel reductive slag under granulating aggregate is to avoid two issues: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7280" y="2276640"/>
            <a:ext cx="854712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5000"/>
              </a:lnSpc>
              <a:spcBef>
                <a:spcPts val="300"/>
              </a:spcBef>
              <a:buClr>
                <a:srgbClr val="99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6600"/>
                </a:solidFill>
                <a:latin typeface="Times New Roman"/>
              </a:rPr>
              <a:t>With lower moisture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: the recycling coarse aggregate can not be adequately granulated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300"/>
              </a:spcBef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cc"/>
                </a:solidFill>
                <a:latin typeface="Times New Roman"/>
              </a:rPr>
              <a:t>With higher moisture: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the redundant water may drain out during the process of forming recycling aggregates </a:t>
            </a:r>
            <a:r>
              <a:rPr b="1" i="1" lang="zh-TW" sz="2400" spc="-1" strike="noStrike">
                <a:solidFill>
                  <a:srgbClr val="ff0000"/>
                </a:solidFill>
                <a:latin typeface="Times New Roman"/>
              </a:rPr>
              <a:t>(like consolidation in geotechnical engineering)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and cause </a:t>
            </a:r>
            <a:r>
              <a:rPr b="1" i="1" lang="zh-TW" sz="2400" spc="-1" strike="noStrike">
                <a:solidFill>
                  <a:srgbClr val="ff0000"/>
                </a:solidFill>
                <a:latin typeface="Times New Roman"/>
              </a:rPr>
              <a:t>the excessively high water-to-cement ratio (w/c) or water-to-cementitious materials (w/cm)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around the surface of the recycling aggregate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7840" y="5568840"/>
            <a:ext cx="8786880" cy="1245240"/>
          </a:xfrm>
          <a:prstGeom prst="rect">
            <a:avLst/>
          </a:prstGeom>
          <a:gradFill rotWithShape="0">
            <a:gsLst>
              <a:gs pos="0">
                <a:srgbClr val="dfe34f"/>
              </a:gs>
              <a:gs pos="50000">
                <a:srgbClr val="ddffdd"/>
              </a:gs>
              <a:gs pos="100000">
                <a:srgbClr val="dfe3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he optimum moisture for granulating recycling coarse aggregate of stainless steel reductive slag was </a:t>
            </a:r>
            <a:r>
              <a:rPr b="1" i="1" lang="en-GB" sz="2400" spc="-1" strike="noStrike">
                <a:solidFill>
                  <a:srgbClr val="0000cc"/>
                </a:solidFill>
                <a:latin typeface="Times New Roman"/>
              </a:rPr>
              <a:t>14.0 %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while the stress of granulation by using press ingot method is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35.0 to 42.0 MPa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GB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749080" y="648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83664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428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bservation of Volume Stability-1</a:t>
            </a:r>
            <a:endParaRPr b="0" lang="en-US" sz="4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9440" y="836640"/>
            <a:ext cx="8369280" cy="3662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05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surface of recycling aggregate had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slight splits due t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expansive reaction of f-CaO within stainless steel reductive slag before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the age of 7 day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63600" indent="-363600" algn="just">
              <a:lnSpc>
                <a:spcPct val="105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So far, recycling coarse aggregates with stainless steel reductive slag has not generate further expansion, splits, or even rupture </a:t>
            </a:r>
            <a:r>
              <a:rPr b="1" i="1" lang="zh-TW" sz="2400" spc="-1" strike="noStrike">
                <a:solidFill>
                  <a:srgbClr val="0000cc"/>
                </a:solidFill>
                <a:latin typeface="Times New Roman"/>
              </a:rPr>
              <a:t>for more than four years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marL="363600" indent="-363600" algn="just">
              <a:lnSpc>
                <a:spcPct val="105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re was a significantly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white particl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existing in the expansions, splits, or spalls of recycling coarse aggregate and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the diameter of the </a:t>
            </a:r>
            <a:r>
              <a:rPr b="1" i="1" lang="zh-TW" sz="2400" spc="-1" strike="noStrike">
                <a:solidFill>
                  <a:srgbClr val="0000cc"/>
                </a:solidFill>
                <a:latin typeface="Times New Roman"/>
              </a:rPr>
              <a:t>white particle is more than 1.0 mm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251000" y="4638600"/>
            <a:ext cx="2889360" cy="2158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033880" y="4641840"/>
            <a:ext cx="2865600" cy="2158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H="1">
            <a:off x="1908000" y="5532480"/>
            <a:ext cx="216000" cy="216000"/>
          </a:xfrm>
          <a:prstGeom prst="line">
            <a:avLst/>
          </a:prstGeom>
          <a:ln cap="sq" w="44280">
            <a:solidFill>
              <a:srgbClr val="1d4337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3285720" y="5513400"/>
            <a:ext cx="142920" cy="216000"/>
          </a:xfrm>
          <a:prstGeom prst="line">
            <a:avLst/>
          </a:prstGeom>
          <a:ln cap="sq" w="44280">
            <a:solidFill>
              <a:srgbClr val="1d4337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156120" y="5748480"/>
            <a:ext cx="287280" cy="144360"/>
          </a:xfrm>
          <a:prstGeom prst="line">
            <a:avLst/>
          </a:prstGeom>
          <a:ln cap="sq" w="44280">
            <a:solidFill>
              <a:srgbClr val="1d4337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61000" y="5546880"/>
            <a:ext cx="216000" cy="288720"/>
          </a:xfrm>
          <a:prstGeom prst="line">
            <a:avLst/>
          </a:prstGeom>
          <a:ln cap="sq" w="44280">
            <a:solidFill>
              <a:srgbClr val="1d4337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11760" y="5478480"/>
            <a:ext cx="217800" cy="144360"/>
          </a:xfrm>
          <a:prstGeom prst="line">
            <a:avLst/>
          </a:prstGeom>
          <a:ln cap="sq" w="44280">
            <a:solidFill>
              <a:srgbClr val="1d4337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49080" y="648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90792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428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bservation of Volume Stability-2</a:t>
            </a:r>
            <a:endParaRPr b="0" lang="en-US" sz="44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4652640" cy="3240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281560" y="3429000"/>
            <a:ext cx="3584520" cy="3240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87360" y="1158840"/>
            <a:ext cx="8369280" cy="2055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 the diameter of stainless steel reductive slag was controlled to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ess than 0.297 mm (below No. 50 sieve)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expansions, splits, or spalls of recycling coarse aggregate were completely improved.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49080" y="648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90792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428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ingle particle compressive strength</a:t>
            </a:r>
            <a:endParaRPr b="0" lang="en-US" sz="4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654200" y="1030320"/>
          <a:ext cx="5797440" cy="443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4200" y="1030320"/>
                    <a:ext cx="5797440" cy="44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22200" y="5528880"/>
            <a:ext cx="8497800" cy="1191240"/>
          </a:xfrm>
          <a:prstGeom prst="rect">
            <a:avLst/>
          </a:prstGeom>
          <a:gradFill rotWithShape="0">
            <a:gsLst>
              <a:gs pos="0">
                <a:srgbClr val="dfe34f"/>
              </a:gs>
              <a:gs pos="50000">
                <a:srgbClr val="ddffdd"/>
              </a:gs>
              <a:gs pos="100000">
                <a:srgbClr val="dfe3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660066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he </a:t>
            </a:r>
            <a:r>
              <a:rPr b="1" i="1" lang="zh-TW" sz="2400" spc="-1" strike="noStrike">
                <a:solidFill>
                  <a:srgbClr val="660066"/>
                </a:solidFill>
                <a:latin typeface="Times New Roman"/>
              </a:rPr>
              <a:t>single particle compressive strength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increase</a:t>
            </a:r>
            <a:r>
              <a:rPr b="1" i="1" lang="zh-TW" sz="2400" spc="-1" strike="noStrike">
                <a:solidFill>
                  <a:srgbClr val="660066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 with the increase of </a:t>
            </a:r>
            <a:r>
              <a:rPr b="1" i="1" lang="zh-TW" sz="2400" spc="-1" strike="noStrike">
                <a:solidFill>
                  <a:srgbClr val="660066"/>
                </a:solidFill>
                <a:latin typeface="Times New Roman"/>
              </a:rPr>
              <a:t>curing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age</a:t>
            </a:r>
            <a:r>
              <a:rPr b="1" i="1" lang="zh-TW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due to </a:t>
            </a:r>
            <a:r>
              <a:rPr b="1" i="1" lang="zh-TW" sz="2400" spc="-1" strike="noStrike">
                <a:solidFill>
                  <a:srgbClr val="660066"/>
                </a:solidFill>
                <a:latin typeface="Times New Roman"/>
              </a:rPr>
              <a:t>the fact that the </a:t>
            </a:r>
            <a:r>
              <a:rPr b="1" i="1" lang="zh-TW" sz="2400" spc="-1" strike="noStrike">
                <a:solidFill>
                  <a:srgbClr val="ff0000"/>
                </a:solidFill>
                <a:latin typeface="Times New Roman"/>
              </a:rPr>
              <a:t>contribution of hydration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 of </a:t>
            </a:r>
            <a:r>
              <a:rPr b="1" i="1" lang="zh-TW" sz="2400" spc="-1" strike="noStrike">
                <a:solidFill>
                  <a:srgbClr val="ff0000"/>
                </a:solidFill>
                <a:latin typeface="Times New Roman"/>
              </a:rPr>
              <a:t>cement and pozzlanic reaction.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749080" y="648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76500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28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asic characteristics of recycling coarse aggregate</a:t>
            </a:r>
            <a:endParaRPr b="0" lang="en-US" sz="32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9320" y="892080"/>
          <a:ext cx="9029520" cy="4719600"/>
        </p:xfrm>
        <a:graphic>
          <a:graphicData uri="http://schemas.openxmlformats.org/drawingml/2006/table">
            <a:tbl>
              <a:tblPr/>
              <a:tblGrid>
                <a:gridCol w="1152360"/>
                <a:gridCol w="363600"/>
                <a:gridCol w="1004760"/>
                <a:gridCol w="366840"/>
                <a:gridCol w="1000080"/>
                <a:gridCol w="615960"/>
                <a:gridCol w="808200"/>
                <a:gridCol w="807840"/>
                <a:gridCol w="426960"/>
                <a:gridCol w="898560"/>
                <a:gridCol w="382680"/>
                <a:gridCol w="1201680"/>
              </a:tblGrid>
              <a:tr h="1609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ecific gravity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OD)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ecific gravity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SSD)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Absorption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%)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Unit weight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kg/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Voids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%)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P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rticle cylindrical crushing strength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MPa)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70-1.73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.98-2.02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4.09-14.47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201-1235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2.9-33.3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9.89-41.67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lay lumps and friable particles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%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）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aterial finer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than 75-μm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%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oal and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Lignite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%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Abrasion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%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oundness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%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）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l</a:t>
                      </a:r>
                      <a:r>
                        <a:rPr b="0" lang="zh-TW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-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（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%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）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ND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0.09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ND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9.8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.23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.6×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-4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ASTM C33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2.0-10.0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.0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0.5-1.0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50.0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12.0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0.012</a:t>
                      </a:r>
                      <a:endParaRPr b="0" lang="en-US" sz="20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322200" y="5756040"/>
            <a:ext cx="8497800" cy="947160"/>
          </a:xfrm>
          <a:prstGeom prst="rect">
            <a:avLst/>
          </a:prstGeom>
          <a:gradFill rotWithShape="0">
            <a:gsLst>
              <a:gs pos="0">
                <a:srgbClr val="dfe34f"/>
              </a:gs>
              <a:gs pos="50000">
                <a:srgbClr val="ddffdd"/>
              </a:gs>
              <a:gs pos="100000">
                <a:srgbClr val="dfe3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Basic characteristics of recycling coarse aggregate</a:t>
            </a:r>
            <a:r>
              <a:rPr b="1" i="1" lang="en-GB" sz="2800" spc="-1" strike="noStrike">
                <a:solidFill>
                  <a:srgbClr val="1d4337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conform to ASTM C33</a:t>
            </a:r>
            <a:r>
              <a:rPr b="1" i="1" lang="zh-TW" sz="2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749080" y="648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98100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Conclusion-1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4200" y="1268280"/>
            <a:ext cx="8174160" cy="47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zh-TW" sz="2800" spc="-1" strike="noStrike">
                <a:solidFill>
                  <a:srgbClr val="ff0000"/>
                </a:solidFill>
                <a:latin typeface="Times New Roman"/>
              </a:rPr>
              <a:t>DMDA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is appropriate to design the cement-based composite with stainless steel reductive slag and glass fibers recycled from PCB wastes for producing the </a:t>
            </a:r>
            <a:r>
              <a:rPr b="1" i="1" lang="zh-TW" sz="2800" spc="-1" strike="noStrike">
                <a:solidFill>
                  <a:srgbClr val="0000cc"/>
                </a:solidFill>
                <a:latin typeface="Times New Roman"/>
              </a:rPr>
              <a:t>cold-pressing recycling coarse aggregates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00"/>
                </a:solidFill>
                <a:latin typeface="Times New Roman"/>
              </a:rPr>
              <a:t>The optimum moisture for granulating recycling coarse aggregate of stainless steel reductive slag was </a:t>
            </a:r>
            <a:r>
              <a:rPr b="1" i="1" lang="zh-TW" sz="2800" spc="-1" strike="noStrike">
                <a:solidFill>
                  <a:srgbClr val="0000cc"/>
                </a:solidFill>
                <a:latin typeface="Times New Roman"/>
              </a:rPr>
              <a:t>14.0 %</a:t>
            </a:r>
            <a:r>
              <a:rPr b="1" lang="zh-TW" sz="2800" spc="-1" strike="noStrike">
                <a:solidFill>
                  <a:srgbClr val="003300"/>
                </a:solidFill>
                <a:latin typeface="Times New Roman"/>
              </a:rPr>
              <a:t> while the stress of granulation by using press ingot method is </a:t>
            </a:r>
            <a:r>
              <a:rPr b="1" i="1" lang="zh-TW" sz="2800" spc="-1" strike="noStrike">
                <a:solidFill>
                  <a:srgbClr val="990000"/>
                </a:solidFill>
                <a:latin typeface="Times New Roman"/>
              </a:rPr>
              <a:t>35.0 to 42.0 MPa</a:t>
            </a:r>
            <a:r>
              <a:rPr b="1" lang="zh-TW" sz="28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749080" y="648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98100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Introduction-1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標楷體"/>
              </a:rPr>
              <a:t> 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8000" y="1044720"/>
            <a:ext cx="8369280" cy="5705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 algn="just"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ry year there was approximately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160,000 to 200,000 ton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of stainless steel reductive slag generated in Taiwa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3000" spc="-1" strike="noStrike">
                <a:solidFill>
                  <a:srgbClr val="1d4337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  <a:p>
            <a:pPr marL="449280" indent="-449280" algn="just"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ue to the fact that stainless steel reductive slag has the characteristic of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poor volume stability (i.e. stainless steel reductive slag is liable to react with H</a:t>
            </a:r>
            <a:r>
              <a:rPr b="1" i="1" lang="en-US" sz="3000" spc="-1" strike="noStrike" baseline="-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O and CO</a:t>
            </a:r>
            <a:r>
              <a:rPr b="1" i="1" lang="en-US" sz="3000" spc="-1" strike="noStrike" baseline="-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 to result in expansion),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he Industrial Development Bureau, Ministry of Economic Affairs announced that stainless steel reductive slag is only recycled or reused in </a:t>
            </a:r>
            <a:r>
              <a:rPr b="1" i="1" lang="en-US" sz="3000" spc="-1" strike="noStrike">
                <a:solidFill>
                  <a:srgbClr val="0000cc"/>
                </a:solidFill>
                <a:latin typeface="Times New Roman"/>
              </a:rPr>
              <a:t>raw cement materials and concrete product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in Taiwan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792640" y="648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90792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-2700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Conclusion-2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4200" y="907920"/>
            <a:ext cx="817416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ecycling coarse aggregates produced by using the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cold-pressing techniqu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an reduce abou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65 % CO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otprint when compared to using the sintering technique. And the prime cost of cold-pressing recycling aggregate is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5 to 6 times lower th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intering recycling aggregate.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Therefore the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cold-pressing technique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 is a new and practicable approach to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ecycling stainless steel reductive slag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 in future.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749080" y="648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4869000"/>
            <a:ext cx="9144000" cy="13618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826920" y="2925720"/>
            <a:ext cx="748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93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lin ang="5400000"/>
                </a:gradFill>
                <a:latin typeface="Times New Roman"/>
              </a:rPr>
              <a:t>Thank For Your Atten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f66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78000" y="1125360"/>
            <a:ext cx="8369280" cy="530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 algn="just">
              <a:lnSpc>
                <a:spcPct val="110000"/>
              </a:lnSpc>
              <a:spcBef>
                <a:spcPts val="7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I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n Taiwan 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he natural resource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a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 rather lack, 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bu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recycling resource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ar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Sun"/>
              </a:rPr>
              <a:t> quite plentiful</a:t>
            </a:r>
            <a:r>
              <a:rPr b="1" lang="zh-TW" sz="3000" spc="-1" strike="noStrike">
                <a:solidFill>
                  <a:srgbClr val="1d4337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  <a:p>
            <a:pPr marL="449280" indent="-449280" algn="just">
              <a:lnSpc>
                <a:spcPct val="110000"/>
              </a:lnSpc>
              <a:spcBef>
                <a:spcPts val="7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</a:rPr>
              <a:t>A new approach, the </a:t>
            </a:r>
            <a:r>
              <a:rPr b="1" i="1" lang="zh-TW" sz="3000" spc="-1" strike="noStrike">
                <a:solidFill>
                  <a:srgbClr val="ff0000"/>
                </a:solidFill>
                <a:latin typeface="Times New Roman"/>
              </a:rPr>
              <a:t>cold-pressing technique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</a:rPr>
              <a:t> which incorporates the principles of the cement chemistry and composite material was developed to </a:t>
            </a:r>
            <a:r>
              <a:rPr b="1" i="1" lang="zh-TW" sz="3000" spc="-1" strike="noStrike">
                <a:solidFill>
                  <a:srgbClr val="0000cc"/>
                </a:solidFill>
                <a:latin typeface="Times New Roman"/>
              </a:rPr>
              <a:t>recycle these resources as coarse aggregates</a:t>
            </a:r>
            <a:r>
              <a:rPr b="1" lang="zh-TW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  <a:p>
            <a:pPr marL="449280" indent="-449280" algn="just">
              <a:lnSpc>
                <a:spcPct val="110000"/>
              </a:lnSpc>
              <a:spcBef>
                <a:spcPts val="7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</a:rPr>
              <a:t>This paper aims to show that using cold-pressing technique to recycle stainless steel reductive slag as coarse aggregate. 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8100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Introduction-2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標楷體"/>
              </a:rPr>
              <a:t> 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92640" y="648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98100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Experimental Materials-1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標楷體"/>
              </a:rPr>
              <a:t> 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52640"/>
            <a:ext cx="813600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5000"/>
              </a:lnSpc>
              <a:spcBef>
                <a:spcPts val="326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Cement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Type I Portland Cement produced by Taiwan Cement Company.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  <a:p>
            <a:pPr marL="339480" indent="-339480" algn="just">
              <a:lnSpc>
                <a:spcPct val="105000"/>
              </a:lnSpc>
              <a:spcBef>
                <a:spcPts val="326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Blast-furnace slag (BF slag) provided by CHC Resources Corporation.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  <a:p>
            <a:pPr marL="339480" indent="-339480" algn="just">
              <a:lnSpc>
                <a:spcPct val="105000"/>
              </a:lnSpc>
              <a:spcBef>
                <a:spcPts val="326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Class F fly ash supplied by Taiwan Power Station.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  <a:p>
            <a:pPr marL="339480" indent="-339480" algn="just">
              <a:lnSpc>
                <a:spcPct val="105000"/>
              </a:lnSpc>
              <a:spcBef>
                <a:spcPts val="326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A carboxylate-based type G superplasticizer was purchased from a local factory.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  <a:p>
            <a:pPr marL="339480" indent="-339480" algn="just">
              <a:lnSpc>
                <a:spcPct val="105000"/>
              </a:lnSpc>
              <a:spcBef>
                <a:spcPts val="326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Stainless steel reductive slag was provided from Ming Hsiang Hsin Co., Ltd.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  <a:p>
            <a:pPr marL="339480" indent="-339480" algn="just">
              <a:lnSpc>
                <a:spcPct val="105000"/>
              </a:lnSpc>
              <a:spcBef>
                <a:spcPts val="326"/>
              </a:spcBef>
              <a:buClr>
                <a:srgbClr val="00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Times New Roman"/>
                <a:ea typeface="標楷體"/>
              </a:rPr>
              <a:t>Glass fibers were recycled from printed circuit board (PCB) wastes.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3440" y="5927760"/>
            <a:ext cx="8785440" cy="885960"/>
          </a:xfrm>
          <a:prstGeom prst="rect">
            <a:avLst/>
          </a:prstGeom>
          <a:gradFill rotWithShape="0">
            <a:gsLst>
              <a:gs pos="0">
                <a:srgbClr val="dfe34f"/>
              </a:gs>
              <a:gs pos="50000">
                <a:srgbClr val="ddffdd"/>
              </a:gs>
              <a:gs pos="100000">
                <a:srgbClr val="dfe3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600" spc="-1" strike="noStrike">
                <a:solidFill>
                  <a:srgbClr val="660066"/>
                </a:solidFill>
                <a:latin typeface="Times New Roman"/>
              </a:rPr>
              <a:t>The cementitious materials and superplasticizer conform to the related ASTM standards.</a:t>
            </a:r>
            <a:endParaRPr b="0" lang="en-US" sz="26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821080" y="648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05264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960" y="1510560"/>
            <a:ext cx="861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TCLP results of stainless steel reductive slag (mg/L)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520" y="5445000"/>
            <a:ext cx="8640720" cy="1191240"/>
          </a:xfrm>
          <a:prstGeom prst="rect">
            <a:avLst/>
          </a:prstGeom>
          <a:gradFill rotWithShape="0">
            <a:gsLst>
              <a:gs pos="0">
                <a:srgbClr val="dfe34f"/>
              </a:gs>
              <a:gs pos="50000">
                <a:srgbClr val="ddffdd"/>
              </a:gs>
              <a:gs pos="100000">
                <a:srgbClr val="dfe3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</a:rPr>
              <a:t>TCLP results of stainless steel reductive slag were below the criteria of general enterprise wastes and green building materials in Taiwan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592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Experimental Materials-2</a:t>
            </a: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標楷體"/>
              </a:rPr>
              <a:t> 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2276640"/>
          <a:ext cx="8785440" cy="2923920"/>
        </p:xfrm>
        <a:graphic>
          <a:graphicData uri="http://schemas.openxmlformats.org/drawingml/2006/table">
            <a:tbl>
              <a:tblPr/>
              <a:tblGrid>
                <a:gridCol w="1957320"/>
                <a:gridCol w="712800"/>
                <a:gridCol w="849600"/>
                <a:gridCol w="568080"/>
                <a:gridCol w="568440"/>
                <a:gridCol w="569880"/>
                <a:gridCol w="711360"/>
                <a:gridCol w="534960"/>
                <a:gridCol w="890640"/>
                <a:gridCol w="711000"/>
                <a:gridCol w="71136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Cr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Ba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Se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Cd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Pb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Cu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As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Hg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Ag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Cr</a:t>
                      </a:r>
                      <a:r>
                        <a:rPr b="1" lang="en-US" sz="1800" spc="-1" strike="noStrike" baseline="30000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+6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新細明體"/>
                        </a:rPr>
                        <a:t>Stainless steel reductive slag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0.07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0.54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ND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ND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ND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ND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ND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ND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ND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ND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新細明體"/>
                        </a:rPr>
                        <a:t>Criteria of general enterprise wastes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5.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1.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1.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5.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15.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5.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0.2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5.0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2.5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Criteria of green building material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SimSun"/>
                        </a:rPr>
                        <a:t>-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SimSun"/>
                        </a:rPr>
                        <a:t>-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SimSun"/>
                        </a:rPr>
                        <a:t>-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SimSun"/>
                        </a:rPr>
                        <a:t>0.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SimSun"/>
                        </a:rPr>
                        <a:t>0.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SimSun"/>
                        </a:rPr>
                        <a:t>0.15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SimSun"/>
                        </a:rPr>
                        <a:t>0.3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SimSun"/>
                        </a:rPr>
                        <a:t>0.005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SimSu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SimSun"/>
                        </a:rPr>
                        <a:t>1.5</a:t>
                      </a:r>
                      <a:endParaRPr b="0" lang="en-US" sz="1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8821080" y="648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8100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81400" y="4681440"/>
            <a:ext cx="2139840" cy="79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lass fiber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680" y="4681440"/>
            <a:ext cx="2139840" cy="792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Cement, Slag,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Fly ash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3320" y="2449440"/>
            <a:ext cx="1789200" cy="2448000"/>
          </a:xfrm>
          <a:prstGeom prst="rightArrow">
            <a:avLst>
              <a:gd name="adj1" fmla="val 84324"/>
              <a:gd name="adj2" fmla="val 21829"/>
            </a:avLst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ld-pressing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echnique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6320" y="2305080"/>
            <a:ext cx="3165480" cy="17287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Stainless steel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ductive slag 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706400">
            <a:off x="1320840" y="3962520"/>
            <a:ext cx="247680" cy="647640"/>
          </a:xfrm>
          <a:prstGeom prst="upArrow">
            <a:avLst>
              <a:gd name="adj1" fmla="val 50000"/>
              <a:gd name="adj2" fmla="val 65371"/>
            </a:avLst>
          </a:prstGeom>
          <a:solidFill>
            <a:srgbClr val="ff0000"/>
          </a:solidFill>
          <a:ln w="936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9893600">
            <a:off x="3152520" y="3960720"/>
            <a:ext cx="247680" cy="647640"/>
          </a:xfrm>
          <a:prstGeom prst="upArrow">
            <a:avLst>
              <a:gd name="adj1" fmla="val 50000"/>
              <a:gd name="adj2" fmla="val 65371"/>
            </a:avLst>
          </a:prstGeom>
          <a:solidFill>
            <a:srgbClr val="ff0000"/>
          </a:solidFill>
          <a:ln w="9360">
            <a:solidFill>
              <a:srgbClr val="1d43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8000" y="981000"/>
            <a:ext cx="8369280" cy="1327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 algn="just">
              <a:lnSpc>
                <a:spcPct val="9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The cement-based composites for making the recycling coarse aggregat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SimHe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Hei"/>
              </a:rPr>
              <a:t>is regarded as 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SimHei"/>
              </a:rPr>
              <a:t>concret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SimHei"/>
              </a:rPr>
              <a:t>. 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840" y="5603760"/>
            <a:ext cx="8172360" cy="1191240"/>
          </a:xfrm>
          <a:prstGeom prst="rect">
            <a:avLst/>
          </a:prstGeom>
          <a:gradFill rotWithShape="0">
            <a:gsLst>
              <a:gs pos="0">
                <a:srgbClr val="dfe34f"/>
              </a:gs>
              <a:gs pos="50000">
                <a:srgbClr val="ddffdd"/>
              </a:gs>
              <a:gs pos="100000">
                <a:srgbClr val="dfe3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660066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ement, blast-furnace slag, and fly ash are regarded as binders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Stainless steel reductive slag 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is as a filler (i.e. aggregate)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G</a:t>
            </a:r>
            <a:r>
              <a:rPr b="1" i="1" lang="en-US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lass fiber is as a reinforcement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Mixture Proportion-1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153120" y="2592360"/>
            <a:ext cx="288288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9" name=""/>
          <p:cNvSpPr/>
          <p:nvPr/>
        </p:nvSpPr>
        <p:spPr>
          <a:xfrm>
            <a:off x="8821080" y="648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2088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Mixture Proportion-2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9440" y="981000"/>
            <a:ext cx="8369280" cy="5431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local mixture proportion method in Taiwan,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densified mixture design algorithm (DMDA),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is adopted to design and prepare the cement-based composites for making the recycling coarse aggregate.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SimHei"/>
              </a:rPr>
              <a:t>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d4337"/>
                </a:solidFill>
                <a:latin typeface="Times New Roman"/>
              </a:rPr>
              <a:t>The water-to-cementitious ratio</a:t>
            </a:r>
            <a:r>
              <a:rPr b="1" lang="en-GB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cc"/>
                </a:solidFill>
                <a:latin typeface="Times New Roman"/>
              </a:rPr>
              <a:t>(w/cm) of mixture proportion is 0.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nd a total of 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39.4 kg glass fibers (the volume=0.02 m</a:t>
            </a:r>
            <a:r>
              <a:rPr b="1" i="1" lang="en-GB" sz="2800" spc="-1" strike="noStrike" baseline="30000">
                <a:solidFill>
                  <a:srgbClr val="ff9933"/>
                </a:solidFill>
                <a:latin typeface="Times New Roman"/>
              </a:rPr>
              <a:t>3</a:t>
            </a:r>
            <a:r>
              <a:rPr b="1" i="1" lang="en-GB" sz="2800" spc="-1" strike="noStrike">
                <a:solidFill>
                  <a:srgbClr val="ff9933"/>
                </a:solidFill>
                <a:latin typeface="Times New Roman"/>
              </a:rPr>
              <a:t>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as added to the cement-based composites.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pecifically, the mixture proportions with </a:t>
            </a:r>
            <a:r>
              <a:rPr b="1" i="1" lang="en-GB" sz="2800" spc="-1" strike="noStrike">
                <a:solidFill>
                  <a:srgbClr val="15692b"/>
                </a:solidFill>
                <a:latin typeface="Times New Roman"/>
              </a:rPr>
              <a:t>a low cement amount of 100 kg/m</a:t>
            </a:r>
            <a:r>
              <a:rPr b="1" i="1" lang="en-GB" sz="2800" spc="-1" strike="noStrike" baseline="30000">
                <a:solidFill>
                  <a:srgbClr val="15692b"/>
                </a:solidFill>
                <a:latin typeface="Times New Roman"/>
              </a:rPr>
              <a:t>3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as designed </a:t>
            </a:r>
            <a:r>
              <a:rPr b="1" i="1" lang="zh-TW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821080" y="648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92088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Mixture Proportion-3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79360" y="2492280"/>
          <a:ext cx="8569440" cy="2157480"/>
        </p:xfrm>
        <a:graphic>
          <a:graphicData uri="http://schemas.openxmlformats.org/drawingml/2006/table">
            <a:tbl>
              <a:tblPr/>
              <a:tblGrid>
                <a:gridCol w="1338480"/>
                <a:gridCol w="1584000"/>
                <a:gridCol w="2216160"/>
                <a:gridCol w="1716120"/>
                <a:gridCol w="17146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ment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zzolanic materials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tainless steel reductive slag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Glass fiber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P+Water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新細明體"/>
                        </a:rPr>
                        <a:t>(5.00)*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新細明體"/>
                        </a:rPr>
                        <a:t>365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新細明體"/>
                        </a:rPr>
                        <a:t>(18.22)*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1499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標楷體"/>
                        </a:rPr>
                        <a:t>(74.81)</a:t>
                      </a:r>
                      <a:r>
                        <a:rPr b="1" lang="en-GB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新細明體"/>
                        </a:rPr>
                        <a:t>*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9.4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SimSun"/>
                        </a:rPr>
                        <a:t>(1.97)</a:t>
                      </a:r>
                      <a:r>
                        <a:rPr b="1" lang="en-GB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新細明體"/>
                        </a:rPr>
                        <a:t>*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1d4337"/>
                          </a:solidFill>
                          <a:latin typeface="Times New Roman"/>
                          <a:ea typeface="標楷體"/>
                        </a:rPr>
                        <a:t>93</a:t>
                      </a: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711000" y="1726560"/>
            <a:ext cx="764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00"/>
                </a:solidFill>
                <a:latin typeface="Times New Roman"/>
              </a:rPr>
              <a:t>Mixtures of cement-based composites (kg/m</a:t>
            </a:r>
            <a:r>
              <a:rPr b="1" lang="en-GB" sz="3000" spc="-1" strike="noStrike" baseline="30000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en-GB" sz="3000" spc="-1" strike="noStrike">
                <a:solidFill>
                  <a:srgbClr val="003300"/>
                </a:solidFill>
                <a:latin typeface="Times New Roman"/>
              </a:rPr>
              <a:t>) 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5800" y="4594680"/>
            <a:ext cx="66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ozzolanic materials: BF slag + Fly ash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Times New Roman"/>
              </a:rPr>
              <a:t>*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 The percentage by weight of solid composition materials. </a:t>
            </a:r>
            <a:endParaRPr b="0" lang="en-US" sz="20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6440" y="5589720"/>
            <a:ext cx="8850240" cy="825480"/>
          </a:xfrm>
          <a:prstGeom prst="rect">
            <a:avLst/>
          </a:prstGeom>
          <a:gradFill rotWithShape="0">
            <a:gsLst>
              <a:gs pos="0">
                <a:srgbClr val="dfe34f"/>
              </a:gs>
              <a:gs pos="50000">
                <a:srgbClr val="ddffdd"/>
              </a:gs>
              <a:gs pos="100000">
                <a:srgbClr val="dfe34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imes New Roman"/>
                <a:ea typeface="SimSun"/>
              </a:rPr>
              <a:t>The cement-based composite contains approximate 75 % (by weight) of stainless steel reductive slag</a:t>
            </a:r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821080" y="648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920880"/>
            <a:ext cx="9193320" cy="0"/>
          </a:xfrm>
          <a:prstGeom prst="line">
            <a:avLst/>
          </a:prstGeom>
          <a:ln w="69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428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Method of Granulation</a:t>
            </a:r>
            <a:endParaRPr b="0" lang="en-US" sz="4800" spc="-1" strike="noStrike">
              <a:solidFill>
                <a:srgbClr val="1d4337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7360" y="907920"/>
            <a:ext cx="8369280" cy="1144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ff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ree various methods were adopted to granulate the cold-pressing recycling coarse aggregate:</a:t>
            </a:r>
            <a:endParaRPr b="0" lang="en-US" sz="3000" spc="-1" strike="noStrike">
              <a:solidFill>
                <a:srgbClr val="1d4337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357200" y="2147760"/>
          <a:ext cx="6383520" cy="4537080"/>
        </p:xfrm>
        <a:graphic>
          <a:graphicData uri="http://schemas.openxmlformats.org/drawingml/2006/table">
            <a:tbl>
              <a:tblPr/>
              <a:tblGrid>
                <a:gridCol w="438120"/>
                <a:gridCol w="3554640"/>
                <a:gridCol w="2390760"/>
              </a:tblGrid>
              <a:tr h="15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新細明體"/>
                        </a:rPr>
                        <a:t>1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Times New Roman"/>
                          <a:ea typeface="新細明體"/>
                        </a:rPr>
                        <a:t>Spirally push method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新細明體"/>
                        </a:rPr>
                        <a:t>2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新細明體"/>
                        </a:rPr>
                        <a:t>Immediately squeeze out method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3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新細明體"/>
                        </a:rPr>
                        <a:t>Press ingot method</a:t>
                      </a:r>
                      <a:endParaRPr b="0" lang="en-US" sz="28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d4337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443560" y="2197080"/>
            <a:ext cx="1925640" cy="1440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435640" y="3716280"/>
            <a:ext cx="1914480" cy="1440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427720" y="5213520"/>
            <a:ext cx="1925640" cy="1439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792640" y="648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0011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1d4337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3:27:47Z</dcterms:created>
  <dc:creator>ada</dc:creator>
  <dc:description/>
  <dc:language>en-US</dc:language>
  <cp:lastModifiedBy>ada</cp:lastModifiedBy>
  <dcterms:modified xsi:type="dcterms:W3CDTF">2015-04-10T11:17:48Z</dcterms:modified>
  <cp:revision>184</cp:revision>
  <dc:subject/>
  <dc:title>PowerPoint 簡報</dc:title>
</cp:coreProperties>
</file>