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7.png" ContentType="image/pn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BA4E-4B4A-4C80-AFAA-9F2EBF8AB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6F03-B75E-4269-81A1-3FB49E3F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415F-9512-431E-91A3-4D3F1368D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1168-383D-4E36-AEA3-2E9E60776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BC98A-2758-4B89-820B-19D62A37E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C4258-17A5-48F1-A760-D64302B5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A6A37-63FE-46E7-81F2-8AE3BB5D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C7E0-808A-497E-8C08-3C559688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ADFC-6BE7-47A3-8CD0-948C0079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F7DF-B52D-4226-A594-22907FD4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EE37E-5E53-49B7-B0EF-B1347C2F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1881-BFBF-43A1-AF76-E9ECE432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1FFE-2A4D-47C6-AA34-40E3785D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FC77-DE46-40D5-8E08-39A5D19A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2F85-9E3F-47B6-980F-18B9065B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7DCC-D531-40C2-99B0-C97B57DB2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105C-074A-44D0-A024-43A35ECF3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9DCF-7788-4B5A-8DAB-E10D6CA5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B765-1F9F-470A-A6AE-6FA37398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6E7D-DEEA-45AC-9390-A17B8E1B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5218-30EB-4D1A-9F1B-3489785F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5611-A045-4B9B-882B-3110A374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6AB8-EFC8-4AE8-B49C-301DE1F2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C47A-6B89-4840-B956-B25EE641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d433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d433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D271-A645-485A-97C8-3CC36A30C8DA}" type="slidenum">
              <a:rPr b="0" lang="zh-TW" sz="14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d433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d433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0159-1FA5-46BC-95DD-104245AD7AB1}" type="slidenum">
              <a:rPr b="0" lang="zh-TW" sz="14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400" y="146160"/>
            <a:ext cx="89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標楷體"/>
              </a:rPr>
              <a:t>Cold-Pressing Technique - A New Approach to Recycle Stainless Steel Reductive Slag as Coarse Aggregate</a:t>
            </a:r>
            <a:endParaRPr b="0" lang="en-US" sz="36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5600" y="4437000"/>
            <a:ext cx="8064360" cy="25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C. T. Tsai, Wei-Sheng Chen*, J. E. Chang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3300"/>
                </a:solidFill>
                <a:latin typeface="Times New Roman"/>
                <a:ea typeface="SimSun"/>
              </a:rPr>
              <a:t>Sustainable Environment Research Laboratories &amp;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3300"/>
                </a:solidFill>
                <a:latin typeface="Times New Roman"/>
              </a:rPr>
              <a:t>Department of Resources Engineering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Times New Roman"/>
                <a:ea typeface="SimSun"/>
              </a:rPr>
              <a:t>National Cheng Kung University</a:t>
            </a:r>
            <a:r>
              <a:rPr b="0" lang="zh-TW" sz="2400" spc="-1" strike="noStrike">
                <a:solidFill>
                  <a:srgbClr val="1d433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220011"/>
                </a:solidFill>
                <a:latin typeface="Times New Roman"/>
                <a:ea typeface="標楷體"/>
              </a:rPr>
              <a:t>17 April, 2015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413160" y="2060640"/>
            <a:ext cx="2274840" cy="2158920"/>
          </a:xfrm>
          <a:prstGeom prst="rect">
            <a:avLst/>
          </a:prstGeom>
          <a:ln w="9360">
            <a:solidFill>
              <a:srgbClr val="1d4337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85" name=""/>
          <p:cNvSpPr/>
          <p:nvPr/>
        </p:nvSpPr>
        <p:spPr>
          <a:xfrm>
            <a:off x="5918760" y="6203880"/>
            <a:ext cx="318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0000cc"/>
                </a:solidFill>
                <a:latin typeface="Times New Roman"/>
              </a:rPr>
              <a:t>SERL website: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http://</a:t>
            </a:r>
            <a:r>
              <a:rPr b="1" lang="zh-TW" sz="2400" spc="-1" strike="noStrike" u="sng">
                <a:solidFill>
                  <a:srgbClr val="ff0000"/>
                </a:solidFill>
                <a:uFillTx/>
                <a:latin typeface="Times New Roman"/>
              </a:rPr>
              <a:t>serc.ncku.edu.tw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4920" y="5430960"/>
            <a:ext cx="1441440" cy="1427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rcRect l="39798" t="31239" r="10318" b="9108"/>
          <a:stretch/>
        </p:blipFill>
        <p:spPr>
          <a:xfrm>
            <a:off x="250920" y="1989000"/>
            <a:ext cx="2709720" cy="2157480"/>
          </a:xfrm>
          <a:prstGeom prst="rect">
            <a:avLst/>
          </a:prstGeom>
          <a:ln w="9360">
            <a:solidFill>
              <a:srgbClr val="1d4944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6081840" y="2060640"/>
            <a:ext cx="2882880" cy="216036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920880"/>
            <a:ext cx="9193320" cy="0"/>
          </a:xfrm>
          <a:prstGeom prst="line">
            <a:avLst/>
          </a:prstGeom>
          <a:ln w="698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846680" y="1270080"/>
            <a:ext cx="3828960" cy="28796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39560" y="1268280"/>
            <a:ext cx="3851280" cy="28782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63440" y="4293000"/>
            <a:ext cx="8786880" cy="1629720"/>
          </a:xfrm>
          <a:prstGeom prst="rect">
            <a:avLst/>
          </a:prstGeom>
          <a:gradFill rotWithShape="0">
            <a:gsLst>
              <a:gs pos="0">
                <a:srgbClr val="dfe34f"/>
              </a:gs>
              <a:gs pos="50000">
                <a:srgbClr val="ddffdd"/>
              </a:gs>
              <a:gs pos="100000">
                <a:srgbClr val="dfe34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800" spc="-1" strike="noStrike">
                <a:solidFill>
                  <a:srgbClr val="660066"/>
                </a:solidFill>
                <a:latin typeface="Times New Roman"/>
              </a:rPr>
              <a:t>The forming energy of spirally push method is </a:t>
            </a:r>
            <a:r>
              <a:rPr b="1" i="1" lang="zh-TW" sz="2800" spc="-1" strike="noStrike">
                <a:solidFill>
                  <a:srgbClr val="ff0000"/>
                </a:solidFill>
                <a:latin typeface="Times New Roman"/>
              </a:rPr>
              <a:t>too small to adequately granulate the recycling aggregates</a:t>
            </a:r>
            <a:r>
              <a:rPr b="1" i="1" lang="zh-TW" sz="2800" spc="-1" strike="noStrike">
                <a:solidFill>
                  <a:srgbClr val="660066"/>
                </a:solidFill>
                <a:latin typeface="Times New Roman"/>
              </a:rPr>
              <a:t>, while </a:t>
            </a:r>
            <a:r>
              <a:rPr b="1" i="1" lang="en-US" sz="2800" spc="-1" strike="noStrike">
                <a:solidFill>
                  <a:srgbClr val="660066"/>
                </a:solidFill>
                <a:latin typeface="Times New Roman"/>
                <a:ea typeface="SimSun"/>
              </a:rPr>
              <a:t>the cement-based composite</a:t>
            </a:r>
            <a:r>
              <a:rPr b="1" i="1" lang="zh-TW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i="1" lang="zh-TW" sz="2800" spc="-1" strike="noStrike">
                <a:solidFill>
                  <a:srgbClr val="ff0000"/>
                </a:solidFill>
                <a:latin typeface="Times New Roman"/>
              </a:rPr>
              <a:t>with lower moisture</a:t>
            </a:r>
            <a:r>
              <a:rPr b="1" i="1" lang="zh-TW" sz="2800" spc="-1" strike="noStrike">
                <a:solidFill>
                  <a:srgbClr val="660066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610848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This way is 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</a:rPr>
              <a:t>inappropriate 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to granulate th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recycling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s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4280"/>
            <a:ext cx="9144000" cy="82512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Spirally push method</a:t>
            </a:r>
            <a:endParaRPr b="0" lang="en-US" sz="4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792640" y="6489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0011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920880"/>
            <a:ext cx="9193320" cy="0"/>
          </a:xfrm>
          <a:prstGeom prst="line">
            <a:avLst/>
          </a:prstGeom>
          <a:ln w="698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3440" y="4222080"/>
            <a:ext cx="8786880" cy="1836360"/>
          </a:xfrm>
          <a:prstGeom prst="rect">
            <a:avLst/>
          </a:prstGeom>
          <a:gradFill rotWithShape="0">
            <a:gsLst>
              <a:gs pos="0">
                <a:srgbClr val="dfe34f"/>
              </a:gs>
              <a:gs pos="50000">
                <a:srgbClr val="ddffdd"/>
              </a:gs>
              <a:gs pos="100000">
                <a:srgbClr val="dfe34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660066"/>
                </a:solidFill>
                <a:latin typeface="Times New Roman"/>
              </a:rPr>
              <a:t>Regardless of the stainless steel reductive slag with moisture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he immediately squeeze out method will cause the water of cement-based composite to be drained out </a:t>
            </a:r>
            <a:r>
              <a:rPr b="1" i="1" lang="en-US" sz="2600" spc="-1" strike="noStrike">
                <a:solidFill>
                  <a:srgbClr val="660066"/>
                </a:solidFill>
                <a:latin typeface="Times New Roman"/>
              </a:rPr>
              <a:t>during the process of forming recycling aggregates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cc"/>
                </a:solidFill>
                <a:latin typeface="Times New Roman"/>
              </a:rPr>
              <a:t>(like consolidation).</a:t>
            </a:r>
            <a:endParaRPr b="0" lang="en-US" sz="26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3828960" cy="2879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932360" y="1197000"/>
            <a:ext cx="3828960" cy="28796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0" y="609264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This way is 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</a:rPr>
              <a:t>inappropriate 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to granulate th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recycling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s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4280"/>
            <a:ext cx="9144000" cy="82512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Immediately squeeze out method</a:t>
            </a:r>
            <a:endParaRPr b="0" lang="en-US" sz="4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749080" y="64897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0011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923760"/>
            <a:ext cx="9193320" cy="0"/>
          </a:xfrm>
          <a:prstGeom prst="line">
            <a:avLst/>
          </a:prstGeom>
          <a:ln w="698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44280"/>
            <a:ext cx="9144000" cy="82512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Press ingot method-1</a:t>
            </a:r>
            <a:endParaRPr b="0" lang="en-US" sz="48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841320" y="1125360"/>
            <a:ext cx="2889360" cy="2159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5499000" y="1125360"/>
            <a:ext cx="2889360" cy="2160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826920" y="4019400"/>
            <a:ext cx="2903760" cy="21607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5521320" y="4019400"/>
            <a:ext cx="2889360" cy="21607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55480" y="3214800"/>
            <a:ext cx="352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To fill the mixed cement-based composite into the mold.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49800" y="3232080"/>
            <a:ext cx="352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To set up the pestle into the mold.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4040" y="6111720"/>
            <a:ext cx="352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To press and form the recycling aggregates. 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91200" y="6108840"/>
            <a:ext cx="352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To take off the recycling aggregates from the mold. 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749080" y="64897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0011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985000" y="2530440"/>
            <a:ext cx="2619360" cy="1978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3260880" y="2492280"/>
            <a:ext cx="2619360" cy="19782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525600" y="2521080"/>
            <a:ext cx="2619360" cy="19778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0" y="981000"/>
            <a:ext cx="9193320" cy="0"/>
          </a:xfrm>
          <a:prstGeom prst="line">
            <a:avLst/>
          </a:prstGeom>
          <a:ln w="698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44280"/>
            <a:ext cx="9144000" cy="82512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Press ingot method-2</a:t>
            </a:r>
            <a:endParaRPr b="0" lang="en-US" sz="4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1092600"/>
            <a:ext cx="8626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press ingot method was developed to successfully granulate the cold-pressing recycling coarse aggregates </a:t>
            </a:r>
            <a:r>
              <a:rPr b="1" i="1" lang="en-US" sz="2600" spc="-1" strike="noStrike">
                <a:solidFill>
                  <a:srgbClr val="0000cc"/>
                </a:solidFill>
                <a:latin typeface="Times New Roman"/>
              </a:rPr>
              <a:t>with five various diameter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1d4337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49280" y="2459160"/>
          <a:ext cx="8224920" cy="2122200"/>
        </p:xfrm>
        <a:graphic>
          <a:graphicData uri="http://schemas.openxmlformats.org/drawingml/2006/table">
            <a:tbl>
              <a:tblPr/>
              <a:tblGrid>
                <a:gridCol w="2744640"/>
                <a:gridCol w="2740320"/>
                <a:gridCol w="2739960"/>
              </a:tblGrid>
              <a:tr h="21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1820880" y="4624560"/>
          <a:ext cx="5446800" cy="2117520"/>
        </p:xfrm>
        <a:graphic>
          <a:graphicData uri="http://schemas.openxmlformats.org/drawingml/2006/table">
            <a:tbl>
              <a:tblPr/>
              <a:tblGrid>
                <a:gridCol w="2725560"/>
                <a:gridCol w="2721240"/>
              </a:tblGrid>
              <a:tr h="21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1871640" y="4702320"/>
            <a:ext cx="2638440" cy="1979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4592520" y="4700520"/>
            <a:ext cx="2638440" cy="1979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053080" y="2593800"/>
            <a:ext cx="10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=24 mm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89800" y="2637000"/>
            <a:ext cx="10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=18 mm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555320" y="2602080"/>
            <a:ext cx="10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=12 mm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66160" y="472428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=8 mm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00000" y="474804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=5 mm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749080" y="64897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0011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907920"/>
            <a:ext cx="9193320" cy="0"/>
          </a:xfrm>
          <a:prstGeom prst="line">
            <a:avLst/>
          </a:prstGeom>
          <a:ln w="698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44280"/>
            <a:ext cx="9144000" cy="82512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Optimum Moisture</a:t>
            </a:r>
            <a:endParaRPr b="0" lang="en-US" sz="4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8000" y="907920"/>
            <a:ext cx="8369280" cy="1460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ddff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purpose of exploring the optimum moisture of stainless steel reductive slag under granulating aggregate is to avoid two issues:</a:t>
            </a:r>
            <a:endParaRPr b="0" lang="en-US" sz="26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7280" y="2276640"/>
            <a:ext cx="854712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5000"/>
              </a:lnSpc>
              <a:spcBef>
                <a:spcPts val="300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6600"/>
                </a:solidFill>
                <a:latin typeface="Times New Roman"/>
              </a:rPr>
              <a:t>With lower moisture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: the recycling coarse aggregate can not be adequately granulated.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457200" indent="-457200" algn="just">
              <a:lnSpc>
                <a:spcPct val="105000"/>
              </a:lnSpc>
              <a:spcBef>
                <a:spcPts val="300"/>
              </a:spcBef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cc"/>
                </a:solidFill>
                <a:latin typeface="Times New Roman"/>
              </a:rPr>
              <a:t>With higher moisture: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the redundant water may drain out during the process of forming recycling aggregates </a:t>
            </a:r>
            <a:r>
              <a:rPr b="1" i="1" lang="zh-TW" sz="2400" spc="-1" strike="noStrike">
                <a:solidFill>
                  <a:srgbClr val="ff0000"/>
                </a:solidFill>
                <a:latin typeface="Times New Roman"/>
              </a:rPr>
              <a:t>(like consolidation in geotechnical engineering)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and cause </a:t>
            </a:r>
            <a:r>
              <a:rPr b="1" i="1" lang="zh-TW" sz="2400" spc="-1" strike="noStrike">
                <a:solidFill>
                  <a:srgbClr val="ff0000"/>
                </a:solidFill>
                <a:latin typeface="Times New Roman"/>
              </a:rPr>
              <a:t>the excessively high water-to-cement ratio (w/c) or water-to-cementitious materials (w/cm)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around the surface of the recycling aggregate.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7840" y="5568840"/>
            <a:ext cx="8786880" cy="1245240"/>
          </a:xfrm>
          <a:prstGeom prst="rect">
            <a:avLst/>
          </a:prstGeom>
          <a:gradFill rotWithShape="0">
            <a:gsLst>
              <a:gs pos="0">
                <a:srgbClr val="dfe34f"/>
              </a:gs>
              <a:gs pos="50000">
                <a:srgbClr val="ddffdd"/>
              </a:gs>
              <a:gs pos="100000">
                <a:srgbClr val="dfe34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The optimum moisture for granulating recycling coarse aggregate of stainless steel reductive slag was </a:t>
            </a:r>
            <a:r>
              <a:rPr b="1" i="1" lang="en-GB" sz="2400" spc="-1" strike="noStrike">
                <a:solidFill>
                  <a:srgbClr val="0000cc"/>
                </a:solidFill>
                <a:latin typeface="Times New Roman"/>
              </a:rPr>
              <a:t>14.0 %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while the stress of granulation by using press ingot method is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35.0 to 42.0 MPa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GB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749080" y="64897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0011"/>
                </a:solidFill>
                <a:latin typeface="Times New Roman"/>
              </a:rPr>
              <a:t>13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836640"/>
            <a:ext cx="9193320" cy="0"/>
          </a:xfrm>
          <a:prstGeom prst="line">
            <a:avLst/>
          </a:prstGeom>
          <a:ln w="698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4280"/>
            <a:ext cx="9144000" cy="76428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Observation of Volume Stability-1</a:t>
            </a:r>
            <a:endParaRPr b="0" lang="en-US" sz="4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9440" y="836640"/>
            <a:ext cx="8369280" cy="3662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ddff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05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surface of recycling aggregate had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slight splits due to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expansive reaction of f-CaO within stainless steel reductive slag before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the age of 7 day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363600" indent="-363600" algn="just">
              <a:lnSpc>
                <a:spcPct val="105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So far, recycling coarse aggregates with stainless steel reductive slag has not generate further expansion, splits, or even rupture </a:t>
            </a:r>
            <a:r>
              <a:rPr b="1" i="1" lang="zh-TW" sz="2400" spc="-1" strike="noStrike">
                <a:solidFill>
                  <a:srgbClr val="0000cc"/>
                </a:solidFill>
                <a:latin typeface="Times New Roman"/>
              </a:rPr>
              <a:t>for more than four years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363600" indent="-363600" algn="just">
              <a:lnSpc>
                <a:spcPct val="105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re was a significantly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white particl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existing in the expansions, splits, or spalls of recycling coarse aggregate and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the diameter of the </a:t>
            </a:r>
            <a:r>
              <a:rPr b="1" i="1" lang="zh-TW" sz="2400" spc="-1" strike="noStrike">
                <a:solidFill>
                  <a:srgbClr val="0000cc"/>
                </a:solidFill>
                <a:latin typeface="Times New Roman"/>
              </a:rPr>
              <a:t>white particle is more than 1.0 mm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251000" y="4638600"/>
            <a:ext cx="2889360" cy="21589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5033880" y="4641840"/>
            <a:ext cx="2865600" cy="21589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 flipH="1">
            <a:off x="1908000" y="5532480"/>
            <a:ext cx="216000" cy="216000"/>
          </a:xfrm>
          <a:prstGeom prst="line">
            <a:avLst/>
          </a:prstGeom>
          <a:ln cap="sq" w="44280">
            <a:solidFill>
              <a:srgbClr val="1d4337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3285720" y="5513400"/>
            <a:ext cx="142920" cy="216000"/>
          </a:xfrm>
          <a:prstGeom prst="line">
            <a:avLst/>
          </a:prstGeom>
          <a:ln cap="sq" w="44280">
            <a:solidFill>
              <a:srgbClr val="1d4337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3156120" y="5748480"/>
            <a:ext cx="287280" cy="144360"/>
          </a:xfrm>
          <a:prstGeom prst="line">
            <a:avLst/>
          </a:prstGeom>
          <a:ln cap="sq" w="44280">
            <a:solidFill>
              <a:srgbClr val="1d4337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61000" y="5546880"/>
            <a:ext cx="216000" cy="288720"/>
          </a:xfrm>
          <a:prstGeom prst="line">
            <a:avLst/>
          </a:prstGeom>
          <a:ln cap="sq" w="44280">
            <a:solidFill>
              <a:srgbClr val="1d4337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11760" y="5478480"/>
            <a:ext cx="217800" cy="144360"/>
          </a:xfrm>
          <a:prstGeom prst="line">
            <a:avLst/>
          </a:prstGeom>
          <a:ln cap="sq" w="44280">
            <a:solidFill>
              <a:srgbClr val="1d4337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749080" y="64897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0011"/>
                </a:solidFill>
                <a:latin typeface="Times New Roman"/>
              </a:rPr>
              <a:t>14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907920"/>
            <a:ext cx="9193320" cy="0"/>
          </a:xfrm>
          <a:prstGeom prst="line">
            <a:avLst/>
          </a:prstGeom>
          <a:ln w="698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44280"/>
            <a:ext cx="9144000" cy="76428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Observation of Volume Stability-2</a:t>
            </a:r>
            <a:endParaRPr b="0" lang="en-US" sz="4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24000" y="3429000"/>
            <a:ext cx="4652640" cy="3240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5281560" y="3429000"/>
            <a:ext cx="3584520" cy="3240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87360" y="1158840"/>
            <a:ext cx="8369280" cy="2055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ddff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le the diameter of stainless steel reductive slag was controlled to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ess than 0.297 mm (below No. 50 sieve)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expansions, splits, or spalls of recycling coarse aggregate were completely improved.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749080" y="64897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0011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907920"/>
            <a:ext cx="9193320" cy="0"/>
          </a:xfrm>
          <a:prstGeom prst="line">
            <a:avLst/>
          </a:prstGeom>
          <a:ln w="698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44280"/>
            <a:ext cx="9144000" cy="76428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ingle particle compressive strength</a:t>
            </a:r>
            <a:endParaRPr b="0" lang="en-US" sz="4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654200" y="1030320"/>
          <a:ext cx="5797440" cy="443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4200" y="1030320"/>
                    <a:ext cx="5797440" cy="44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322200" y="5528880"/>
            <a:ext cx="8497800" cy="1191240"/>
          </a:xfrm>
          <a:prstGeom prst="rect">
            <a:avLst/>
          </a:prstGeom>
          <a:gradFill rotWithShape="0">
            <a:gsLst>
              <a:gs pos="0">
                <a:srgbClr val="dfe34f"/>
              </a:gs>
              <a:gs pos="50000">
                <a:srgbClr val="ddffdd"/>
              </a:gs>
              <a:gs pos="100000">
                <a:srgbClr val="dfe34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660066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660066"/>
                </a:solidFill>
                <a:latin typeface="Times New Roman"/>
                <a:ea typeface="SimSun"/>
              </a:rPr>
              <a:t>he </a:t>
            </a:r>
            <a:r>
              <a:rPr b="1" i="1" lang="zh-TW" sz="2400" spc="-1" strike="noStrike">
                <a:solidFill>
                  <a:srgbClr val="660066"/>
                </a:solidFill>
                <a:latin typeface="Times New Roman"/>
              </a:rPr>
              <a:t>single particle compressive strength </a:t>
            </a:r>
            <a:r>
              <a:rPr b="1" i="1" lang="en-US" sz="2400" spc="-1" strike="noStrike">
                <a:solidFill>
                  <a:srgbClr val="660066"/>
                </a:solidFill>
                <a:latin typeface="Times New Roman"/>
                <a:ea typeface="SimSun"/>
              </a:rPr>
              <a:t>increase</a:t>
            </a:r>
            <a:r>
              <a:rPr b="1" i="1" lang="zh-TW" sz="2400" spc="-1" strike="noStrike">
                <a:solidFill>
                  <a:srgbClr val="660066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660066"/>
                </a:solidFill>
                <a:latin typeface="Times New Roman"/>
                <a:ea typeface="SimSun"/>
              </a:rPr>
              <a:t> with the increase of </a:t>
            </a:r>
            <a:r>
              <a:rPr b="1" i="1" lang="zh-TW" sz="2400" spc="-1" strike="noStrike">
                <a:solidFill>
                  <a:srgbClr val="660066"/>
                </a:solidFill>
                <a:latin typeface="Times New Roman"/>
              </a:rPr>
              <a:t>curing </a:t>
            </a:r>
            <a:r>
              <a:rPr b="1" i="1" lang="en-US" sz="2400" spc="-1" strike="noStrike">
                <a:solidFill>
                  <a:srgbClr val="660066"/>
                </a:solidFill>
                <a:latin typeface="Times New Roman"/>
                <a:ea typeface="SimSun"/>
              </a:rPr>
              <a:t>age</a:t>
            </a:r>
            <a:r>
              <a:rPr b="1" i="1" lang="zh-TW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0066"/>
                </a:solidFill>
                <a:latin typeface="Times New Roman"/>
                <a:ea typeface="SimSun"/>
              </a:rPr>
              <a:t>due to </a:t>
            </a:r>
            <a:r>
              <a:rPr b="1" i="1" lang="zh-TW" sz="2400" spc="-1" strike="noStrike">
                <a:solidFill>
                  <a:srgbClr val="660066"/>
                </a:solidFill>
                <a:latin typeface="Times New Roman"/>
              </a:rPr>
              <a:t>the fact that the </a:t>
            </a:r>
            <a:r>
              <a:rPr b="1" i="1" lang="zh-TW" sz="2400" spc="-1" strike="noStrike">
                <a:solidFill>
                  <a:srgbClr val="ff0000"/>
                </a:solidFill>
                <a:latin typeface="Times New Roman"/>
              </a:rPr>
              <a:t>contribution of hydration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SimSun"/>
              </a:rPr>
              <a:t> of </a:t>
            </a:r>
            <a:r>
              <a:rPr b="1" i="1" lang="zh-TW" sz="2400" spc="-1" strike="noStrike">
                <a:solidFill>
                  <a:srgbClr val="ff0000"/>
                </a:solidFill>
                <a:latin typeface="Times New Roman"/>
              </a:rPr>
              <a:t>cement and pozzlanic reaction.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749080" y="64897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0011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765000"/>
            <a:ext cx="9193320" cy="0"/>
          </a:xfrm>
          <a:prstGeom prst="line">
            <a:avLst/>
          </a:prstGeom>
          <a:ln w="698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4428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Basic characteristics of recycling coarse aggregate</a:t>
            </a:r>
            <a:endParaRPr b="0" lang="en-US" sz="3200" spc="-1" strike="noStrike">
              <a:solidFill>
                <a:srgbClr val="1d4337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9320" y="892080"/>
          <a:ext cx="9029520" cy="4719600"/>
        </p:xfrm>
        <a:graphic>
          <a:graphicData uri="http://schemas.openxmlformats.org/drawingml/2006/table">
            <a:tbl>
              <a:tblPr/>
              <a:tblGrid>
                <a:gridCol w="1152360"/>
                <a:gridCol w="363600"/>
                <a:gridCol w="1004760"/>
                <a:gridCol w="366840"/>
                <a:gridCol w="1000080"/>
                <a:gridCol w="615960"/>
                <a:gridCol w="808200"/>
                <a:gridCol w="807840"/>
                <a:gridCol w="426960"/>
                <a:gridCol w="898560"/>
                <a:gridCol w="382680"/>
                <a:gridCol w="1201680"/>
              </a:tblGrid>
              <a:tr h="1609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pecific gravity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OD)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pecific gravity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SSD)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Absorption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%)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Unit weight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kg/m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)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ds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%)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P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rticle cylindrical crushing strength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MPa)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.70-1.73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.98-2.02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4.09-14.47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201-1235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2.9-33.3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9.89-41.67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Clay lumps and friable particles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（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%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）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Material finer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than 75-μm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（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%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）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Coal and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Lignite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（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%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）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Abrasion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（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%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）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Soundness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（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%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）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Cl</a:t>
                      </a:r>
                      <a:r>
                        <a:rPr b="0" lang="zh-TW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-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（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%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）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ND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0.09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ND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9.8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.23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.6×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-4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ASTM C33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2.0-10.0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1.0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0.5-1.0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50.0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12.0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0.012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"/>
          <p:cNvSpPr/>
          <p:nvPr/>
        </p:nvSpPr>
        <p:spPr>
          <a:xfrm>
            <a:off x="322200" y="5756040"/>
            <a:ext cx="8497800" cy="947160"/>
          </a:xfrm>
          <a:prstGeom prst="rect">
            <a:avLst/>
          </a:prstGeom>
          <a:gradFill rotWithShape="0">
            <a:gsLst>
              <a:gs pos="0">
                <a:srgbClr val="dfe34f"/>
              </a:gs>
              <a:gs pos="50000">
                <a:srgbClr val="ddffdd"/>
              </a:gs>
              <a:gs pos="100000">
                <a:srgbClr val="dfe34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Basic characteristics of recycling coarse aggregate</a:t>
            </a:r>
            <a:r>
              <a:rPr b="1" i="1" lang="en-GB" sz="2800" spc="-1" strike="noStrike">
                <a:solidFill>
                  <a:srgbClr val="1d4337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conform to ASTM C33</a:t>
            </a:r>
            <a:r>
              <a:rPr b="1" i="1" lang="zh-TW" sz="2800" spc="-1" strike="noStrike">
                <a:solidFill>
                  <a:srgbClr val="ff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749080" y="64897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0011"/>
                </a:solidFill>
                <a:latin typeface="Times New Roman"/>
              </a:rPr>
              <a:t>17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981000"/>
            <a:ext cx="9193320" cy="0"/>
          </a:xfrm>
          <a:prstGeom prst="line">
            <a:avLst/>
          </a:prstGeom>
          <a:ln w="698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4280"/>
            <a:ext cx="9144000" cy="82512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Conclusion-1</a:t>
            </a:r>
            <a:endParaRPr b="0" lang="en-US" sz="4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4200" y="1268280"/>
            <a:ext cx="8174160" cy="47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zh-TW" sz="2800" spc="-1" strike="noStrike">
                <a:solidFill>
                  <a:srgbClr val="ff0000"/>
                </a:solidFill>
                <a:latin typeface="Times New Roman"/>
              </a:rPr>
              <a:t>DMD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 is appropriate to design the cement-based composite with stainless steel reductive slag and glass fibers recycled from PCB wastes for producing the </a:t>
            </a:r>
            <a:r>
              <a:rPr b="1" i="1" lang="zh-TW" sz="2800" spc="-1" strike="noStrike">
                <a:solidFill>
                  <a:srgbClr val="0000cc"/>
                </a:solidFill>
                <a:latin typeface="Times New Roman"/>
              </a:rPr>
              <a:t>cold-pressing recycling coarse aggregates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00"/>
                </a:solidFill>
                <a:latin typeface="Times New Roman"/>
              </a:rPr>
              <a:t>The optimum moisture for granulating recycling coarse aggregate of stainless steel reductive slag was </a:t>
            </a:r>
            <a:r>
              <a:rPr b="1" i="1" lang="zh-TW" sz="2800" spc="-1" strike="noStrike">
                <a:solidFill>
                  <a:srgbClr val="0000cc"/>
                </a:solidFill>
                <a:latin typeface="Times New Roman"/>
              </a:rPr>
              <a:t>14.0 %</a:t>
            </a:r>
            <a:r>
              <a:rPr b="1" lang="zh-TW" sz="2800" spc="-1" strike="noStrike">
                <a:solidFill>
                  <a:srgbClr val="003300"/>
                </a:solidFill>
                <a:latin typeface="Times New Roman"/>
              </a:rPr>
              <a:t> while the stress of granulation by using press ingot method is </a:t>
            </a:r>
            <a:r>
              <a:rPr b="1" i="1" lang="zh-TW" sz="2800" spc="-1" strike="noStrike">
                <a:solidFill>
                  <a:srgbClr val="990000"/>
                </a:solidFill>
                <a:latin typeface="Times New Roman"/>
              </a:rPr>
              <a:t>35.0 to 42.0 MPa</a:t>
            </a:r>
            <a:r>
              <a:rPr b="1" lang="zh-TW" sz="28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749080" y="64897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0011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981000"/>
            <a:ext cx="9193320" cy="0"/>
          </a:xfrm>
          <a:prstGeom prst="line">
            <a:avLst/>
          </a:prstGeom>
          <a:ln w="698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4280"/>
            <a:ext cx="9144000" cy="82512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Introduction-1</a:t>
            </a:r>
            <a:r>
              <a:rPr b="1" lang="en-US" sz="4800" spc="-1" strike="noStrike">
                <a:solidFill>
                  <a:srgbClr val="000066"/>
                </a:solidFill>
                <a:latin typeface="Times New Roman"/>
                <a:ea typeface="標楷體"/>
              </a:rPr>
              <a:t> </a:t>
            </a:r>
            <a:endParaRPr b="0" lang="en-US" sz="4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8000" y="1044720"/>
            <a:ext cx="8369280" cy="5705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ddff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 algn="just">
              <a:spcBef>
                <a:spcPts val="37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ry year there was approximately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160,000 to 200,000 ton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of stainless steel reductive slag generated in Taiwa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3000" spc="-1" strike="noStrike">
                <a:solidFill>
                  <a:srgbClr val="1d4337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1d4337"/>
              </a:solidFill>
              <a:latin typeface="Times New Roman"/>
            </a:endParaRPr>
          </a:p>
          <a:p>
            <a:pPr marL="449280" indent="-449280" algn="just">
              <a:spcBef>
                <a:spcPts val="37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ue to the fact that stainless steel reductive slag has the characteristic of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poor volume stability (i.e. stainless steel reductive slag is liable to react with H</a:t>
            </a:r>
            <a:r>
              <a:rPr b="1" i="1" lang="en-US" sz="3000" spc="-1" strike="noStrike" baseline="-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O and CO</a:t>
            </a:r>
            <a:r>
              <a:rPr b="1" i="1" lang="en-US" sz="3000" spc="-1" strike="noStrike" baseline="-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to result in expansion)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the Industrial Development Bureau, Ministry of Economic Affairs announced that stainless steel reductive slag is only recycled or reused in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aw cement materials and concrete product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in Taiwan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3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792640" y="6489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0011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907920"/>
            <a:ext cx="9193320" cy="0"/>
          </a:xfrm>
          <a:prstGeom prst="line">
            <a:avLst/>
          </a:prstGeom>
          <a:ln w="698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-27000"/>
            <a:ext cx="9144000" cy="82512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Conclusion-2</a:t>
            </a:r>
            <a:endParaRPr b="0" lang="en-US" sz="4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4200" y="907920"/>
            <a:ext cx="8174160" cy="48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recycling coarse aggregates produced by using the 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cold-pressing techniqu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an reduce abou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65 % CO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ootprint when compared to using the sintering technique. And the prime cost of cold-pressing recycling aggregate is 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5 to 6 times lower th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sintering recycling aggregate.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Therefore the 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cold-pressing technique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 is a new and practicable approach to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ecycling stainless steel reductive slag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 in future.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749080" y="64897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0011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4869000"/>
            <a:ext cx="9144000" cy="13618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826920" y="2925720"/>
            <a:ext cx="748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93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6600"/>
                    </a:gs>
                  </a:gsLst>
                  <a:lin ang="5400000"/>
                </a:gradFill>
                <a:latin typeface="Times New Roman"/>
              </a:rPr>
              <a:t>Thank For Your Atten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66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78000" y="1125360"/>
            <a:ext cx="8369280" cy="530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ddff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 algn="just">
              <a:lnSpc>
                <a:spcPct val="110000"/>
              </a:lnSpc>
              <a:spcBef>
                <a:spcPts val="7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SimSu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SimSun"/>
              </a:rPr>
              <a:t>n Taiwan </a:t>
            </a: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SimSu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SimSun"/>
              </a:rPr>
              <a:t>he natural resource</a:t>
            </a: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SimSun"/>
              </a:rPr>
              <a:t>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SimSun"/>
              </a:rPr>
              <a:t>a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SimSun"/>
              </a:rPr>
              <a:t> rather lack, </a:t>
            </a: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SimSun"/>
              </a:rPr>
              <a:t>but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SimSun"/>
              </a:rPr>
              <a:t>recycling resource</a:t>
            </a: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SimSun"/>
              </a:rPr>
              <a:t>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SimSun"/>
              </a:rPr>
              <a:t>a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SimSun"/>
              </a:rPr>
              <a:t> quite plentiful</a:t>
            </a:r>
            <a:r>
              <a:rPr b="1" lang="zh-TW" sz="3000" spc="-1" strike="noStrike">
                <a:solidFill>
                  <a:srgbClr val="1d4337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1d4337"/>
              </a:solidFill>
              <a:latin typeface="Times New Roman"/>
            </a:endParaRPr>
          </a:p>
          <a:p>
            <a:pPr marL="449280" indent="-449280" algn="just">
              <a:lnSpc>
                <a:spcPct val="110000"/>
              </a:lnSpc>
              <a:spcBef>
                <a:spcPts val="7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</a:rPr>
              <a:t>A new approach, the </a:t>
            </a:r>
            <a:r>
              <a:rPr b="1" i="1" lang="zh-TW" sz="3000" spc="-1" strike="noStrike">
                <a:solidFill>
                  <a:srgbClr val="ff0000"/>
                </a:solidFill>
                <a:latin typeface="Times New Roman"/>
              </a:rPr>
              <a:t>cold-pressing technique</a:t>
            </a:r>
            <a:r>
              <a:rPr b="1" lang="zh-TW" sz="3000" spc="-1" strike="noStrike">
                <a:solidFill>
                  <a:srgbClr val="000000"/>
                </a:solidFill>
                <a:latin typeface="Times New Roman"/>
              </a:rPr>
              <a:t> which incorporates the principles of the cement chemistry and composite material was developed to </a:t>
            </a:r>
            <a:r>
              <a:rPr b="1" i="1" lang="zh-TW" sz="3000" spc="-1" strike="noStrike">
                <a:solidFill>
                  <a:srgbClr val="0000cc"/>
                </a:solidFill>
                <a:latin typeface="Times New Roman"/>
              </a:rPr>
              <a:t>recycle these resources as coarse aggregates</a:t>
            </a:r>
            <a:r>
              <a:rPr b="1" lang="zh-TW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1d4337"/>
              </a:solidFill>
              <a:latin typeface="Times New Roman"/>
            </a:endParaRPr>
          </a:p>
          <a:p>
            <a:pPr marL="449280" indent="-449280" algn="just">
              <a:lnSpc>
                <a:spcPct val="110000"/>
              </a:lnSpc>
              <a:spcBef>
                <a:spcPts val="7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</a:rPr>
              <a:t>This paper aims to show that using cold-pressing technique to recycle stainless steel reductive slag as coarse aggregate. </a:t>
            </a:r>
            <a:endParaRPr b="0" lang="en-US" sz="3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981000"/>
            <a:ext cx="9193320" cy="0"/>
          </a:xfrm>
          <a:prstGeom prst="line">
            <a:avLst/>
          </a:prstGeom>
          <a:ln w="698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4280"/>
            <a:ext cx="9144000" cy="82512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Introduction-2</a:t>
            </a:r>
            <a:r>
              <a:rPr b="1" lang="en-US" sz="4800" spc="-1" strike="noStrike">
                <a:solidFill>
                  <a:srgbClr val="000066"/>
                </a:solidFill>
                <a:latin typeface="Times New Roman"/>
                <a:ea typeface="標楷體"/>
              </a:rPr>
              <a:t> </a:t>
            </a:r>
            <a:endParaRPr b="0" lang="en-US" sz="4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792640" y="6489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0011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981000"/>
            <a:ext cx="9193320" cy="0"/>
          </a:xfrm>
          <a:prstGeom prst="line">
            <a:avLst/>
          </a:prstGeom>
          <a:ln w="698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4280"/>
            <a:ext cx="9144000" cy="82512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Experimental Materials-1</a:t>
            </a:r>
            <a:r>
              <a:rPr b="1" lang="en-US" sz="4800" spc="-1" strike="noStrike">
                <a:solidFill>
                  <a:srgbClr val="000066"/>
                </a:solidFill>
                <a:latin typeface="Times New Roman"/>
                <a:ea typeface="標楷體"/>
              </a:rPr>
              <a:t> </a:t>
            </a:r>
            <a:endParaRPr b="0" lang="en-US" sz="4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052640"/>
            <a:ext cx="8136000" cy="48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5000"/>
              </a:lnSpc>
              <a:spcBef>
                <a:spcPts val="326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Cement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Type I Portland Cement produced by Taiwan Cement Company.</a:t>
            </a:r>
            <a:endParaRPr b="0" lang="en-US" sz="2600" spc="-1" strike="noStrike">
              <a:solidFill>
                <a:srgbClr val="1d4337"/>
              </a:solidFill>
              <a:latin typeface="Times New Roman"/>
            </a:endParaRPr>
          </a:p>
          <a:p>
            <a:pPr marL="339480" indent="-339480" algn="just">
              <a:lnSpc>
                <a:spcPct val="105000"/>
              </a:lnSpc>
              <a:spcBef>
                <a:spcPts val="326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Blast-furnace slag (BF slag) provided by CHC Resources Corporation.</a:t>
            </a:r>
            <a:endParaRPr b="0" lang="en-US" sz="2600" spc="-1" strike="noStrike">
              <a:solidFill>
                <a:srgbClr val="1d4337"/>
              </a:solidFill>
              <a:latin typeface="Times New Roman"/>
            </a:endParaRPr>
          </a:p>
          <a:p>
            <a:pPr marL="339480" indent="-339480" algn="just">
              <a:lnSpc>
                <a:spcPct val="105000"/>
              </a:lnSpc>
              <a:spcBef>
                <a:spcPts val="326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Class F fly ash supplied by Taiwan Power Station.</a:t>
            </a:r>
            <a:endParaRPr b="0" lang="en-US" sz="2600" spc="-1" strike="noStrike">
              <a:solidFill>
                <a:srgbClr val="1d4337"/>
              </a:solidFill>
              <a:latin typeface="Times New Roman"/>
            </a:endParaRPr>
          </a:p>
          <a:p>
            <a:pPr marL="339480" indent="-339480" algn="just">
              <a:lnSpc>
                <a:spcPct val="105000"/>
              </a:lnSpc>
              <a:spcBef>
                <a:spcPts val="326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A carboxylate-based type G superplasticizer was purchased from a local factory.</a:t>
            </a:r>
            <a:endParaRPr b="0" lang="en-US" sz="2600" spc="-1" strike="noStrike">
              <a:solidFill>
                <a:srgbClr val="1d4337"/>
              </a:solidFill>
              <a:latin typeface="Times New Roman"/>
            </a:endParaRPr>
          </a:p>
          <a:p>
            <a:pPr marL="339480" indent="-339480" algn="just">
              <a:lnSpc>
                <a:spcPct val="105000"/>
              </a:lnSpc>
              <a:spcBef>
                <a:spcPts val="326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Stainless steel reductive slag was provided from Ming Hsiang Hsin Co., Ltd.</a:t>
            </a:r>
            <a:endParaRPr b="0" lang="en-US" sz="2600" spc="-1" strike="noStrike">
              <a:solidFill>
                <a:srgbClr val="1d4337"/>
              </a:solidFill>
              <a:latin typeface="Times New Roman"/>
            </a:endParaRPr>
          </a:p>
          <a:p>
            <a:pPr marL="339480" indent="-339480" algn="just">
              <a:lnSpc>
                <a:spcPct val="105000"/>
              </a:lnSpc>
              <a:spcBef>
                <a:spcPts val="326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Glass fibers were recycled from printed circuit board (PCB) wastes.</a:t>
            </a:r>
            <a:endParaRPr b="0" lang="en-US" sz="26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3440" y="5927760"/>
            <a:ext cx="8785440" cy="885960"/>
          </a:xfrm>
          <a:prstGeom prst="rect">
            <a:avLst/>
          </a:prstGeom>
          <a:gradFill rotWithShape="0">
            <a:gsLst>
              <a:gs pos="0">
                <a:srgbClr val="dfe34f"/>
              </a:gs>
              <a:gs pos="50000">
                <a:srgbClr val="ddffdd"/>
              </a:gs>
              <a:gs pos="100000">
                <a:srgbClr val="dfe34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600" spc="-1" strike="noStrike">
                <a:solidFill>
                  <a:srgbClr val="660066"/>
                </a:solidFill>
                <a:latin typeface="Times New Roman"/>
              </a:rPr>
              <a:t>The cementitious materials and superplasticizer conform to the related ASTM standards.</a:t>
            </a:r>
            <a:endParaRPr b="0" lang="en-US" sz="26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821080" y="6489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0011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052640"/>
            <a:ext cx="9193320" cy="0"/>
          </a:xfrm>
          <a:prstGeom prst="line">
            <a:avLst/>
          </a:prstGeom>
          <a:ln w="698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5960" y="1510560"/>
            <a:ext cx="8611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00"/>
                </a:solidFill>
                <a:latin typeface="Times New Roman"/>
              </a:rPr>
              <a:t>TCLP results of stainless steel reductive slag (mg/L)</a:t>
            </a:r>
            <a:endParaRPr b="0" lang="en-US" sz="3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6520" y="5445000"/>
            <a:ext cx="8640720" cy="1191240"/>
          </a:xfrm>
          <a:prstGeom prst="rect">
            <a:avLst/>
          </a:prstGeom>
          <a:gradFill rotWithShape="0">
            <a:gsLst>
              <a:gs pos="0">
                <a:srgbClr val="dfe34f"/>
              </a:gs>
              <a:gs pos="50000">
                <a:srgbClr val="ddffdd"/>
              </a:gs>
              <a:gs pos="100000">
                <a:srgbClr val="dfe34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Times New Roman"/>
              </a:rPr>
              <a:t>TCLP results of stainless steel reductive slag were below the criteria of general enterprise wastes and green building materials in Taiwan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15920"/>
            <a:ext cx="9144000" cy="82512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Experimental Materials-2</a:t>
            </a:r>
            <a:r>
              <a:rPr b="1" lang="en-US" sz="4800" spc="-1" strike="noStrike">
                <a:solidFill>
                  <a:srgbClr val="000066"/>
                </a:solidFill>
                <a:latin typeface="Times New Roman"/>
                <a:ea typeface="標楷體"/>
              </a:rPr>
              <a:t> </a:t>
            </a:r>
            <a:endParaRPr b="0" lang="en-US" sz="4800" spc="-1" strike="noStrike">
              <a:solidFill>
                <a:srgbClr val="1d4337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79280" y="2276640"/>
          <a:ext cx="8785440" cy="2923920"/>
        </p:xfrm>
        <a:graphic>
          <a:graphicData uri="http://schemas.openxmlformats.org/drawingml/2006/table">
            <a:tbl>
              <a:tblPr/>
              <a:tblGrid>
                <a:gridCol w="1957320"/>
                <a:gridCol w="712800"/>
                <a:gridCol w="849600"/>
                <a:gridCol w="568080"/>
                <a:gridCol w="568440"/>
                <a:gridCol w="569880"/>
                <a:gridCol w="711360"/>
                <a:gridCol w="534960"/>
                <a:gridCol w="890640"/>
                <a:gridCol w="711000"/>
                <a:gridCol w="711360"/>
              </a:tblGrid>
              <a:tr h="36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d4337"/>
                          </a:solidFill>
                          <a:latin typeface="Times New Roman"/>
                          <a:ea typeface="標楷體"/>
                        </a:rPr>
                        <a:t>Cr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d4337"/>
                          </a:solidFill>
                          <a:latin typeface="Times New Roman"/>
                          <a:ea typeface="標楷體"/>
                        </a:rPr>
                        <a:t>Ba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4337"/>
                          </a:solidFill>
                          <a:latin typeface="Times New Roman"/>
                          <a:ea typeface="標楷體"/>
                        </a:rPr>
                        <a:t>Se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d4337"/>
                          </a:solidFill>
                          <a:latin typeface="Times New Roman"/>
                          <a:ea typeface="標楷體"/>
                        </a:rPr>
                        <a:t>Cd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d4337"/>
                          </a:solidFill>
                          <a:latin typeface="Times New Roman"/>
                          <a:ea typeface="標楷體"/>
                        </a:rPr>
                        <a:t>Pb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4337"/>
                          </a:solidFill>
                          <a:latin typeface="Times New Roman"/>
                          <a:ea typeface="標楷體"/>
                        </a:rPr>
                        <a:t>Cu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4337"/>
                          </a:solidFill>
                          <a:latin typeface="Times New Roman"/>
                          <a:ea typeface="標楷體"/>
                        </a:rPr>
                        <a:t>As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4337"/>
                          </a:solidFill>
                          <a:latin typeface="Times New Roman"/>
                          <a:ea typeface="標楷體"/>
                        </a:rPr>
                        <a:t>Hg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4337"/>
                          </a:solidFill>
                          <a:latin typeface="Times New Roman"/>
                          <a:ea typeface="標楷體"/>
                        </a:rPr>
                        <a:t>Ag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4337"/>
                          </a:solidFill>
                          <a:latin typeface="Times New Roman"/>
                          <a:ea typeface="標楷體"/>
                        </a:rPr>
                        <a:t>Cr</a:t>
                      </a:r>
                      <a:r>
                        <a:rPr b="1" lang="en-US" sz="1800" spc="-1" strike="noStrike" baseline="30000">
                          <a:solidFill>
                            <a:srgbClr val="1d4337"/>
                          </a:solidFill>
                          <a:latin typeface="Times New Roman"/>
                          <a:ea typeface="標楷體"/>
                        </a:rPr>
                        <a:t>+6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d4337"/>
                          </a:solidFill>
                          <a:latin typeface="Times New Roman"/>
                          <a:ea typeface="新細明體"/>
                        </a:rPr>
                        <a:t>Stainless steel reductive slag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4337"/>
                          </a:solidFill>
                          <a:latin typeface="Times New Roman"/>
                          <a:ea typeface="標楷體"/>
                        </a:rPr>
                        <a:t>0.07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4337"/>
                          </a:solidFill>
                          <a:latin typeface="Times New Roman"/>
                          <a:ea typeface="標楷體"/>
                        </a:rPr>
                        <a:t>0.543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4337"/>
                          </a:solidFill>
                          <a:latin typeface="Times New Roman"/>
                          <a:ea typeface="標楷體"/>
                        </a:rPr>
                        <a:t>ND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4337"/>
                          </a:solidFill>
                          <a:latin typeface="Times New Roman"/>
                          <a:ea typeface="標楷體"/>
                        </a:rPr>
                        <a:t>ND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4337"/>
                          </a:solidFill>
                          <a:latin typeface="Times New Roman"/>
                          <a:ea typeface="標楷體"/>
                        </a:rPr>
                        <a:t>ND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4337"/>
                          </a:solidFill>
                          <a:latin typeface="Times New Roman"/>
                          <a:ea typeface="標楷體"/>
                        </a:rPr>
                        <a:t>ND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4337"/>
                          </a:solidFill>
                          <a:latin typeface="Times New Roman"/>
                          <a:ea typeface="標楷體"/>
                        </a:rPr>
                        <a:t>ND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4337"/>
                          </a:solidFill>
                          <a:latin typeface="Times New Roman"/>
                          <a:ea typeface="標楷體"/>
                        </a:rPr>
                        <a:t>ND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4337"/>
                          </a:solidFill>
                          <a:latin typeface="Times New Roman"/>
                          <a:ea typeface="標楷體"/>
                        </a:rPr>
                        <a:t>ND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4337"/>
                          </a:solidFill>
                          <a:latin typeface="Times New Roman"/>
                          <a:ea typeface="標楷體"/>
                        </a:rPr>
                        <a:t>ND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新細明體"/>
                        </a:rPr>
                        <a:t>Criteria of general enterprise wastes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SimSun"/>
                        </a:rPr>
                        <a:t>5.0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SimSun"/>
                        </a:rPr>
                        <a:t>100.0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SimSun"/>
                        </a:rPr>
                        <a:t>1.0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SimSun"/>
                        </a:rPr>
                        <a:t>1.0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SimSun"/>
                        </a:rPr>
                        <a:t>5.0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SimSun"/>
                        </a:rPr>
                        <a:t>15.0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SimSun"/>
                        </a:rPr>
                        <a:t>5.0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SimSun"/>
                        </a:rPr>
                        <a:t>0.2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SimSun"/>
                        </a:rPr>
                        <a:t>5.0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SimSun"/>
                        </a:rPr>
                        <a:t>2.5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Criteria of green building material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SimSun"/>
                        </a:rPr>
                        <a:t>-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SimSun"/>
                        </a:rPr>
                        <a:t>-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SimSun"/>
                        </a:rPr>
                        <a:t>-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SimSun"/>
                        </a:rPr>
                        <a:t>0.3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SimSun"/>
                        </a:rPr>
                        <a:t>0.3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SimSun"/>
                        </a:rPr>
                        <a:t>0.15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SimSun"/>
                        </a:rPr>
                        <a:t>0.3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SimSun"/>
                        </a:rPr>
                        <a:t>0.005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SimSu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SimSun"/>
                        </a:rPr>
                        <a:t>1.5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8821080" y="6489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0011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981000"/>
            <a:ext cx="9193320" cy="0"/>
          </a:xfrm>
          <a:prstGeom prst="line">
            <a:avLst/>
          </a:prstGeom>
          <a:ln w="698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81400" y="4681440"/>
            <a:ext cx="2139840" cy="7923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lass fiber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5680" y="4681440"/>
            <a:ext cx="2139840" cy="7923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Cement, Slag,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Fly ash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43320" y="2449440"/>
            <a:ext cx="1789200" cy="2448000"/>
          </a:xfrm>
          <a:prstGeom prst="rightArrow">
            <a:avLst>
              <a:gd name="adj1" fmla="val 84324"/>
              <a:gd name="adj2" fmla="val 21829"/>
            </a:avLst>
          </a:prstGeom>
          <a:gradFill rotWithShape="0">
            <a:gsLst>
              <a:gs pos="0">
                <a:srgbClr val="ff0000"/>
              </a:gs>
              <a:gs pos="50000">
                <a:srgbClr val="ffff00"/>
              </a:gs>
              <a:gs pos="100000">
                <a:srgbClr val="ff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Cold-pressing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Technique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6320" y="2305080"/>
            <a:ext cx="3165480" cy="172872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Stainless steel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ductive slag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706400">
            <a:off x="1320840" y="3962520"/>
            <a:ext cx="247680" cy="647640"/>
          </a:xfrm>
          <a:prstGeom prst="upArrow">
            <a:avLst>
              <a:gd name="adj1" fmla="val 50000"/>
              <a:gd name="adj2" fmla="val 65371"/>
            </a:avLst>
          </a:prstGeom>
          <a:solidFill>
            <a:srgbClr val="ff0000"/>
          </a:solidFill>
          <a:ln w="936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rot="19893600">
            <a:off x="3152520" y="3960720"/>
            <a:ext cx="247680" cy="647640"/>
          </a:xfrm>
          <a:prstGeom prst="upArrow">
            <a:avLst>
              <a:gd name="adj1" fmla="val 50000"/>
              <a:gd name="adj2" fmla="val 65371"/>
            </a:avLst>
          </a:prstGeom>
          <a:solidFill>
            <a:srgbClr val="ff0000"/>
          </a:solidFill>
          <a:ln w="936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8000" y="981000"/>
            <a:ext cx="8369280" cy="1327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ddff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 algn="just">
              <a:lnSpc>
                <a:spcPct val="9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The cement-based composites for making the recycling coarse aggregate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SimHe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SimHei"/>
              </a:rPr>
              <a:t>is regarded as 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SimHei"/>
              </a:rPr>
              <a:t>concret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SimHei"/>
              </a:rPr>
              <a:t>. </a:t>
            </a:r>
            <a:endParaRPr b="0" lang="en-US" sz="3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840" y="5603760"/>
            <a:ext cx="8172360" cy="1191240"/>
          </a:xfrm>
          <a:prstGeom prst="rect">
            <a:avLst/>
          </a:prstGeom>
          <a:gradFill rotWithShape="0">
            <a:gsLst>
              <a:gs pos="0">
                <a:srgbClr val="dfe34f"/>
              </a:gs>
              <a:gs pos="50000">
                <a:srgbClr val="ddffdd"/>
              </a:gs>
              <a:gs pos="100000">
                <a:srgbClr val="dfe34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660066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660066"/>
                </a:solidFill>
                <a:latin typeface="Times New Roman"/>
                <a:ea typeface="SimSun"/>
              </a:rPr>
              <a:t>ement, blast-furnace slag, and fly ash are regarded as binders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660066"/>
                </a:solidFill>
                <a:latin typeface="Times New Roman"/>
                <a:ea typeface="SimSun"/>
              </a:rPr>
              <a:t>Stainless steel reductive slag </a:t>
            </a:r>
            <a:r>
              <a:rPr b="1" i="1" lang="en-US" sz="2400" spc="-1" strike="noStrike">
                <a:solidFill>
                  <a:srgbClr val="660066"/>
                </a:solidFill>
                <a:latin typeface="Times New Roman"/>
                <a:ea typeface="SimSun"/>
              </a:rPr>
              <a:t>is as a filler (i.e. aggregate)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660066"/>
                </a:solidFill>
                <a:latin typeface="Times New Roman"/>
                <a:ea typeface="SimSun"/>
              </a:rPr>
              <a:t>G</a:t>
            </a:r>
            <a:r>
              <a:rPr b="1" i="1" lang="en-US" sz="2400" spc="-1" strike="noStrike">
                <a:solidFill>
                  <a:srgbClr val="660066"/>
                </a:solidFill>
                <a:latin typeface="Times New Roman"/>
                <a:ea typeface="SimSun"/>
              </a:rPr>
              <a:t>lass fiber is as a reinforcement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4280"/>
            <a:ext cx="9144000" cy="82512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Mixture Proportion-1</a:t>
            </a:r>
            <a:endParaRPr b="0" lang="en-US" sz="48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6153120" y="2592360"/>
            <a:ext cx="2882880" cy="216072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19" name=""/>
          <p:cNvSpPr/>
          <p:nvPr/>
        </p:nvSpPr>
        <p:spPr>
          <a:xfrm>
            <a:off x="8821080" y="6489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0011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920880"/>
            <a:ext cx="9193320" cy="0"/>
          </a:xfrm>
          <a:prstGeom prst="line">
            <a:avLst/>
          </a:prstGeom>
          <a:ln w="698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4280"/>
            <a:ext cx="9144000" cy="82512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Mixture Proportion-2</a:t>
            </a:r>
            <a:endParaRPr b="0" lang="en-US" sz="4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9440" y="981000"/>
            <a:ext cx="8369280" cy="5431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ddff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1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 local mixture proportion method in Taiwan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densified mixture design algorithm (DMDA),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is adopted to design and prepare the cement-based composites for making the recycling coarse aggregate.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SimHei"/>
              </a:rPr>
              <a:t> 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d4337"/>
                </a:solidFill>
                <a:latin typeface="Times New Roman"/>
              </a:rPr>
              <a:t>The water-to-cementitious ratio</a:t>
            </a:r>
            <a:r>
              <a:rPr b="1" lang="en-GB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cc"/>
                </a:solidFill>
                <a:latin typeface="Times New Roman"/>
              </a:rPr>
              <a:t>(w/cm) of mixture proportion is 0.2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nd a total of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39.4 kg glass fibers (the volume=0.02 m</a:t>
            </a:r>
            <a:r>
              <a:rPr b="1" i="1" lang="en-GB" sz="2800" spc="-1" strike="noStrike" baseline="30000">
                <a:solidFill>
                  <a:srgbClr val="ff9933"/>
                </a:solidFill>
                <a:latin typeface="Times New Roman"/>
              </a:rPr>
              <a:t>3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as added to the cement-based composites.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pecifically, the mixture proportions with </a:t>
            </a:r>
            <a:r>
              <a:rPr b="1" i="1" lang="en-GB" sz="2800" spc="-1" strike="noStrike">
                <a:solidFill>
                  <a:srgbClr val="15692b"/>
                </a:solidFill>
                <a:latin typeface="Times New Roman"/>
              </a:rPr>
              <a:t>a low cement amount of 100 kg/m</a:t>
            </a:r>
            <a:r>
              <a:rPr b="1" i="1" lang="en-GB" sz="2800" spc="-1" strike="noStrike" baseline="30000">
                <a:solidFill>
                  <a:srgbClr val="15692b"/>
                </a:solidFill>
                <a:latin typeface="Times New Roman"/>
              </a:rPr>
              <a:t>3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as designed </a:t>
            </a:r>
            <a:r>
              <a:rPr b="1" i="1" lang="zh-TW" sz="28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821080" y="6489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0011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920880"/>
            <a:ext cx="9193320" cy="0"/>
          </a:xfrm>
          <a:prstGeom prst="line">
            <a:avLst/>
          </a:prstGeom>
          <a:ln w="698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4280"/>
            <a:ext cx="9144000" cy="82512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Mixture Proportion-3</a:t>
            </a:r>
            <a:endParaRPr b="0" lang="en-US" sz="4800" spc="-1" strike="noStrike">
              <a:solidFill>
                <a:srgbClr val="1d4337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79360" y="2492280"/>
          <a:ext cx="8569440" cy="2157480"/>
        </p:xfrm>
        <a:graphic>
          <a:graphicData uri="http://schemas.openxmlformats.org/drawingml/2006/table">
            <a:tbl>
              <a:tblPr/>
              <a:tblGrid>
                <a:gridCol w="1338480"/>
                <a:gridCol w="1584000"/>
                <a:gridCol w="2216160"/>
                <a:gridCol w="1716120"/>
                <a:gridCol w="17146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ment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Pozzolanic materials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tainless steel reductive slag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Glass fiber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P+Water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00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新細明體"/>
                        </a:rPr>
                        <a:t>(5.00)*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365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新細明體"/>
                        </a:rPr>
                        <a:t>(18.22)*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1d4337"/>
                          </a:solidFill>
                          <a:latin typeface="Times New Roman"/>
                          <a:ea typeface="標楷體"/>
                        </a:rPr>
                        <a:t>1499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標楷體"/>
                        </a:rPr>
                        <a:t>(74.81)</a:t>
                      </a:r>
                      <a:r>
                        <a:rPr b="1" lang="en-GB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新細明體"/>
                        </a:rPr>
                        <a:t>*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9.4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SimSun"/>
                        </a:rPr>
                        <a:t>(1.97)</a:t>
                      </a:r>
                      <a:r>
                        <a:rPr b="1" lang="en-GB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新細明體"/>
                        </a:rPr>
                        <a:t>*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1d4337"/>
                          </a:solidFill>
                          <a:latin typeface="Times New Roman"/>
                          <a:ea typeface="標楷體"/>
                        </a:rPr>
                        <a:t>93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711000" y="1726560"/>
            <a:ext cx="7642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00"/>
                </a:solidFill>
                <a:latin typeface="Times New Roman"/>
              </a:rPr>
              <a:t>Mixtures of cement-based composites (kg/m</a:t>
            </a:r>
            <a:r>
              <a:rPr b="1" lang="en-GB" sz="3000" spc="-1" strike="noStrike" baseline="30000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en-GB" sz="3000" spc="-1" strike="noStrike">
                <a:solidFill>
                  <a:srgbClr val="0033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5800" y="4594680"/>
            <a:ext cx="66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ozzolanic materials: BF slag + Fly ash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Times New Roman"/>
              </a:rPr>
              <a:t>*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: The percentage by weight of solid composition materials. 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6440" y="5589720"/>
            <a:ext cx="8850240" cy="825480"/>
          </a:xfrm>
          <a:prstGeom prst="rect">
            <a:avLst/>
          </a:prstGeom>
          <a:gradFill rotWithShape="0">
            <a:gsLst>
              <a:gs pos="0">
                <a:srgbClr val="dfe34f"/>
              </a:gs>
              <a:gs pos="50000">
                <a:srgbClr val="ddffdd"/>
              </a:gs>
              <a:gs pos="100000">
                <a:srgbClr val="dfe34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Times New Roman"/>
                <a:ea typeface="SimSun"/>
              </a:rPr>
              <a:t>The cement-based composite contains approximate 75 % (by weight) of stainless steel reductive slag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821080" y="6489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0011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920880"/>
            <a:ext cx="9193320" cy="0"/>
          </a:xfrm>
          <a:prstGeom prst="line">
            <a:avLst/>
          </a:prstGeom>
          <a:ln w="698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4280"/>
            <a:ext cx="9144000" cy="82512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Method of Granulation</a:t>
            </a:r>
            <a:endParaRPr b="0" lang="en-US" sz="4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7360" y="907920"/>
            <a:ext cx="8369280" cy="1144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ddff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ree various methods were adopted to granulate the cold-pressing recycling coarse aggregate:</a:t>
            </a:r>
            <a:endParaRPr b="0" lang="en-US" sz="3000" spc="-1" strike="noStrike">
              <a:solidFill>
                <a:srgbClr val="1d4337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357200" y="2147760"/>
          <a:ext cx="6383520" cy="4537080"/>
        </p:xfrm>
        <a:graphic>
          <a:graphicData uri="http://schemas.openxmlformats.org/drawingml/2006/table">
            <a:tbl>
              <a:tblPr/>
              <a:tblGrid>
                <a:gridCol w="438120"/>
                <a:gridCol w="3554640"/>
                <a:gridCol w="2390760"/>
              </a:tblGrid>
              <a:tr h="151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新細明體"/>
                        </a:rPr>
                        <a:t>1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新細明體"/>
                        </a:rPr>
                        <a:t>Spirally push method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1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  <a:ea typeface="新細明體"/>
                        </a:rPr>
                        <a:t>2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  <a:ea typeface="新細明體"/>
                        </a:rPr>
                        <a:t>Immediately squeeze out method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3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Press ingot method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443560" y="2197080"/>
            <a:ext cx="1925640" cy="1440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435640" y="3716280"/>
            <a:ext cx="1914480" cy="1440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5427720" y="5213520"/>
            <a:ext cx="1925640" cy="14396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792640" y="6489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0011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3:27:47Z</dcterms:created>
  <dc:creator>ada</dc:creator>
  <dc:description/>
  <dc:language>en-US</dc:language>
  <cp:lastModifiedBy>ada</cp:lastModifiedBy>
  <dcterms:modified xsi:type="dcterms:W3CDTF">2015-04-10T11:17:48Z</dcterms:modified>
  <cp:revision>184</cp:revision>
  <dc:subject/>
  <dc:title>PowerPoint 簡報</dc:title>
</cp:coreProperties>
</file>