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5128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D12-C126-445C-B7A5-6D406630C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3D1-4EC8-4860-B40C-DA2FC66C652D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95E-0AC0-479F-8D32-F3DDF26D21CD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Zero waste project EAF pour refondre les scories pour ajuster l’hydraulici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itier granulable et hydrau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up de mé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1FF-E1D8-42AF-A8FC-D45B143A28BB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EC1-06A9-421C-83F3-4A198779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174-A26F-4BD2-9976-70FA127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961-FAE6-4265-9F38-5516CEE3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603-6573-43A8-A5B3-6B5F0FA4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90F1-513C-4145-B87E-FE33B0E9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6A3E-B4A7-4F9E-9949-2EE1494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535-1946-432D-A7ED-F945F7A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BBF-0A69-4A38-8C43-CC19DD96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1F8-275C-4131-868B-69E117A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C792-4907-487D-A106-75F9DB7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F4D-DFF9-4944-ADF6-01E44F54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6E9-1C01-4A8A-9C60-A2E2A78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AD11-E39A-4A84-9E7D-03950C6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C404-F911-4C58-99E3-26BB292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047-BF12-4F4D-BE8B-6490583B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9E27-0DCB-487B-8D5D-5EBE3933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D38-DBE6-462F-A324-E09141ED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1ECD-B6D0-458D-9579-E9B49401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11FE-A57C-464C-821D-6DDE395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543C-4EA9-4180-A435-67662A43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CF72-31F5-46A2-89D7-B698768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EC75-2D68-41D3-94F4-BB44194A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3A3-2611-43B2-9CBC-741ECC34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B61F-AF5E-48A5-A8A1-7862E77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286D-2629-4B5B-83C0-B733ECD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4B9A-7CE9-4A5A-B72C-89AD31A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A32B-E214-4E32-ADFD-6E0C02E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0DEF-F672-43A1-939A-2355C08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E6C5-ACED-4A51-8D11-DB17B2A8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B934-83AA-4801-9DF7-B10BA51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0A8-74AF-487C-8F95-35C56DB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59B-0116-4D97-82F9-955FE25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807-45CE-48D2-B4E2-997D98BC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6DB-DABE-4EF0-964F-64178DBF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9E1-96C0-4007-956A-4EA2997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FF1-D862-4A8A-AF75-26DACF0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am"/>
          <p:cNvPicPr/>
          <p:nvPr/>
        </p:nvPicPr>
        <p:blipFill>
          <a:blip r:embed="rId2"/>
          <a:stretch/>
        </p:blipFill>
        <p:spPr>
          <a:xfrm>
            <a:off x="7485120" y="210960"/>
            <a:ext cx="1460520" cy="605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776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220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CF9-F0C9-4975-9F80-CDC5A1005AAD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3776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0220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2C47-1DFE-4BC7-ADDC-33AA9F590794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am"/>
          <p:cNvPicPr/>
          <p:nvPr/>
        </p:nvPicPr>
        <p:blipFill>
          <a:blip r:embed="rId2"/>
          <a:stretch/>
        </p:blipFill>
        <p:spPr>
          <a:xfrm>
            <a:off x="7485120" y="210960"/>
            <a:ext cx="1460520" cy="605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40E-2BD9-462C-B692-2E22F32DB2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360" y="4003560"/>
            <a:ext cx="85629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arbon cost of Slag production in the blast furnac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4880" y="5418000"/>
            <a:ext cx="82533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ril 16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2015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th Slag valorization symposium Leuven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Data – Calculations - results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0D6-B476-4978-87F4-D770A6B0F5A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233280" y="879480"/>
            <a:ext cx="87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Comparison of standard operation with +50kg/tHM slag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Coke input was allowed to vary (PCI variation is similar)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Flame temperature is required to remain the same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Upstream requirements for additional coke production and limestone consumption are added into iron making plant model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33280" y="3017880"/>
            <a:ext cx="8732880" cy="33652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5332320" y="5427720"/>
            <a:ext cx="1198800" cy="676080"/>
          </a:xfrm>
          <a:prstGeom prst="rect">
            <a:avLst/>
          </a:prstGeom>
          <a:solidFill>
            <a:srgbClr val="ffd7cc">
              <a:alpha val="44000"/>
            </a:srgbClr>
          </a:solidFill>
          <a:ln w="0">
            <a:noFill/>
          </a:ln>
          <a:effectLst>
            <a:outerShdw dist="50760" dir="54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3720" y="317520"/>
            <a:ext cx="82346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Results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7BF3-8A26-46F7-8CCC-8CAFBEBF9D5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39" name="Content Placeholder 6" descr=""/>
          <p:cNvPicPr/>
          <p:nvPr/>
        </p:nvPicPr>
        <p:blipFill>
          <a:blip r:embed="rId1"/>
          <a:stretch/>
        </p:blipFill>
        <p:spPr>
          <a:xfrm>
            <a:off x="1405080" y="2925720"/>
            <a:ext cx="5879880" cy="3840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14280" y="1009800"/>
            <a:ext cx="85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For 5 different BF the real CO2 impact was calculated using a differential reasoning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Result is remarkably robust and independent of the raw material mix used (sinter, pellets, lump ore)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Application of correction seems to effectively account for the impact of slag quantity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7760" y="32976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Conclusion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6560" y="1337760"/>
            <a:ext cx="8236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Present analysis shows 550kgCO2/t slag to be a robust value representing the actual cost for producing slag through the BF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s value is indispensable for benchmarking of BF operations on Hot Metal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t allows for a reasonable comparison of very different steel making routes (DRI/ EAF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value is much lower than the benchmark value for producing grey clinker (766kgCO2/t) =&gt;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No reason to discourage the production of slag on the condition it is granulated and used as clinker substitute avoiding huge tailing pond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t seems reasonable to use this value in LCA evaluation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ED0-9FC6-4043-B288-FEA12F88F7D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032-A72E-4F4C-BF28-F4500EC1F9A0}" type="datetime">
              <a:rPr b="0" lang="en-GB" sz="11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F8CF-7055-474E-9CBE-802B6E48809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Thank you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pic>
        <p:nvPicPr>
          <p:cNvPr id="250" name="Picture 3" descr="kite"/>
          <p:cNvPicPr/>
          <p:nvPr/>
        </p:nvPicPr>
        <p:blipFill>
          <a:blip r:embed="rId1"/>
          <a:stretch/>
        </p:blipFill>
        <p:spPr>
          <a:xfrm>
            <a:off x="177840" y="1638360"/>
            <a:ext cx="87757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763720" y="2252520"/>
            <a:ext cx="3567240" cy="2140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32976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Place of the Blast furnace in the material production Worldwid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4119-7AD0-4986-B623-F763F27280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55520" y="3589200"/>
            <a:ext cx="3502080" cy="210024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7"/>
          <p:cNvSpPr/>
          <p:nvPr/>
        </p:nvSpPr>
        <p:spPr>
          <a:xfrm flipV="1">
            <a:off x="1609560" y="4230720"/>
            <a:ext cx="2279880" cy="100944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1" name="Straight Connector 9"/>
          <p:cNvSpPr/>
          <p:nvPr/>
        </p:nvSpPr>
        <p:spPr>
          <a:xfrm flipV="1">
            <a:off x="1619280" y="2401920"/>
            <a:ext cx="2270160" cy="239544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6791400" y="1398600"/>
            <a:ext cx="1647720" cy="302904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13"/>
          <p:cNvCxnSpPr/>
          <p:nvPr/>
        </p:nvCxnSpPr>
        <p:spPr>
          <a:xfrm flipH="1">
            <a:off x="6290640" y="3568320"/>
            <a:ext cx="1283400" cy="824760"/>
          </a:xfrm>
          <a:prstGeom prst="straightConnector1">
            <a:avLst/>
          </a:prstGeom>
          <a:ln w="6480">
            <a:solidFill>
              <a:srgbClr val="696969"/>
            </a:solidFill>
            <a:miter/>
            <a:tailEnd len="med" type="arrow" w="med"/>
          </a:ln>
        </p:spPr>
      </p:cxnSp>
      <p:cxnSp>
        <p:nvCxnSpPr>
          <p:cNvPr id="144" name="Straight Arrow Connector 15"/>
          <p:cNvCxnSpPr/>
          <p:nvPr/>
        </p:nvCxnSpPr>
        <p:spPr>
          <a:xfrm flipH="1">
            <a:off x="6330240" y="3568320"/>
            <a:ext cx="1243800" cy="1167480"/>
          </a:xfrm>
          <a:prstGeom prst="straightConnector1">
            <a:avLst/>
          </a:prstGeom>
          <a:ln w="6480">
            <a:solidFill>
              <a:srgbClr val="696969"/>
            </a:solidFill>
            <a:miter/>
            <a:tailEnd len="med" type="arrow" w="med"/>
          </a:ln>
        </p:spPr>
      </p:cxnSp>
      <p:sp>
        <p:nvSpPr>
          <p:cNvPr id="145" name="TextBox 16"/>
          <p:cNvSpPr/>
          <p:nvPr/>
        </p:nvSpPr>
        <p:spPr>
          <a:xfrm>
            <a:off x="4809240" y="4222800"/>
            <a:ext cx="154620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Energy (BF gas)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5483520" y="4581360"/>
            <a:ext cx="87408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BF slag 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7458120" y="3657600"/>
            <a:ext cx="78408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166920" y="4981680"/>
            <a:ext cx="57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The Blast furnace produces 94% of all primary steel worldwide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It produces 3 different streams simultaneously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9" name="Straight Connector 19"/>
          <p:cNvSpPr/>
          <p:nvPr/>
        </p:nvSpPr>
        <p:spPr>
          <a:xfrm flipV="1">
            <a:off x="4643280" y="1398600"/>
            <a:ext cx="2148120" cy="102240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0" name="Straight Connector 23"/>
          <p:cNvSpPr/>
          <p:nvPr/>
        </p:nvSpPr>
        <p:spPr>
          <a:xfrm>
            <a:off x="4643280" y="4149720"/>
            <a:ext cx="2148120" cy="24300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804960" y="30765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4 most important material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2" name="TextBox 21504"/>
          <p:cNvSpPr/>
          <p:nvPr/>
        </p:nvSpPr>
        <p:spPr>
          <a:xfrm>
            <a:off x="3179880" y="1733400"/>
            <a:ext cx="22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94% primary steel with Blast Furnace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3" name="TextBox 21509"/>
          <p:cNvSpPr/>
          <p:nvPr/>
        </p:nvSpPr>
        <p:spPr>
          <a:xfrm>
            <a:off x="6669000" y="831960"/>
            <a:ext cx="195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1 process 3 product stream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40" y="124920"/>
            <a:ext cx="8234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Why do we want to know the carbon cost of slag production in the Blast Furnace?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9560" y="1270080"/>
            <a:ext cx="82360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re are basically 4 fundamental reasons why we need to determine the CO2 value/ cost of sla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measure and compare process performanc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termine the best possible production options &amp; technologie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cide on the desirability for Society to demand better raw materials quality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termine the life cycle impact of ste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B6F-0271-4DD4-8E4C-D0A39D8E8BD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400" y="235080"/>
            <a:ext cx="8696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①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Measuring and comparing </a:t>
            </a:r>
            <a:br>
              <a:rPr sz="3000"/>
            </a:b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       process performanc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7960" y="1118880"/>
            <a:ext cx="82360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re are two parameters that make benchmarking in primary steel making difficult: raw materials quality (can be measured by total BF slag production – granulated or not) and scrap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Both need to be neutralized for meaningful comparison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lag burdens in BF vary from 160kg/tHM to more than 600kg/tHM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amount of slag and BF gas needs to be neutralized in order to judge the performance of the BF on hot metal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451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BF produces 3 flows each with their own carbon cost: Hot metal; BF gas and BF slag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451"/>
              </a:spcBef>
              <a:buClr>
                <a:srgbClr val="ff37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Footprint of BF gas quite simple: natural gas equivalent (best available alternative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451"/>
              </a:spcBef>
              <a:buClr>
                <a:srgbClr val="ff37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Hot metal footprint = total carbon footprint – BF gas – BF slag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Example: how to tell Kazakh BF (650kg/t slag) manager how much coke is reasonable compared to the EU peers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BD2-0F78-4F41-B647-882C106B260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7840" y="139320"/>
            <a:ext cx="8693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②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Determining the best production options &amp;</a:t>
            </a:r>
            <a:br>
              <a:rPr sz="3000"/>
            </a:b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    technologies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9200" y="1172880"/>
            <a:ext cx="84726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BF route allows to produce ‘Granulated Blast Furnace slag’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Other technologies (EAF based) can only produce ‘stones’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Hence for equal performance a BF operation should be preferred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700"/>
                </a:solidFill>
                <a:latin typeface="Arial"/>
              </a:rPr>
              <a:t>How unequal the performance should become before the non-BF route would become more attractive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Everything depends on the CO2 cost of GBFS production…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A criterion could be the CO2 cost of technologies to convert non-granulatable slag in granulatable (ZEWA project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n SA consultants propose to use DRI/EAF as bench for primary steel makin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7A4-7CF4-42C7-A895-871DD3C2C9A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0" y="6210360"/>
            <a:ext cx="9161640" cy="39888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ithout the CO2 valorization of slag DRI/EAF would receive undue advantage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000" y="18684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fr-FR" sz="3000" spc="-1" strike="noStrike">
                <a:solidFill>
                  <a:srgbClr val="ff3700"/>
                </a:solidFill>
                <a:latin typeface="Arial"/>
              </a:rPr>
              <a:t>③</a:t>
            </a: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 To decide on the desirability for society to improve raw materials quality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Should the production of granulatable slag be discouraged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We can benificiate ores &amp; coal more and produce less sla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Use pellets instead of sint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67B-07AA-4753-BDAF-163D5D2B61A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459480" y="1762200"/>
            <a:ext cx="116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Blast Furnac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81200" y="1749600"/>
            <a:ext cx="116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Blast Furnac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642000" y="26719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Sinter Plant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886040" y="2336760"/>
            <a:ext cx="8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Pellet plant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738440" y="2941560"/>
            <a:ext cx="11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Ore Benefic.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25160" y="37162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Min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972080" y="37148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Min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Subdivision of HM and slag production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753240" y="1068480"/>
            <a:ext cx="593640" cy="28548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5316480" y="995400"/>
            <a:ext cx="1143000" cy="32076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597720" y="1806480"/>
            <a:ext cx="903240" cy="48600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597720" y="271620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860480" y="179388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1860480" y="2387520"/>
            <a:ext cx="903240" cy="48600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860480" y="299880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6599160" y="364176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1860480" y="362916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2014560" y="1030320"/>
            <a:ext cx="593640" cy="28584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070080" y="998640"/>
            <a:ext cx="594000" cy="32040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3262320" y="1589040"/>
            <a:ext cx="758880" cy="320760"/>
          </a:xfrm>
          <a:prstGeom prst="ellipse">
            <a:avLst/>
          </a:prstGeom>
          <a:solidFill>
            <a:srgbClr val="dcd4c2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cxnSp>
        <p:nvCxnSpPr>
          <p:cNvPr id="195" name="AutoShape 22"/>
          <p:cNvCxnSpPr>
            <a:stCxn id="183" idx="4"/>
            <a:endCxn id="185" idx="0"/>
          </p:cNvCxnSpPr>
          <p:nvPr/>
        </p:nvCxnSpPr>
        <p:spPr>
          <a:xfrm>
            <a:off x="7049880" y="1353960"/>
            <a:ext cx="1080" cy="4406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6" name="AutoShape 23"/>
          <p:cNvCxnSpPr>
            <a:stCxn id="186" idx="2"/>
            <a:endCxn id="190" idx="0"/>
          </p:cNvCxnSpPr>
          <p:nvPr/>
        </p:nvCxnSpPr>
        <p:spPr>
          <a:xfrm>
            <a:off x="7050240" y="3214440"/>
            <a:ext cx="2160" cy="41508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7" name="AutoShape 24"/>
          <p:cNvCxnSpPr>
            <a:stCxn id="194" idx="4"/>
            <a:endCxn id="189" idx="3"/>
          </p:cNvCxnSpPr>
          <p:nvPr/>
        </p:nvCxnSpPr>
        <p:spPr>
          <a:xfrm flipH="1">
            <a:off x="2763000" y="1909800"/>
            <a:ext cx="878760" cy="133272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8" name="AutoShape 25"/>
          <p:cNvCxnSpPr>
            <a:stCxn id="193" idx="4"/>
            <a:endCxn id="187" idx="0"/>
          </p:cNvCxnSpPr>
          <p:nvPr/>
        </p:nvCxnSpPr>
        <p:spPr>
          <a:xfrm flipH="1">
            <a:off x="2312640" y="1318680"/>
            <a:ext cx="1054800" cy="47556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9" name="AutoShape 26"/>
          <p:cNvCxnSpPr>
            <a:stCxn id="185" idx="0"/>
            <a:endCxn id="184" idx="4"/>
          </p:cNvCxnSpPr>
          <p:nvPr/>
        </p:nvCxnSpPr>
        <p:spPr>
          <a:xfrm flipH="1" flipV="1">
            <a:off x="5888160" y="1315800"/>
            <a:ext cx="1162440" cy="4910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0" name="AutoShape 27"/>
          <p:cNvCxnSpPr>
            <a:stCxn id="185" idx="2"/>
            <a:endCxn id="186" idx="0"/>
          </p:cNvCxnSpPr>
          <p:nvPr/>
        </p:nvCxnSpPr>
        <p:spPr>
          <a:xfrm>
            <a:off x="7049880" y="2304720"/>
            <a:ext cx="1080" cy="3992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1" name="AutoShape 28"/>
          <p:cNvCxnSpPr>
            <a:stCxn id="187" idx="2"/>
            <a:endCxn id="188" idx="0"/>
          </p:cNvCxnSpPr>
          <p:nvPr/>
        </p:nvCxnSpPr>
        <p:spPr>
          <a:xfrm>
            <a:off x="2312640" y="2292120"/>
            <a:ext cx="1080" cy="8316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2" name="AutoShape 29"/>
          <p:cNvCxnSpPr>
            <a:stCxn id="188" idx="2"/>
            <a:endCxn id="189" idx="0"/>
          </p:cNvCxnSpPr>
          <p:nvPr/>
        </p:nvCxnSpPr>
        <p:spPr>
          <a:xfrm>
            <a:off x="2312640" y="2886120"/>
            <a:ext cx="1080" cy="10080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3" name="AutoShape 30"/>
          <p:cNvCxnSpPr>
            <a:stCxn id="189" idx="2"/>
            <a:endCxn id="191" idx="0"/>
          </p:cNvCxnSpPr>
          <p:nvPr/>
        </p:nvCxnSpPr>
        <p:spPr>
          <a:xfrm>
            <a:off x="2312640" y="3497400"/>
            <a:ext cx="1080" cy="11952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4" name="AutoShape 31"/>
          <p:cNvCxnSpPr>
            <a:stCxn id="192" idx="4"/>
            <a:endCxn id="187" idx="0"/>
          </p:cNvCxnSpPr>
          <p:nvPr/>
        </p:nvCxnSpPr>
        <p:spPr>
          <a:xfrm>
            <a:off x="2311560" y="1316160"/>
            <a:ext cx="2160" cy="4658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5" name="AutoShape 32"/>
          <p:cNvCxnSpPr>
            <a:endCxn id="184" idx="2"/>
          </p:cNvCxnSpPr>
          <p:nvPr/>
        </p:nvCxnSpPr>
        <p:spPr>
          <a:xfrm flipV="1">
            <a:off x="4021200" y="1154880"/>
            <a:ext cx="1296000" cy="607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696969"/>
            </a:solidFill>
            <a:miter/>
            <a:tailEnd len="med" type="triangle" w="med"/>
          </a:ln>
        </p:spPr>
      </p:cxnSp>
      <p:sp>
        <p:nvSpPr>
          <p:cNvPr id="206" name="Text Box 33"/>
          <p:cNvSpPr/>
          <p:nvPr/>
        </p:nvSpPr>
        <p:spPr>
          <a:xfrm>
            <a:off x="3208320" y="15732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Tailing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5564880" y="985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GBF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026520" y="987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GBF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83120" y="104940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HM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2057400" y="99864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HM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11" name="Picture 38" descr=""/>
          <p:cNvPicPr/>
          <p:nvPr/>
        </p:nvPicPr>
        <p:blipFill>
          <a:blip r:embed="rId1"/>
          <a:stretch/>
        </p:blipFill>
        <p:spPr>
          <a:xfrm>
            <a:off x="2992320" y="2016000"/>
            <a:ext cx="3380040" cy="2076480"/>
          </a:xfrm>
          <a:prstGeom prst="rect">
            <a:avLst/>
          </a:prstGeom>
          <a:ln w="0">
            <a:noFill/>
          </a:ln>
        </p:spPr>
      </p:pic>
      <p:sp>
        <p:nvSpPr>
          <p:cNvPr id="212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317-FEFA-4EBA-AC7E-5513E8333F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355680" y="4216320"/>
            <a:ext cx="84326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96969"/>
                </a:solidFill>
                <a:latin typeface="Arial"/>
                <a:ea typeface="Arial"/>
              </a:rPr>
              <a:t>2 scenarios to compare: Which is the more desirable?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  <a:p>
            <a:pPr lvl="1" marL="8002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96969"/>
                </a:solidFill>
                <a:latin typeface="Arial"/>
                <a:ea typeface="Arial"/>
              </a:rPr>
              <a:t>Minimize slag volume - increase tailings volume - produce more clinker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1" marL="8002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96969"/>
                </a:solidFill>
                <a:latin typeface="Arial"/>
                <a:ea typeface="Arial"/>
              </a:rPr>
              <a:t>Minimize tailing ponds - use more GBFS - produce less clinker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96969"/>
                </a:solidFill>
                <a:latin typeface="Arial"/>
                <a:ea typeface="Arial"/>
              </a:rPr>
              <a:t>If CO2 cost of slag production ≤ CO2 of eq. Clinker production no reason to decrease (on the contrary)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0" y="6210360"/>
            <a:ext cx="9161640" cy="39888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CO2 cost of GBFS &lt; Equivalent clinker production: no need to reduce GBFS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240" y="166680"/>
            <a:ext cx="83739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④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To determine the life cycle impact of steel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7640" y="1309320"/>
            <a:ext cx="840420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o far most (WSA etc.) LCA systems use ‘system expansion’ i.e. the CO2 cost for clinker is attributed to GBFS (900kg/tGBFS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Over time this is not tenable – a given sector should not have to depend on another for determining its footprint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ement can/ will improve its performance = exogenous data are unfit for allocation they change all the tim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f GBFS is more efficient than clinker the benefit should be for the customer not the produc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Using the real impact leaves interest for the user as well as for the produc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Data analysis showed the value to be extremely robus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10D5-113F-4AFE-B55F-74483D24B11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5418000"/>
            <a:ext cx="9161640" cy="100872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ow CO2 values for GBFS should lead to an obligation to use GBFS over clinker for the cement user but also to a decrease of production for the steel maker since the steel footprint is too high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Methodology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1480" y="1719360"/>
            <a:ext cx="87613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Previous attempts to derive the impact of different slag burdens by correlation studies of different BF operations failed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o many other operational variables make the direct measurement of the slag impact on carbon emissions impossibl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We considered a «differential approach»: adding a marginal quantity of gangue how much will the carbon input of the BF change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mathematical BF model (MMBF) needs to calculate the new equilibrium (more slag = more carbon-in = also more BF gas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emissions of the sinter plant increase because more gangue requires more limestone/ dolomite to adjust slag basicity – only carbon content needs considerin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651-B9EC-4478-A010-D0BC4C5CE39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8:10Z</dcterms:created>
  <dc:creator>Bradbeer</dc:creator>
  <dc:description/>
  <dc:language>en-US</dc:language>
  <cp:lastModifiedBy>(c) LEROY Joel</cp:lastModifiedBy>
  <cp:lastPrinted>2015-04-03T15:52:25Z</cp:lastPrinted>
  <dcterms:modified xsi:type="dcterms:W3CDTF">2015-04-16T09:21:39Z</dcterms:modified>
  <cp:revision>266</cp:revision>
  <dc:subject/>
  <dc:title>Presentation title  second line</dc:title>
</cp:coreProperties>
</file>