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5128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D71-5625-41D5-8625-9483D355E4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FDB6-EEAA-4B2A-A09A-21C69C9E5FB0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AA77-64C4-4CFD-AADE-CA318E0736CE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Zero waste project EAF pour refondre les scories pour ajuster l’hydraulicit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itier granulable et hydrau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cup de mé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128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16E9-B069-4D37-8D5B-9E38C2BA863F}" type="slidenum">
              <a:rPr b="0" lang="en-GB" sz="1200" spc="-1" strike="noStrike">
                <a:solidFill>
                  <a:srgbClr val="6969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A5E-114E-4B49-87A5-B23DCEAD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0DBB-3F8D-401D-B40B-9DD169C0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17-70B9-4FAC-A631-F879B17C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D7D-8390-4690-AB86-4472AD4D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C0A2-2D60-4C5C-BA6B-640195B8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18B-71F2-4534-9859-6E13961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60CF-1C06-48FD-83F3-442C2654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3FC-C856-4E97-A07B-3EAFA3A4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3DF4-8B08-4A8E-8B16-87CEF885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B704-F451-43EB-B629-45F4E524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49CA-B3A3-4F79-B95E-BC2A8B2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20F-F0CA-44A8-BEFC-23141BB4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0AFF-CD64-4F90-9B63-062D493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AEA5-FB41-429E-A729-CEDB270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4C4F-2CBD-43E2-A5FA-1B6E1E6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E9C-C550-4B10-8407-01F1DBD5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ADEB-B9CA-4FDE-B9A2-8D4184F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F290-FDAB-4FF8-A938-CE7086BF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678B-24FB-4BAC-97EF-57B405C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03202-2414-44FD-BDB9-06B49537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84A4-333D-4162-B907-CC4F8A5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4848-9713-4836-AD7C-31B99CEF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CDF-44A4-47F6-841C-B9F77713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FC85-5A8B-476B-B561-7EB45D2A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ED2C-BFA9-4AA9-9456-24FF695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CA321-83F0-4779-8024-5B75D117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E9DC8-AAEE-4A9D-AA69-A53343A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716B-7D69-4C6E-82B2-BFE2BB7A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942C-C492-4405-B80F-FFCDA578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416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9120" y="196056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95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416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9120" y="4110120"/>
            <a:ext cx="26517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C6B9-62EB-4C05-BF61-03F6CA55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016-3A46-4019-BFAD-39F8A554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2F2-BA7B-4B07-80E4-B45D52D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7760" y="549360"/>
            <a:ext cx="82342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55AC-FED9-4EF9-81E4-8D9CC23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145-C682-47B6-ABF3-EBA7C0B8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9840" y="411012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C88-B431-42EF-8743-5C67DBC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956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840" y="1960560"/>
            <a:ext cx="401904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9560" y="4110120"/>
            <a:ext cx="823608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C23-07CE-436A-99AD-4CD1514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am"/>
          <p:cNvPicPr/>
          <p:nvPr/>
        </p:nvPicPr>
        <p:blipFill>
          <a:blip r:embed="rId2"/>
          <a:stretch/>
        </p:blipFill>
        <p:spPr>
          <a:xfrm>
            <a:off x="7485120" y="210960"/>
            <a:ext cx="1460520" cy="605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776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220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C632-AF8C-4D02-9534-B96F2AACB98C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3776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80220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51E7-21E7-4017-8E3E-91EF9DC28688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4" descr="am"/>
          <p:cNvPicPr/>
          <p:nvPr/>
        </p:nvPicPr>
        <p:blipFill>
          <a:blip r:embed="rId2"/>
          <a:stretch/>
        </p:blipFill>
        <p:spPr>
          <a:xfrm>
            <a:off x="7485120" y="210960"/>
            <a:ext cx="1460520" cy="605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4" marL="1352520" indent="-270000">
              <a:spcBef>
                <a:spcPts val="550"/>
              </a:spcBef>
              <a:buClr>
                <a:srgbClr val="ff37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5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6" marL="1352520" indent="-270000">
              <a:spcBef>
                <a:spcPts val="550"/>
              </a:spcBef>
              <a:buClr>
                <a:srgbClr val="69696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6/4/20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th Slag valorization symposium Leu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F6D-D2F3-4352-8A0F-D3C44767B3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1360" y="4003560"/>
            <a:ext cx="856296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arbon cost of Slag production in the blast furnac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4880" y="5418000"/>
            <a:ext cx="82533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ril 16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2015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th Slag valorization symposium Leuven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Data – Calculations - results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A2C-CBBB-45A4-947D-1D1E56B3A0C2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233280" y="879480"/>
            <a:ext cx="873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Comparison of standard operation with +50kg/tHM slag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Coke input was allowed to vary (PCI variation is similar)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Flame temperature is required to remain the same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Upstream requirements for additional coke production and limestone consumption are added into iron making plant model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33280" y="3017880"/>
            <a:ext cx="8732880" cy="33652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5332320" y="5427720"/>
            <a:ext cx="1198800" cy="676080"/>
          </a:xfrm>
          <a:prstGeom prst="rect">
            <a:avLst/>
          </a:prstGeom>
          <a:solidFill>
            <a:srgbClr val="ffd7cc">
              <a:alpha val="44000"/>
            </a:srgbClr>
          </a:solidFill>
          <a:ln w="0">
            <a:noFill/>
          </a:ln>
          <a:effectLst>
            <a:outerShdw dist="50760" dir="5400000" blurRad="0" rotWithShape="0">
              <a:srgbClr val="000000">
                <a:alpha val="1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3720" y="317520"/>
            <a:ext cx="82346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Results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BBA-4901-4DB8-B283-2E0166C02CA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39" name="Content Placeholder 6" descr=""/>
          <p:cNvPicPr/>
          <p:nvPr/>
        </p:nvPicPr>
        <p:blipFill>
          <a:blip r:embed="rId1"/>
          <a:stretch/>
        </p:blipFill>
        <p:spPr>
          <a:xfrm>
            <a:off x="1405080" y="2925720"/>
            <a:ext cx="5879880" cy="38401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314280" y="1009800"/>
            <a:ext cx="85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For 5 different BF the real CO2 impact was calculated using a differential reasoning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Result is remarkably robust and independent of the raw material mix used (sinter, pellets, lump ore)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Application of correction seems to effectively account for the impact of slag quantity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7760" y="32976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Conclusion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6560" y="1337760"/>
            <a:ext cx="82360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Present analysis shows 550kgCO2/t slag to be a robust value representing the actual cost for producing slag through the BF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is value is indispensable for benchmarking of BF operations on Hot Metal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t allows for a reasonable comparison of very different steel making routes (DRI/ EAF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value is much lower than the benchmark value for producing grey clinker (766kgCO2/t) =&gt;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No reason to discourage the production of slag on the condition it is granulated and used as clinker substitute avoiding huge tailing pond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t seems reasonable to use this value in LCA evaluation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3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0DAE-5F51-47C4-AB4B-57B6039B6AD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17B7-E862-4E26-ABE1-79B548AA24A3}" type="datetime">
              <a:rPr b="0" lang="en-GB" sz="11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CD56-EA68-4977-8601-9940BD866F2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Thank you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pic>
        <p:nvPicPr>
          <p:cNvPr id="250" name="Picture 3" descr="kite"/>
          <p:cNvPicPr/>
          <p:nvPr/>
        </p:nvPicPr>
        <p:blipFill>
          <a:blip r:embed="rId1"/>
          <a:stretch/>
        </p:blipFill>
        <p:spPr>
          <a:xfrm>
            <a:off x="177840" y="1638360"/>
            <a:ext cx="87757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763720" y="2252520"/>
            <a:ext cx="3567240" cy="2140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32976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Place of the Blast furnace in the material production Worldwid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3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8374-43E7-4E43-B7A6-6B3C54AB674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55520" y="3589200"/>
            <a:ext cx="3502080" cy="2100240"/>
          </a:xfrm>
          <a:prstGeom prst="rect">
            <a:avLst/>
          </a:prstGeom>
          <a:ln w="0">
            <a:noFill/>
          </a:ln>
        </p:spPr>
      </p:pic>
      <p:sp>
        <p:nvSpPr>
          <p:cNvPr id="140" name="Straight Connector 7"/>
          <p:cNvSpPr/>
          <p:nvPr/>
        </p:nvSpPr>
        <p:spPr>
          <a:xfrm flipV="1">
            <a:off x="1609560" y="4230720"/>
            <a:ext cx="2279880" cy="100944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1" name="Straight Connector 9"/>
          <p:cNvSpPr/>
          <p:nvPr/>
        </p:nvSpPr>
        <p:spPr>
          <a:xfrm flipV="1">
            <a:off x="1619280" y="2401920"/>
            <a:ext cx="2270160" cy="239544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3"/>
          <a:stretch/>
        </p:blipFill>
        <p:spPr>
          <a:xfrm>
            <a:off x="6791400" y="1398600"/>
            <a:ext cx="1647720" cy="3029040"/>
          </a:xfrm>
          <a:prstGeom prst="rect">
            <a:avLst/>
          </a:prstGeom>
          <a:ln w="0">
            <a:noFill/>
          </a:ln>
        </p:spPr>
      </p:pic>
      <p:cxnSp>
        <p:nvCxnSpPr>
          <p:cNvPr id="143" name="Straight Arrow Connector 13"/>
          <p:cNvCxnSpPr/>
          <p:nvPr/>
        </p:nvCxnSpPr>
        <p:spPr>
          <a:xfrm flipH="1">
            <a:off x="6290640" y="3568320"/>
            <a:ext cx="1283400" cy="824760"/>
          </a:xfrm>
          <a:prstGeom prst="straightConnector1">
            <a:avLst/>
          </a:prstGeom>
          <a:ln w="6480">
            <a:solidFill>
              <a:srgbClr val="696969"/>
            </a:solidFill>
            <a:miter/>
            <a:tailEnd len="med" type="arrow" w="med"/>
          </a:ln>
        </p:spPr>
      </p:cxnSp>
      <p:cxnSp>
        <p:nvCxnSpPr>
          <p:cNvPr id="144" name="Straight Arrow Connector 15"/>
          <p:cNvCxnSpPr/>
          <p:nvPr/>
        </p:nvCxnSpPr>
        <p:spPr>
          <a:xfrm flipH="1">
            <a:off x="6330240" y="3568320"/>
            <a:ext cx="1243800" cy="1167480"/>
          </a:xfrm>
          <a:prstGeom prst="straightConnector1">
            <a:avLst/>
          </a:prstGeom>
          <a:ln w="6480">
            <a:solidFill>
              <a:srgbClr val="696969"/>
            </a:solidFill>
            <a:miter/>
            <a:tailEnd len="med" type="arrow" w="med"/>
          </a:ln>
        </p:spPr>
      </p:cxnSp>
      <p:sp>
        <p:nvSpPr>
          <p:cNvPr id="145" name="TextBox 16"/>
          <p:cNvSpPr/>
          <p:nvPr/>
        </p:nvSpPr>
        <p:spPr>
          <a:xfrm>
            <a:off x="4809240" y="4222800"/>
            <a:ext cx="154620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Energy (BF gas)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6" name="TextBox 21"/>
          <p:cNvSpPr/>
          <p:nvPr/>
        </p:nvSpPr>
        <p:spPr>
          <a:xfrm>
            <a:off x="5483520" y="4581360"/>
            <a:ext cx="87408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BF slag 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7" name="TextBox 22"/>
          <p:cNvSpPr/>
          <p:nvPr/>
        </p:nvSpPr>
        <p:spPr>
          <a:xfrm>
            <a:off x="7458120" y="3657600"/>
            <a:ext cx="784080" cy="307080"/>
          </a:xfrm>
          <a:prstGeom prst="rect">
            <a:avLst/>
          </a:prstGeom>
          <a:noFill/>
          <a:ln w="9360">
            <a:solidFill>
              <a:srgbClr val="ff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96969"/>
                </a:solidFill>
                <a:latin typeface="Arial"/>
                <a:ea typeface="Arial"/>
              </a:rPr>
              <a:t>            </a:t>
            </a:r>
            <a:endParaRPr b="0" lang="en-US" sz="1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166920" y="4981680"/>
            <a:ext cx="573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The Blast furnace produces 94% of all primary steel worldwide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969"/>
                </a:solidFill>
                <a:latin typeface="Arial"/>
                <a:ea typeface="Arial"/>
              </a:rPr>
              <a:t>It produces 3 different streams simultaneously</a:t>
            </a: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49" name="Straight Connector 19"/>
          <p:cNvSpPr/>
          <p:nvPr/>
        </p:nvSpPr>
        <p:spPr>
          <a:xfrm flipV="1">
            <a:off x="4643280" y="1398600"/>
            <a:ext cx="2148120" cy="102240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0" name="Straight Connector 23"/>
          <p:cNvSpPr/>
          <p:nvPr/>
        </p:nvSpPr>
        <p:spPr>
          <a:xfrm>
            <a:off x="4643280" y="4149720"/>
            <a:ext cx="2148120" cy="243000"/>
          </a:xfrm>
          <a:prstGeom prst="line">
            <a:avLst/>
          </a:prstGeom>
          <a:ln w="648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804960" y="30765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4 most important material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2" name="TextBox 21504"/>
          <p:cNvSpPr/>
          <p:nvPr/>
        </p:nvSpPr>
        <p:spPr>
          <a:xfrm>
            <a:off x="3179880" y="1733400"/>
            <a:ext cx="22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94% primary steel with Blast Furnace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3" name="TextBox 21509"/>
          <p:cNvSpPr/>
          <p:nvPr/>
        </p:nvSpPr>
        <p:spPr>
          <a:xfrm>
            <a:off x="6669000" y="831960"/>
            <a:ext cx="195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96969"/>
                </a:solidFill>
                <a:latin typeface="Arial"/>
                <a:ea typeface="Arial"/>
              </a:rPr>
              <a:t>1 process 3 product stream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440" y="124920"/>
            <a:ext cx="82346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Why do we want to know the carbon cost of slag production in the Blast Furnace?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9560" y="1270080"/>
            <a:ext cx="82360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re are basically 4 fundamental reasons why we need to determine the CO2 value/ cost of sla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measure and compare process performanc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termine the best possible production options &amp; technologies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cide on the desirability for Society to demand better raw materials quality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3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 determine the life cycle impact of ste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290-4BFB-41D3-9499-79680CCF37A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400" y="235080"/>
            <a:ext cx="86961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①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Measuring and comparing </a:t>
            </a:r>
            <a:br>
              <a:rPr sz="3000"/>
            </a:b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       process performance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07960" y="1118880"/>
            <a:ext cx="8236080" cy="529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re are two parameters that make benchmarking in primary steel making difficult: raw materials quality (can be measured by total BF slag production – granulated or not) and scrap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Both need to be neutralized for meaningful comparison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lag burdens in BF vary from 160kg/tHM to more than 600kg/tHM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amount of slag and BF gas needs to be neutralized in order to judge the performance of the BF on hot metal level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2" marL="809640" indent="-264960">
              <a:spcBef>
                <a:spcPts val="451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BF produces 3 flows each with their own carbon cost: Hot metal; BF gas and BF slag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451"/>
              </a:spcBef>
              <a:buClr>
                <a:srgbClr val="ff37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Footprint of BF gas quite simple: natural gas equivalent (best available alternative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3" marL="1081080" indent="-270000">
              <a:spcBef>
                <a:spcPts val="451"/>
              </a:spcBef>
              <a:buClr>
                <a:srgbClr val="ff37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969"/>
                </a:solidFill>
                <a:latin typeface="Arial"/>
              </a:rPr>
              <a:t>Hot metal footprint = total carbon footprint – BF gas – BF slag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Example: how to tell Kazakh BF (650kg/t slag) manager how much coke is reasonable compared to the EU peers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711-0CDD-45AF-9DCD-48D0B9018E0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7840" y="139320"/>
            <a:ext cx="8693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②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Determining the best production options &amp;</a:t>
            </a:r>
            <a:br>
              <a:rPr sz="3000"/>
            </a:b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    technologies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9200" y="1172880"/>
            <a:ext cx="84726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BF route allows to produce ‘Granulated Blast Furnace slag’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Other technologies (EAF based) can only produce ‘stones’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Hence for equal performance a BF operation should be preferred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700"/>
                </a:solidFill>
                <a:latin typeface="Arial"/>
              </a:rPr>
              <a:t>How unequal the performance should become before the non-BF route would become more attractive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Everything depends on the CO2 cost of GBFS production…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A criterion could be the CO2 cost of technologies to convert non-granulatable slag in granulatable (ZEWA project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n SA consultants propose to use DRI/EAF as bench for primary steel makin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0D02-DC73-4BFE-923C-E5A51F65EBF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0" y="6210360"/>
            <a:ext cx="9161640" cy="39888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ithout the CO2 valorization of slag DRI/EAF would receive undue advantage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33000" y="186840"/>
            <a:ext cx="82342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fr-FR" sz="3000" spc="-1" strike="noStrike">
                <a:solidFill>
                  <a:srgbClr val="ff3700"/>
                </a:solidFill>
                <a:latin typeface="Arial"/>
              </a:rPr>
              <a:t>③</a:t>
            </a:r>
            <a:r>
              <a:rPr b="0" lang="fr-FR" sz="3000" spc="-1" strike="noStrike">
                <a:solidFill>
                  <a:srgbClr val="ff3700"/>
                </a:solidFill>
                <a:latin typeface="Arial"/>
              </a:rPr>
              <a:t> To decide on the desirability for society to improve raw materials quality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9560" y="1960560"/>
            <a:ext cx="823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Should the production of granulatable slag be discouraged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We can benificiate ores &amp; coal more and produce less sla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96969"/>
                </a:solidFill>
                <a:latin typeface="Arial"/>
              </a:rPr>
              <a:t>Use pellets instead of sint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3BF2-4FB1-4F42-AA68-DD11258E752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459480" y="1762200"/>
            <a:ext cx="116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Blast Furnac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681200" y="1749600"/>
            <a:ext cx="116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Blast Furnac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642000" y="26719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Sinter Plant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886040" y="2336760"/>
            <a:ext cx="8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Pellet plant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738440" y="2941560"/>
            <a:ext cx="118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Ore Benefic.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725160" y="37162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Min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972080" y="37148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Mine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Subdivision of HM and slag production</a:t>
            </a: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6753240" y="1068480"/>
            <a:ext cx="593640" cy="28548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5316480" y="995400"/>
            <a:ext cx="1143000" cy="32076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597720" y="1806480"/>
            <a:ext cx="903240" cy="48600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597720" y="271620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860480" y="179388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1860480" y="2387520"/>
            <a:ext cx="903240" cy="48600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860480" y="299880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6599160" y="364176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1860480" y="3629160"/>
            <a:ext cx="903240" cy="485640"/>
          </a:xfrm>
          <a:prstGeom prst="rect">
            <a:avLst/>
          </a:prstGeom>
          <a:noFill/>
          <a:ln w="255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2014560" y="1030320"/>
            <a:ext cx="593640" cy="28584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3070080" y="998640"/>
            <a:ext cx="594000" cy="320400"/>
          </a:xfrm>
          <a:prstGeom prst="ellipse">
            <a:avLst/>
          </a:prstGeom>
          <a:solidFill>
            <a:srgbClr val="8b819e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3262320" y="1589040"/>
            <a:ext cx="758880" cy="320760"/>
          </a:xfrm>
          <a:prstGeom prst="ellipse">
            <a:avLst/>
          </a:prstGeom>
          <a:solidFill>
            <a:srgbClr val="dcd4c2"/>
          </a:solidFill>
          <a:ln w="9360">
            <a:solidFill>
              <a:srgbClr val="6969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969"/>
              </a:solidFill>
              <a:latin typeface="Arial"/>
            </a:endParaRPr>
          </a:p>
        </p:txBody>
      </p:sp>
      <p:cxnSp>
        <p:nvCxnSpPr>
          <p:cNvPr id="195" name="AutoShape 22"/>
          <p:cNvCxnSpPr>
            <a:stCxn id="183" idx="4"/>
            <a:endCxn id="185" idx="0"/>
          </p:cNvCxnSpPr>
          <p:nvPr/>
        </p:nvCxnSpPr>
        <p:spPr>
          <a:xfrm>
            <a:off x="7049880" y="1353960"/>
            <a:ext cx="1080" cy="4406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6" name="AutoShape 23"/>
          <p:cNvCxnSpPr>
            <a:stCxn id="186" idx="2"/>
            <a:endCxn id="190" idx="0"/>
          </p:cNvCxnSpPr>
          <p:nvPr/>
        </p:nvCxnSpPr>
        <p:spPr>
          <a:xfrm>
            <a:off x="7050240" y="3214440"/>
            <a:ext cx="2160" cy="41508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7" name="AutoShape 24"/>
          <p:cNvCxnSpPr>
            <a:stCxn id="194" idx="4"/>
            <a:endCxn id="189" idx="3"/>
          </p:cNvCxnSpPr>
          <p:nvPr/>
        </p:nvCxnSpPr>
        <p:spPr>
          <a:xfrm flipH="1">
            <a:off x="2763000" y="1909800"/>
            <a:ext cx="878760" cy="133272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8" name="AutoShape 25"/>
          <p:cNvCxnSpPr>
            <a:stCxn id="193" idx="4"/>
            <a:endCxn id="187" idx="0"/>
          </p:cNvCxnSpPr>
          <p:nvPr/>
        </p:nvCxnSpPr>
        <p:spPr>
          <a:xfrm flipH="1">
            <a:off x="2312640" y="1318680"/>
            <a:ext cx="1054800" cy="47556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199" name="AutoShape 26"/>
          <p:cNvCxnSpPr>
            <a:stCxn id="185" idx="0"/>
            <a:endCxn id="184" idx="4"/>
          </p:cNvCxnSpPr>
          <p:nvPr/>
        </p:nvCxnSpPr>
        <p:spPr>
          <a:xfrm flipH="1" flipV="1">
            <a:off x="5888160" y="1315800"/>
            <a:ext cx="1162440" cy="4910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0" name="AutoShape 27"/>
          <p:cNvCxnSpPr>
            <a:stCxn id="185" idx="2"/>
            <a:endCxn id="186" idx="0"/>
          </p:cNvCxnSpPr>
          <p:nvPr/>
        </p:nvCxnSpPr>
        <p:spPr>
          <a:xfrm>
            <a:off x="7049880" y="2304720"/>
            <a:ext cx="1080" cy="3992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1" name="AutoShape 28"/>
          <p:cNvCxnSpPr>
            <a:stCxn id="187" idx="2"/>
            <a:endCxn id="188" idx="0"/>
          </p:cNvCxnSpPr>
          <p:nvPr/>
        </p:nvCxnSpPr>
        <p:spPr>
          <a:xfrm>
            <a:off x="2312640" y="2292120"/>
            <a:ext cx="1080" cy="8316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2" name="AutoShape 29"/>
          <p:cNvCxnSpPr>
            <a:stCxn id="188" idx="2"/>
            <a:endCxn id="189" idx="0"/>
          </p:cNvCxnSpPr>
          <p:nvPr/>
        </p:nvCxnSpPr>
        <p:spPr>
          <a:xfrm>
            <a:off x="2312640" y="2886120"/>
            <a:ext cx="1080" cy="10080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3" name="AutoShape 30"/>
          <p:cNvCxnSpPr>
            <a:stCxn id="189" idx="2"/>
            <a:endCxn id="191" idx="0"/>
          </p:cNvCxnSpPr>
          <p:nvPr/>
        </p:nvCxnSpPr>
        <p:spPr>
          <a:xfrm>
            <a:off x="2312640" y="3497400"/>
            <a:ext cx="1080" cy="11952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4" name="AutoShape 31"/>
          <p:cNvCxnSpPr>
            <a:stCxn id="192" idx="4"/>
            <a:endCxn id="187" idx="0"/>
          </p:cNvCxnSpPr>
          <p:nvPr/>
        </p:nvCxnSpPr>
        <p:spPr>
          <a:xfrm>
            <a:off x="2311560" y="1316160"/>
            <a:ext cx="2160" cy="465840"/>
          </a:xfrm>
          <a:prstGeom prst="straightConnector1">
            <a:avLst/>
          </a:prstGeom>
          <a:ln w="9360">
            <a:solidFill>
              <a:srgbClr val="696969"/>
            </a:solidFill>
            <a:miter/>
          </a:ln>
        </p:spPr>
      </p:cxnSp>
      <p:cxnSp>
        <p:nvCxnSpPr>
          <p:cNvPr id="205" name="AutoShape 32"/>
          <p:cNvCxnSpPr>
            <a:endCxn id="184" idx="2"/>
          </p:cNvCxnSpPr>
          <p:nvPr/>
        </p:nvCxnSpPr>
        <p:spPr>
          <a:xfrm flipV="1">
            <a:off x="4021200" y="1154880"/>
            <a:ext cx="1296000" cy="607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9360">
            <a:solidFill>
              <a:srgbClr val="696969"/>
            </a:solidFill>
            <a:miter/>
            <a:tailEnd len="med" type="triangle" w="med"/>
          </a:ln>
        </p:spPr>
      </p:cxnSp>
      <p:sp>
        <p:nvSpPr>
          <p:cNvPr id="206" name="Text Box 33"/>
          <p:cNvSpPr/>
          <p:nvPr/>
        </p:nvSpPr>
        <p:spPr>
          <a:xfrm>
            <a:off x="3208320" y="1573200"/>
            <a:ext cx="91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Tailing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5564880" y="985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GBF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3026520" y="9874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GBFS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83120" y="104940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HM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2057400" y="99864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66"/>
                </a:solidFill>
                <a:latin typeface="Comic Sans MS"/>
                <a:ea typeface="Arial"/>
              </a:rPr>
              <a:t>HM</a:t>
            </a:r>
            <a:endParaRPr b="0" lang="en-US" sz="1600" spc="-1" strike="noStrike">
              <a:solidFill>
                <a:srgbClr val="696969"/>
              </a:solidFill>
              <a:latin typeface="Arial"/>
            </a:endParaRPr>
          </a:p>
        </p:txBody>
      </p:sp>
      <p:pic>
        <p:nvPicPr>
          <p:cNvPr id="211" name="Picture 38" descr=""/>
          <p:cNvPicPr/>
          <p:nvPr/>
        </p:nvPicPr>
        <p:blipFill>
          <a:blip r:embed="rId1"/>
          <a:stretch/>
        </p:blipFill>
        <p:spPr>
          <a:xfrm>
            <a:off x="2992320" y="2016000"/>
            <a:ext cx="3380040" cy="2076480"/>
          </a:xfrm>
          <a:prstGeom prst="rect">
            <a:avLst/>
          </a:prstGeom>
          <a:ln w="0">
            <a:noFill/>
          </a:ln>
        </p:spPr>
      </p:pic>
      <p:sp>
        <p:nvSpPr>
          <p:cNvPr id="212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8109-D7FC-473E-9055-6BBA93D0DD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355680" y="4216320"/>
            <a:ext cx="843264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96969"/>
                </a:solidFill>
                <a:latin typeface="Arial"/>
                <a:ea typeface="Arial"/>
              </a:rPr>
              <a:t>2 scenarios to compare: Which is the more desirable?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  <a:p>
            <a:pPr lvl="1" marL="8002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96969"/>
                </a:solidFill>
                <a:latin typeface="Arial"/>
                <a:ea typeface="Arial"/>
              </a:rPr>
              <a:t>Minimize slag volume - increase tailings volume - produce more clinker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lvl="1" marL="8002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96969"/>
                </a:solidFill>
                <a:latin typeface="Arial"/>
                <a:ea typeface="Arial"/>
              </a:rPr>
              <a:t>Minimize tailing ponds - use more GBFS - produce less clinker</a:t>
            </a:r>
            <a:endParaRPr b="0" lang="en-US" sz="18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96969"/>
                </a:solidFill>
                <a:latin typeface="Arial"/>
                <a:ea typeface="Arial"/>
              </a:rPr>
              <a:t>If CO2 cost of slag production ≤ CO2 of eq. Clinker production no reason to decrease (on the contrary)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  <a:p>
            <a:pPr marL="343080" indent="-343080">
              <a:buClr>
                <a:srgbClr val="69696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0" y="6210360"/>
            <a:ext cx="9161640" cy="39888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CO2 cost of GBFS &lt; Equivalent clinker production: no need to reduce GBFS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6240" y="166680"/>
            <a:ext cx="837396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Q</a:t>
            </a:r>
            <a:r>
              <a:rPr b="1" lang="en-US" sz="3000" spc="-1" strike="noStrike">
                <a:solidFill>
                  <a:srgbClr val="ff3700"/>
                </a:solidFill>
                <a:latin typeface="Arial"/>
              </a:rPr>
              <a:t>④</a:t>
            </a: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 To determine the life cycle impact of steel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7640" y="1309320"/>
            <a:ext cx="840420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So far most (WSA etc.) LCA systems use ‘system expansion’ i.e. the CO2 cost for clinker is attributed to GBFS (900kg/tGBFS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Over time this is not tenable – a given sector should not have to depend on another for determining its footprint 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Cement can/ will improve its performance = exogenous data are unfit for allocation they change all the tim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If GBFS is more efficient than clinker the benefit should be for the customer not the produc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Using the real impact leaves interest for the user as well as for the producer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Data analysis showed the value to be extremely robust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0E6E-7219-4276-A930-F9848A18733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0" y="5418000"/>
            <a:ext cx="9161640" cy="1008720"/>
          </a:xfrm>
          <a:prstGeom prst="rect">
            <a:avLst/>
          </a:prstGeom>
          <a:solidFill>
            <a:srgbClr val="6969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ow CO2 values for GBFS should lead to an obligation to use GBFS over clinker for the cement user but also to a decrease of production for the steel maker since the steel footprint is too high</a:t>
            </a:r>
            <a:endParaRPr b="0" lang="en-US" sz="20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549360"/>
            <a:ext cx="82342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700"/>
                </a:solidFill>
                <a:latin typeface="Arial"/>
              </a:rPr>
              <a:t>Methodology</a:t>
            </a:r>
            <a:br>
              <a:rPr sz="3000"/>
            </a:br>
            <a:endParaRPr b="0" lang="en-US" sz="3000" spc="-1" strike="noStrike">
              <a:solidFill>
                <a:srgbClr val="ff37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31480" y="1719360"/>
            <a:ext cx="876132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Previous attempts to derive the impact of different slag burdens by correlation studies of different BF operations failed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oo many other operational variables make the direct measurement of the slag impact on carbon emissions impossible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marL="247680" indent="-247680">
              <a:spcBef>
                <a:spcPts val="550"/>
              </a:spcBef>
              <a:buClr>
                <a:srgbClr val="ff3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We considered a «differential approach»: adding a marginal quantity of gangue how much will the carbon input of the BF change?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mathematical BF model (MMBF) needs to calculate the new equilibrium (more slag = more carbon-in = also more BF gas)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  <a:p>
            <a:pPr lvl="1" marL="542880" indent="-293760">
              <a:spcBef>
                <a:spcPts val="550"/>
              </a:spcBef>
              <a:buClr>
                <a:srgbClr val="ff37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969"/>
                </a:solidFill>
                <a:latin typeface="Arial"/>
              </a:rPr>
              <a:t>The emissions of the sinter plant increase because more gangue requires more limestone/ dolomite to adjust slag basicity – only carbon content needs considering</a:t>
            </a:r>
            <a:endParaRPr b="0" lang="en-US" sz="22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438120" y="6673680"/>
            <a:ext cx="22813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/4/2015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228840" y="6673680"/>
            <a:ext cx="28958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th Slag valorization symposium Leuven</a:t>
            </a:r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802560" y="6673680"/>
            <a:ext cx="19047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507D-29B8-456A-A849-ACFD93FB32A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6969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7:38:10Z</dcterms:created>
  <dc:creator>Bradbeer</dc:creator>
  <dc:description/>
  <dc:language>en-US</dc:language>
  <cp:lastModifiedBy>(c) LEROY Joel</cp:lastModifiedBy>
  <cp:lastPrinted>2015-04-03T15:52:25Z</cp:lastPrinted>
  <dcterms:modified xsi:type="dcterms:W3CDTF">2015-04-16T09:21:39Z</dcterms:modified>
  <cp:revision>266</cp:revision>
  <dc:subject/>
  <dc:title>Presentation title  second line</dc:title>
</cp:coreProperties>
</file>