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B54-54E4-4F15-A912-EFC5EEAA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EEF-A528-4A83-8C13-844C279E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9CF-FB2B-4AF5-9849-3957B525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736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736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C55-2E2B-4667-AF78-37EA7ED5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4772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7F9-EDE5-4CA1-A412-11F6A11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736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736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975-61FE-4875-91F2-FA39C5EF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17A-7536-4960-83A9-4D979AE9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63E-B173-4B17-A4D2-663909D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4772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30B-2BDD-4AA5-A420-2F33C77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56F-E030-4843-81F6-418B175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B58-3B5F-41AB-AE4B-5958AEC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221-BD8C-4245-8A40-2D2C3B3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d89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2f270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5c0e1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4d895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172000" y="6568920"/>
            <a:ext cx="86364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7a131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33B-4DC2-4B04-88E7-7247782C659F}" type="datetime">
              <a:rPr b="0" lang="en-GB" sz="1100" spc="-1" strike="noStrike">
                <a:solidFill>
                  <a:srgbClr val="7a1315"/>
                </a:solidFill>
                <a:latin typeface="Calibri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062000" y="6568920"/>
            <a:ext cx="702000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131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a1315"/>
                </a:solidFill>
                <a:latin typeface="Calibri"/>
              </a:rPr>
              <a:t>Third International Slag Valorisation Symposium │ Author A, Author B, Author C, 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8000" y="6568920"/>
            <a:ext cx="53352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7a131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F6E-2D91-4C42-B63F-6867C198585C}" type="slidenum">
              <a:rPr b="0" lang="en-GB" sz="1100" spc="-1" strike="noStrike">
                <a:solidFill>
                  <a:srgbClr val="7a1315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131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d89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2f270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5c0e1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4d895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131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6184800" cy="23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5b3d"/>
                </a:solidFill>
                <a:latin typeface="Calibri"/>
              </a:rPr>
              <a:t>PRESENTATION TITLE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55640" y="3313080"/>
            <a:ext cx="6184800" cy="789120"/>
          </a:xfrm>
          <a:prstGeom prst="rect">
            <a:avLst/>
          </a:prstGeom>
          <a:noFill/>
          <a:ln w="0">
            <a:noFill/>
          </a:ln>
        </p:spPr>
        <p:txBody>
          <a:bodyPr rIns="108000" tIns="108000" bIns="1080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a1315"/>
                </a:solidFill>
                <a:latin typeface="Calibri"/>
              </a:rPr>
              <a:t>Author A, Author B, Author C, ...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6858000" y="692280"/>
            <a:ext cx="1800360" cy="1800000"/>
          </a:xfrm>
          <a:prstGeom prst="rect">
            <a:avLst/>
          </a:prstGeom>
          <a:solidFill>
            <a:srgbClr val="d9d9d9"/>
          </a:solidFill>
          <a:ln w="9360">
            <a:solidFill>
              <a:srgbClr val="327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2000" spc="-1" strike="noStrike">
                <a:solidFill>
                  <a:srgbClr val="327149"/>
                </a:solidFill>
                <a:latin typeface="Calibri"/>
              </a:rPr>
              <a:t>Replace with affiliation logo’s</a:t>
            </a:r>
            <a:endParaRPr b="0" lang="en-US" sz="2000" spc="-1" strike="noStrike">
              <a:solidFill>
                <a:srgbClr val="3631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rIns="108000" tIns="108000" bIns="1080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Do not forget to change presentation title, authors and affiliation logo(s)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Author information in the footer can be changed by changing the overall footer (</a:t>
            </a:r>
            <a:r>
              <a:rPr b="0" lang="en-GB" sz="2800" spc="-1" strike="noStrike">
                <a:solidFill>
                  <a:srgbClr val="6fae7f"/>
                </a:solidFill>
                <a:latin typeface="Calibri"/>
              </a:rPr>
              <a:t>insert → header &amp; footer</a:t>
            </a: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fae7f"/>
                </a:solidFill>
                <a:latin typeface="Calibri"/>
              </a:rPr>
              <a:t>Highlights</a:t>
            </a: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 can be </a:t>
            </a:r>
            <a:r>
              <a:rPr b="0" lang="en-GB" sz="2800" spc="-1" strike="noStrike">
                <a:solidFill>
                  <a:srgbClr val="c78a2b"/>
                </a:solidFill>
                <a:latin typeface="Calibri"/>
              </a:rPr>
              <a:t>made</a:t>
            </a: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 by using one of the </a:t>
            </a:r>
            <a:r>
              <a:rPr b="0" lang="en-GB" sz="2800" spc="-1" strike="noStrike">
                <a:solidFill>
                  <a:srgbClr val="c8002b"/>
                </a:solidFill>
                <a:latin typeface="Calibri"/>
              </a:rPr>
              <a:t>accent colours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7a1315"/>
                </a:solidFill>
                <a:latin typeface="Calibri"/>
              </a:rPr>
              <a:t>Symposium PowerPoint template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84" name="Tijdelijke aanduiding voor datum 3"/>
          <p:cNvSpPr/>
          <p:nvPr/>
        </p:nvSpPr>
        <p:spPr>
          <a:xfrm>
            <a:off x="8172360" y="6568920"/>
            <a:ext cx="863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7FCC-ADAF-4770-8531-CAAAC43F2FA7}" type="datetime">
              <a:rPr b="0" lang="en-GB" sz="1100" spc="-1" strike="noStrike">
                <a:solidFill>
                  <a:srgbClr val="7a1315"/>
                </a:solidFill>
                <a:latin typeface="Calibri"/>
              </a:rPr>
              <a:t>31/07/26</a:t>
            </a:fld>
            <a:endParaRPr b="0" lang="en-US" sz="1100" spc="-1" strike="noStrike">
              <a:solidFill>
                <a:srgbClr val="363121"/>
              </a:solidFill>
              <a:latin typeface="Arial"/>
            </a:endParaRPr>
          </a:p>
        </p:txBody>
      </p:sp>
      <p:sp>
        <p:nvSpPr>
          <p:cNvPr id="85" name="Tijdelijke aanduiding voor voettekst 4"/>
          <p:cNvSpPr/>
          <p:nvPr/>
        </p:nvSpPr>
        <p:spPr>
          <a:xfrm>
            <a:off x="1062000" y="6568920"/>
            <a:ext cx="70200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a1315"/>
                </a:solidFill>
                <a:latin typeface="Calibri"/>
              </a:rPr>
              <a:t>Third International Slag Valorisation Symposium │ Author A, Author B, Author C, ...</a:t>
            </a:r>
            <a:endParaRPr b="0" lang="en-US" sz="1100" spc="-1" strike="noStrike">
              <a:solidFill>
                <a:srgbClr val="363121"/>
              </a:solidFill>
              <a:latin typeface="Arial"/>
            </a:endParaRPr>
          </a:p>
        </p:txBody>
      </p:sp>
      <p:sp>
        <p:nvSpPr>
          <p:cNvPr id="86" name="Tijdelijke aanduiding voor dianummer 5"/>
          <p:cNvSpPr/>
          <p:nvPr/>
        </p:nvSpPr>
        <p:spPr>
          <a:xfrm>
            <a:off x="108000" y="6568920"/>
            <a:ext cx="5335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FB77-B667-4B92-9A24-E31A05ECDEAF}" type="slidenum">
              <a:rPr b="0" lang="en-GB" sz="1100" spc="-1" strike="noStrike">
                <a:solidFill>
                  <a:srgbClr val="7a1315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3631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4:32:56Z</dcterms:created>
  <dc:creator>An Serbruyns</dc:creator>
  <dc:description/>
  <dc:language>en-US</dc:language>
  <cp:lastModifiedBy>An Serbruyns</cp:lastModifiedBy>
  <dcterms:modified xsi:type="dcterms:W3CDTF">2013-01-03T08:32:05Z</dcterms:modified>
  <cp:revision>26</cp:revision>
  <dc:subject/>
  <dc:title>Dia 1</dc:title>
</cp:coreProperties>
</file>