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10.wmf" ContentType="image/x-wmf"/>
  <Override PartName="/ppt/media/image25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5.wmf" ContentType="image/x-wmf"/>
  <Override PartName="/ppt/media/image7.wmf" ContentType="image/x-wmf"/>
  <Override PartName="/ppt/media/image9.png" ContentType="image/png"/>
  <Override PartName="/ppt/media/image13.wmf" ContentType="image/x-wmf"/>
  <Override PartName="/ppt/media/image26.png" ContentType="image/png"/>
  <Override PartName="/ppt/media/image11.wmf" ContentType="image/x-wmf"/>
  <Override PartName="/ppt/media/image31.wmf" ContentType="image/x-wmf"/>
  <Override PartName="/ppt/media/image6.png" ContentType="image/png"/>
  <Override PartName="/ppt/media/image29.png" ContentType="image/png"/>
  <Override PartName="/ppt/media/image28.wmf" ContentType="image/x-wmf"/>
  <Override PartName="/ppt/media/image3.jpeg" ContentType="image/jpeg"/>
  <Override PartName="/ppt/media/image4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21.png" ContentType="image/png"/>
  <Override PartName="/ppt/media/image2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560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77280"/>
            <a:ext cx="2889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67E0-EB7C-4B40-BA23-A5248CA507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1111320" y="750960"/>
            <a:ext cx="444636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66720" y="4689000"/>
            <a:ext cx="532944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F37-9196-45D9-919A-FB0D6235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8E3-4271-480E-9960-8FA39BB4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F7B-BDA4-465A-BEDB-53CB1339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5CE-4188-4531-B9E2-C0AC0A8B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259-A567-4380-8310-A5B67BF4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753-8A89-41A9-A07D-7CCA97D0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887-DF18-4C82-B970-18E8FD6A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12C4-4273-41CC-A3D4-70B64A47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B87-A2C3-46ED-9679-6D3AC8CE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2EC-14FD-4B94-B0A9-2EC596FC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541-127A-46BE-8D59-19FF804C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6D4-CF85-4A88-9520-CF96A5DD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283D-DDC9-42BA-8CF9-C9B7255E91A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2.wmf"/><Relationship Id="rId7" Type="http://schemas.openxmlformats.org/officeDocument/2006/relationships/image" Target="../media/image23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Pictur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42560" y="1557360"/>
            <a:ext cx="748836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boratory scale extraction and further transformation of the iron component of red mu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905120" y="2666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1F36-1DBB-492E-BF7F-E41BBDB57470}" type="datetime5">
              <a:rPr b="0" lang="en-GB" sz="1200" spc="-1" strike="noStrike">
                <a:solidFill>
                  <a:srgbClr val="898989"/>
                </a:solidFill>
                <a:latin typeface="Calibri"/>
              </a:rPr>
              <a:t>28 Jul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D41B-2CE4-4FAA-851C-DE7283BB7EB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westchemlogo.jpg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9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2124000" y="1582560"/>
            <a:ext cx="5249880" cy="37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Picture3.jpg"/>
          <p:cNvPicPr/>
          <p:nvPr/>
        </p:nvPicPr>
        <p:blipFill>
          <a:blip r:embed="rId1"/>
          <a:stretch/>
        </p:blipFill>
        <p:spPr>
          <a:xfrm>
            <a:off x="-92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2843280" y="1052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611280" y="1252440"/>
            <a:ext cx="792144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gher added Fe containing product – ferrate (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E° 2.20 V in acidic so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werful, selective oxid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decontaminant /coagu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 Delaude and P Laszlo J Org Chem 61 6360 (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-Q Jiang and B Lloyd Water Res 36 1397 (200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paration from ferrous sulfate was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 Kanari et al J Phys Conf Ser 416 012013 (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Pictur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1476360" y="587700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324000" y="1628640"/>
            <a:ext cx="87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paration via oxidation of Fe(III) salt with hypochlorite in alkalin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chemical ox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y oxi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2930400" y="1065240"/>
            <a:ext cx="3816360" cy="2828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2009880" y="4051440"/>
            <a:ext cx="5657760" cy="26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Picture3.jpg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-479520" y="776160"/>
            <a:ext cx="5286600" cy="373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4356000" y="1197000"/>
            <a:ext cx="4610160" cy="2502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753080" cy="23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Pictur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631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000" y="985680"/>
            <a:ext cx="8135640" cy="57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r Hannian G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r Jose Rico Cer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fessor JiaQian Jia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hinese Scholarship Counc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acy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ritish Counci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dya Batra, Malini Balakrishn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ate Placeholder 5"/>
          <p:cNvSpPr/>
          <p:nvPr/>
        </p:nvSpPr>
        <p:spPr>
          <a:xfrm flipV="1">
            <a:off x="457200" y="6721560"/>
            <a:ext cx="154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westchemlogo.jpg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9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Picture3.jpg"/>
          <p:cNvPicPr/>
          <p:nvPr/>
        </p:nvPicPr>
        <p:blipFill>
          <a:blip r:embed="rId1"/>
          <a:stretch/>
        </p:blipFill>
        <p:spPr>
          <a:xfrm>
            <a:off x="-249120" y="7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611280" y="1700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Picture3.jpg"/>
          <p:cNvPicPr/>
          <p:nvPr/>
        </p:nvPicPr>
        <p:blipFill>
          <a:blip r:embed="rId1"/>
          <a:stretch/>
        </p:blipFill>
        <p:spPr>
          <a:xfrm>
            <a:off x="-3348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icture3.jpg"/>
          <p:cNvPicPr/>
          <p:nvPr/>
        </p:nvPicPr>
        <p:blipFill>
          <a:blip r:embed="rId1"/>
          <a:stretch/>
        </p:blipFill>
        <p:spPr>
          <a:xfrm>
            <a:off x="-28440" y="-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132000" y="620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Picture3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5076720" y="141300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2808360" cy="413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4211640" y="290520"/>
            <a:ext cx="3800520" cy="3168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4"/>
          <a:stretch/>
        </p:blipFill>
        <p:spPr>
          <a:xfrm>
            <a:off x="3851280" y="4076640"/>
            <a:ext cx="50418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Pictur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Picture3.jpg"/>
          <p:cNvPicPr/>
          <p:nvPr/>
        </p:nvPicPr>
        <p:blipFill>
          <a:blip r:embed="rId1"/>
          <a:stretch/>
        </p:blipFill>
        <p:spPr>
          <a:xfrm>
            <a:off x="-144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icture3.jpg"/>
          <p:cNvPicPr/>
          <p:nvPr/>
        </p:nvPicPr>
        <p:blipFill>
          <a:blip r:embed="rId1"/>
          <a:stretch/>
        </p:blipFill>
        <p:spPr>
          <a:xfrm>
            <a:off x="-96840" y="-12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539640" y="177336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Picture3.jpg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Pictur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2519280" y="2189160"/>
            <a:ext cx="4105440" cy="2486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476360" y="558972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  Evans, J Sustain Metall 2 (4) 316 (201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Picture3.jpg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Pictur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Graphical abstract: Hydrogen production from methane in the presence of red mud –making mud magnetic"/>
          <p:cNvPicPr/>
          <p:nvPr/>
        </p:nvPicPr>
        <p:blipFill>
          <a:blip r:embed="rId2"/>
          <a:stretch/>
        </p:blipFill>
        <p:spPr>
          <a:xfrm>
            <a:off x="3666960" y="4208400"/>
            <a:ext cx="2011680" cy="1508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74840" y="1015920"/>
            <a:ext cx="4032000" cy="253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4951440" y="981000"/>
            <a:ext cx="3230640" cy="227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755640" y="3933720"/>
            <a:ext cx="2846520" cy="2059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6"/>
          <a:stretch/>
        </p:blipFill>
        <p:spPr>
          <a:xfrm>
            <a:off x="5940360" y="3967200"/>
            <a:ext cx="2981520" cy="19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39640" y="2430360"/>
            <a:ext cx="8439120" cy="199728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97164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 Gu et al. RSC Advances 6 46421 (201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8108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08812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684360" y="1254240"/>
            <a:ext cx="280980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Imagen 1" descr=""/>
          <p:cNvPicPr/>
          <p:nvPr/>
        </p:nvPicPr>
        <p:blipFill>
          <a:blip r:embed="rId3"/>
          <a:stretch/>
        </p:blipFill>
        <p:spPr>
          <a:xfrm>
            <a:off x="4253040" y="1143000"/>
            <a:ext cx="396072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Imagen 15" descr=""/>
          <p:cNvPicPr/>
          <p:nvPr/>
        </p:nvPicPr>
        <p:blipFill>
          <a:blip r:embed="rId4"/>
          <a:stretch/>
        </p:blipFill>
        <p:spPr>
          <a:xfrm>
            <a:off x="2195640" y="3963960"/>
            <a:ext cx="4114800" cy="23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2443320" y="950760"/>
            <a:ext cx="4257360" cy="4962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0" y="475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6" descr=""/>
          <p:cNvPicPr/>
          <p:nvPr/>
        </p:nvPicPr>
        <p:blipFill>
          <a:blip r:embed="rId4"/>
          <a:stretch/>
        </p:blipFill>
        <p:spPr>
          <a:xfrm>
            <a:off x="1042920" y="1401840"/>
            <a:ext cx="2881440" cy="22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Object 3"/>
          <p:cNvGraphicFramePr/>
          <p:nvPr/>
        </p:nvGraphicFramePr>
        <p:xfrm>
          <a:off x="1476360" y="1407960"/>
          <a:ext cx="5434200" cy="176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1407960"/>
                    <a:ext cx="5434200" cy="17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图片 16" descr="C:\Users\Hannian GU\Desktop\DFe6.tif"/>
          <p:cNvPicPr/>
          <p:nvPr/>
        </p:nvPicPr>
        <p:blipFill>
          <a:blip r:embed="rId7"/>
          <a:stretch/>
        </p:blipFill>
        <p:spPr>
          <a:xfrm>
            <a:off x="1042920" y="4005360"/>
            <a:ext cx="2881440" cy="22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Object 5"/>
          <p:cNvGraphicFramePr/>
          <p:nvPr/>
        </p:nvGraphicFramePr>
        <p:xfrm>
          <a:off x="1692360" y="4005360"/>
          <a:ext cx="5433840" cy="1733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92360" y="4005360"/>
                    <a:ext cx="543384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Picture3.jpg"/>
          <p:cNvPicPr/>
          <p:nvPr/>
        </p:nvPicPr>
        <p:blipFill>
          <a:blip r:embed="rId1"/>
          <a:stretch/>
        </p:blipFill>
        <p:spPr>
          <a:xfrm>
            <a:off x="9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1619280" y="1650960"/>
            <a:ext cx="5040360" cy="3556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1332000" y="5805360"/>
            <a:ext cx="662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C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2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 → FeO      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6:10:16Z</dcterms:created>
  <dc:creator>alemun</dc:creator>
  <dc:description/>
  <dc:language>en-US</dc:language>
  <cp:lastModifiedBy>Justin Hargreaves</cp:lastModifiedBy>
  <cp:lastPrinted>2017-04-01T15:29:33Z</cp:lastPrinted>
  <dcterms:modified xsi:type="dcterms:W3CDTF">2017-04-01T15:30:41Z</dcterms:modified>
  <cp:revision>265</cp:revision>
  <dc:subject/>
  <dc:title>PowerPoint Presentation</dc:title>
</cp:coreProperties>
</file>