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10.wmf" ContentType="image/x-wmf"/>
  <Override PartName="/ppt/media/image25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5.wmf" ContentType="image/x-wmf"/>
  <Override PartName="/ppt/media/image7.wmf" ContentType="image/x-wmf"/>
  <Override PartName="/ppt/media/image9.png" ContentType="image/png"/>
  <Override PartName="/ppt/media/image13.wmf" ContentType="image/x-wmf"/>
  <Override PartName="/ppt/media/image26.png" ContentType="image/png"/>
  <Override PartName="/ppt/media/image11.wmf" ContentType="image/x-wmf"/>
  <Override PartName="/ppt/media/image31.wmf" ContentType="image/x-wmf"/>
  <Override PartName="/ppt/media/image6.png" ContentType="image/png"/>
  <Override PartName="/ppt/media/image29.png" ContentType="image/png"/>
  <Override PartName="/ppt/media/image28.wmf" ContentType="image/x-wmf"/>
  <Override PartName="/ppt/media/image3.jpeg" ContentType="image/jpeg"/>
  <Override PartName="/ppt/media/image4.wmf" ContentType="image/x-wmf"/>
  <Override PartName="/ppt/media/image1.jpeg" ContentType="image/jpeg"/>
  <Override PartName="/ppt/media/image15.wmf" ContentType="image/x-wmf"/>
  <Override PartName="/ppt/media/image14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21.png" ContentType="image/png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560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ACDA-8202-4446-B600-B5D3584921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20B-F98E-41EE-AD84-0CC1EBE1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131-C544-4A1D-BE33-17EE15FC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9B3-3288-44EB-8398-3D79B450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4E6D-2805-49E2-ADF8-A3C7FDA5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93A-BE84-49A9-82DE-3E88701D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D4F-3DDD-4CD9-8F45-E16CE0EB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952-43E8-44F4-890B-8FD436C2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98B-DA8D-4E3C-8317-5301094E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C7D5-F272-4F71-9524-9772C62D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EC3C-4169-4C3C-8AA5-4EBF3966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1092-1641-475A-99E8-ED261195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B2A5-383F-4A12-A0FF-1D85B0C8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FD9C-ADCB-45B3-A128-56196730F04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2.wmf"/><Relationship Id="rId7" Type="http://schemas.openxmlformats.org/officeDocument/2006/relationships/image" Target="../media/image23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Pictur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42560" y="1557360"/>
            <a:ext cx="748836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aboratory scale extraction and further transformation of the iron component of red mu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905120" y="2666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58BA-FE43-4FE0-B181-E29B6199ECDC}" type="datetime5">
              <a:rPr b="0" lang="en-GB" sz="1200" spc="-1" strike="noStrike">
                <a:solidFill>
                  <a:srgbClr val="898989"/>
                </a:solidFill>
                <a:latin typeface="Calibri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2EB6-239E-4A19-81DD-98FF06E2285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westchemlogo.jpg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9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2124000" y="1582560"/>
            <a:ext cx="5249880" cy="37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Picture3.jpg"/>
          <p:cNvPicPr/>
          <p:nvPr/>
        </p:nvPicPr>
        <p:blipFill>
          <a:blip r:embed="rId1"/>
          <a:stretch/>
        </p:blipFill>
        <p:spPr>
          <a:xfrm>
            <a:off x="-92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2843280" y="1052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611280" y="1252440"/>
            <a:ext cx="792144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gher added Fe containing product – ferrate (V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E° 2.20 V in acidic sol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werful, selective oxid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decontaminant /coagu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 Delaude and P Laszlo J Org Chem 61 6360 (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-Q Jiang and B Lloyd Water Res 36 1397 (200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paration from ferrous sulfate was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 Kanari et al J Phys Conf Ser 416 012013 (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Pictur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1476360" y="587700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324000" y="1628640"/>
            <a:ext cx="87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paration via oxidation of Fe(III) salt with hypochlorite in alkalin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ochemical ox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y oxi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2930400" y="1065240"/>
            <a:ext cx="3816360" cy="2828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2009880" y="4051440"/>
            <a:ext cx="5657760" cy="26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Picture3.jpg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-479520" y="776160"/>
            <a:ext cx="5286600" cy="373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4356000" y="1197000"/>
            <a:ext cx="4610160" cy="2502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753080" cy="23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Pictur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631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000" y="985680"/>
            <a:ext cx="8135640" cy="57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r Hannian G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r Jose Rico Cer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fessor JiaQian Jia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hinese Scholarship Counc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acy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ritish Counci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dya Batra, Malini Balakrishn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Date Placeholder 5"/>
          <p:cNvSpPr/>
          <p:nvPr/>
        </p:nvSpPr>
        <p:spPr>
          <a:xfrm flipV="1">
            <a:off x="457200" y="6721560"/>
            <a:ext cx="154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westchemlogo.jpg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9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Picture3.jpg"/>
          <p:cNvPicPr/>
          <p:nvPr/>
        </p:nvPicPr>
        <p:blipFill>
          <a:blip r:embed="rId1"/>
          <a:stretch/>
        </p:blipFill>
        <p:spPr>
          <a:xfrm>
            <a:off x="-249120" y="7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611280" y="17002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Picture3.jpg"/>
          <p:cNvPicPr/>
          <p:nvPr/>
        </p:nvPicPr>
        <p:blipFill>
          <a:blip r:embed="rId1"/>
          <a:stretch/>
        </p:blipFill>
        <p:spPr>
          <a:xfrm>
            <a:off x="-3348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icture3.jpg"/>
          <p:cNvPicPr/>
          <p:nvPr/>
        </p:nvPicPr>
        <p:blipFill>
          <a:blip r:embed="rId1"/>
          <a:stretch/>
        </p:blipFill>
        <p:spPr>
          <a:xfrm>
            <a:off x="-28440" y="-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132000" y="620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Picture3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5076720" y="1413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2808360" cy="413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4211640" y="290520"/>
            <a:ext cx="3800520" cy="316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4"/>
          <a:stretch/>
        </p:blipFill>
        <p:spPr>
          <a:xfrm>
            <a:off x="3851280" y="4076640"/>
            <a:ext cx="50418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Pictur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Picture3.jpg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Picture3.jpg"/>
          <p:cNvPicPr/>
          <p:nvPr/>
        </p:nvPicPr>
        <p:blipFill>
          <a:blip r:embed="rId1"/>
          <a:stretch/>
        </p:blipFill>
        <p:spPr>
          <a:xfrm>
            <a:off x="-96840" y="-126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539640" y="177336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Picture3.jpg"/>
          <p:cNvPicPr/>
          <p:nvPr/>
        </p:nvPicPr>
        <p:blipFill>
          <a:blip r:embed="rId1"/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Pictur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2519280" y="2189160"/>
            <a:ext cx="4105440" cy="2486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476360" y="558972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  Evans, J Sustain Metall 2 (4) 316 (201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Picture3.jpg"/>
          <p:cNvPicPr/>
          <p:nvPr/>
        </p:nvPicPr>
        <p:blipFill>
          <a:blip r:embed="rId1"/>
          <a:stretch/>
        </p:blipFill>
        <p:spPr>
          <a:xfrm>
            <a:off x="176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Pictur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Graphical abstract: Hydrogen production from methane in the presence of red mud –making mud magnetic"/>
          <p:cNvPicPr/>
          <p:nvPr/>
        </p:nvPicPr>
        <p:blipFill>
          <a:blip r:embed="rId2"/>
          <a:stretch/>
        </p:blipFill>
        <p:spPr>
          <a:xfrm>
            <a:off x="3666960" y="4208400"/>
            <a:ext cx="2011680" cy="1508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74840" y="1015920"/>
            <a:ext cx="4032000" cy="253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4951440" y="981000"/>
            <a:ext cx="3230640" cy="227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5"/>
          <a:stretch/>
        </p:blipFill>
        <p:spPr>
          <a:xfrm>
            <a:off x="755640" y="3933720"/>
            <a:ext cx="2846520" cy="2059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6"/>
          <a:stretch/>
        </p:blipFill>
        <p:spPr>
          <a:xfrm>
            <a:off x="5940360" y="3967200"/>
            <a:ext cx="2981520" cy="19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539640" y="2430360"/>
            <a:ext cx="8439120" cy="199728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97164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 Gu et al. RSC Advances 6 46421 (201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81080" y="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08812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684360" y="1254240"/>
            <a:ext cx="2809800" cy="1752480"/>
          </a:xfrm>
          <a:prstGeom prst="rect">
            <a:avLst/>
          </a:prstGeom>
          <a:ln w="0">
            <a:noFill/>
          </a:ln>
        </p:spPr>
      </p:pic>
      <p:pic>
        <p:nvPicPr>
          <p:cNvPr id="76" name="Imagen 1" descr=""/>
          <p:cNvPicPr/>
          <p:nvPr/>
        </p:nvPicPr>
        <p:blipFill>
          <a:blip r:embed="rId3"/>
          <a:stretch/>
        </p:blipFill>
        <p:spPr>
          <a:xfrm>
            <a:off x="4253040" y="1143000"/>
            <a:ext cx="396072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Imagen 15" descr=""/>
          <p:cNvPicPr/>
          <p:nvPr/>
        </p:nvPicPr>
        <p:blipFill>
          <a:blip r:embed="rId4"/>
          <a:stretch/>
        </p:blipFill>
        <p:spPr>
          <a:xfrm>
            <a:off x="2195640" y="3963960"/>
            <a:ext cx="4114800" cy="23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2443320" y="950760"/>
            <a:ext cx="4257360" cy="4962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0" y="475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6" descr=""/>
          <p:cNvPicPr/>
          <p:nvPr/>
        </p:nvPicPr>
        <p:blipFill>
          <a:blip r:embed="rId4"/>
          <a:stretch/>
        </p:blipFill>
        <p:spPr>
          <a:xfrm>
            <a:off x="1042920" y="1401840"/>
            <a:ext cx="2881440" cy="226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Object 3"/>
          <p:cNvGraphicFramePr/>
          <p:nvPr/>
        </p:nvGraphicFramePr>
        <p:xfrm>
          <a:off x="1476360" y="1407960"/>
          <a:ext cx="5434200" cy="176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1407960"/>
                    <a:ext cx="5434200" cy="17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图片 16" descr="C:\Users\Hannian GU\Desktop\DFe6.tif"/>
          <p:cNvPicPr/>
          <p:nvPr/>
        </p:nvPicPr>
        <p:blipFill>
          <a:blip r:embed="rId7"/>
          <a:stretch/>
        </p:blipFill>
        <p:spPr>
          <a:xfrm>
            <a:off x="1042920" y="4005360"/>
            <a:ext cx="2881440" cy="22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Object 5"/>
          <p:cNvGraphicFramePr/>
          <p:nvPr/>
        </p:nvGraphicFramePr>
        <p:xfrm>
          <a:off x="1692360" y="4005360"/>
          <a:ext cx="5433840" cy="1733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6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92360" y="4005360"/>
                    <a:ext cx="543384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1619280" y="1650960"/>
            <a:ext cx="5040360" cy="3556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1332000" y="5805360"/>
            <a:ext cx="662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C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2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 → FeO      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6:10:16Z</dcterms:created>
  <dc:creator>alemun</dc:creator>
  <dc:description/>
  <dc:language>en-US</dc:language>
  <cp:lastModifiedBy>Justin Hargreaves</cp:lastModifiedBy>
  <cp:lastPrinted>2017-04-01T15:29:33Z</cp:lastPrinted>
  <dcterms:modified xsi:type="dcterms:W3CDTF">2017-04-01T15:30:41Z</dcterms:modified>
  <cp:revision>265</cp:revision>
  <dc:subject/>
  <dc:title>PowerPoint Presentation</dc:title>
</cp:coreProperties>
</file>