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43463" cy="42843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219400" y="685440"/>
            <a:ext cx="241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fld id="{4FB134C2-2213-4401-A00C-05B18863B6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219400" y="685800"/>
            <a:ext cx="24192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fld id="{0C49839C-BBEB-4D31-BC29-8CF19DB25B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12000" y="2300436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545912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71468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91772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1200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071468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991772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12000" y="10025280"/>
            <a:ext cx="2721888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2721888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12000" y="1709280"/>
            <a:ext cx="27218880" cy="331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5912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0241800" cy="4284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0"/>
          <p:cNvSpPr/>
          <p:nvPr/>
        </p:nvSpPr>
        <p:spPr>
          <a:xfrm>
            <a:off x="-19080" y="40993920"/>
            <a:ext cx="30245040" cy="1836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2"/>
          <p:cNvSpPr/>
          <p:nvPr/>
        </p:nvSpPr>
        <p:spPr>
          <a:xfrm>
            <a:off x="752400" y="4500720"/>
            <a:ext cx="28797480" cy="3630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657680" y="584280"/>
            <a:ext cx="26517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SimHei"/>
              </a:rPr>
              <a:t>CONVERTING STEEL SLAG INTO SI-CA BASED BUILDING CERAMIC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648480" y="1677960"/>
            <a:ext cx="1565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ian Pei, Yu Li, Daqiang Cang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1235160" y="4572000"/>
            <a:ext cx="1982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Introduc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901800" y="8501040"/>
            <a:ext cx="909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Research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resul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289160" y="5419800"/>
            <a:ext cx="27976320" cy="30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 pyroxene based Si-Ca ceramic has been researched.  The Si-Ca ceramic is mainly composed of pyroxene group minerals with high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which belongs to a new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CaO-MgO-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ystem. It breaks through the limitations of  low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in traditional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Na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 (K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) ceramics and could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conver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t large amounts o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f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lag with high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in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to high value added ceramic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 Reusing steel slag in ceramics can help to improve utilization level of steel slag in quality and quantit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35160" y="9418680"/>
            <a:ext cx="28140120" cy="64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High content of slag: Containing 25-65wt.% steel slag (Fig. 1 ) with compositions (wt.%): 44-55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13-28 CaO, 10-20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 2-15 Mg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Excellent Mechanicals Performance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：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lexural strength of 2-3 times that of national standard (35 MPa) , as shown in Fig. 2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 Its main crystals are of pyroxenes minerals (augite, enstatite) , with a crystallization process (800  to 1100 ℃) prior to its densification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process (1150 to 1220 ℃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The pyroxenes played an important role of framework during the densification process, with small particles size (2-5 μm) and dense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structure of crystals  which was contributed to its good properti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Environment friendly: Stable solidification and low leaching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ehaviors of heavy metal (Fig. 3), such as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 C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V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et 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In pyroxene (M2M1T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6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) crystals,  M2 site for N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C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g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cations; M1 site for Mg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Ti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C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Z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ations; mainly T site for Si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ollowed by Al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nd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5"/>
          <p:cNvSpPr/>
          <p:nvPr/>
        </p:nvSpPr>
        <p:spPr>
          <a:xfrm>
            <a:off x="8601120" y="24258600"/>
            <a:ext cx="11747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2 Si-Ca Ceramics prepared from steel slag (30wt.%). (a)  Crystals, water sorption and flexural strength of Si-Ca ceramic under increasing firing temperature, the steel slag based ceramic has excellent properties with flexural strength of 107 MPa and water absorption rate of 0.045%. (b) SEM photographs of the cerami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1"/>
          <p:cNvSpPr/>
          <p:nvPr/>
        </p:nvSpPr>
        <p:spPr>
          <a:xfrm>
            <a:off x="16103520" y="24383160"/>
            <a:ext cx="104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47"/>
          <p:cNvGrpSpPr/>
          <p:nvPr/>
        </p:nvGrpSpPr>
        <p:grpSpPr>
          <a:xfrm>
            <a:off x="23618880" y="34736040"/>
            <a:ext cx="5321160" cy="5459400"/>
            <a:chOff x="23618880" y="34736040"/>
            <a:chExt cx="5321160" cy="5459400"/>
          </a:xfrm>
        </p:grpSpPr>
        <p:pic>
          <p:nvPicPr>
            <p:cNvPr id="55" name="Picture 5" descr="精钢砖铅镉检验"/>
            <p:cNvPicPr/>
            <p:nvPr/>
          </p:nvPicPr>
          <p:blipFill>
            <a:blip r:embed="rId1"/>
            <a:stretch/>
          </p:blipFill>
          <p:spPr>
            <a:xfrm>
              <a:off x="23618880" y="34736040"/>
              <a:ext cx="3429720" cy="49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图片 73" descr="m 001"/>
            <p:cNvPicPr/>
            <p:nvPr/>
          </p:nvPicPr>
          <p:blipFill>
            <a:blip r:embed="rId2"/>
            <a:srcRect l="0" t="6777" r="0" b="0"/>
            <a:stretch/>
          </p:blipFill>
          <p:spPr>
            <a:xfrm>
              <a:off x="24138720" y="35588880"/>
              <a:ext cx="297360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7" descr="全项检验2"/>
            <p:cNvPicPr/>
            <p:nvPr/>
          </p:nvPicPr>
          <p:blipFill>
            <a:blip r:embed="rId3"/>
            <a:srcRect l="0" t="0" r="0" b="18946"/>
            <a:stretch/>
          </p:blipFill>
          <p:spPr>
            <a:xfrm>
              <a:off x="24288840" y="36491040"/>
              <a:ext cx="2759400" cy="35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18" descr=""/>
            <p:cNvPicPr/>
            <p:nvPr/>
          </p:nvPicPr>
          <p:blipFill>
            <a:blip r:embed="rId4"/>
            <a:srcRect l="1155" t="6022" r="3658" b="14422"/>
            <a:stretch/>
          </p:blipFill>
          <p:spPr>
            <a:xfrm>
              <a:off x="25799400" y="35124480"/>
              <a:ext cx="294588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52" descr=""/>
            <p:cNvPicPr/>
            <p:nvPr/>
          </p:nvPicPr>
          <p:blipFill>
            <a:blip r:embed="rId5"/>
            <a:stretch/>
          </p:blipFill>
          <p:spPr>
            <a:xfrm>
              <a:off x="25863480" y="36158400"/>
              <a:ext cx="3076560" cy="40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53" descr=""/>
            <p:cNvPicPr/>
            <p:nvPr/>
          </p:nvPicPr>
          <p:blipFill>
            <a:blip r:embed="rId6"/>
            <a:srcRect l="28770" t="36909" r="41838" b="7672"/>
            <a:stretch/>
          </p:blipFill>
          <p:spPr>
            <a:xfrm>
              <a:off x="26340120" y="37882440"/>
              <a:ext cx="2564640" cy="21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文本框 2"/>
          <p:cNvSpPr/>
          <p:nvPr/>
        </p:nvSpPr>
        <p:spPr>
          <a:xfrm>
            <a:off x="23979240" y="40257360"/>
            <a:ext cx="57038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" tIns="1800" bIns="1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ctr" pos="103320"/>
                <a:tab algn="r" pos="20628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6 Related patents and test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993600" y="26206560"/>
            <a:ext cx="137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Application and outlook of Si-Ca based ceramic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066160" y="2448000"/>
            <a:ext cx="185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uli@ustb.edu.cn, cangdaqiang@metall.ustb.edu.cn, peidejian1990@126.co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9888480" y="3233880"/>
            <a:ext cx="163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Science and Technology Beijing, Beijing 100083, Chin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1289160" y="22402800"/>
            <a:ext cx="697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1 : Simulation of the crystal phases with steel slag content by Facts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6"/>
          <p:cNvGrpSpPr/>
          <p:nvPr/>
        </p:nvGrpSpPr>
        <p:grpSpPr>
          <a:xfrm>
            <a:off x="1154160" y="16367040"/>
            <a:ext cx="7051680" cy="5819760"/>
            <a:chOff x="1154160" y="16367040"/>
            <a:chExt cx="7051680" cy="5819760"/>
          </a:xfrm>
        </p:grpSpPr>
        <p:pic>
          <p:nvPicPr>
            <p:cNvPr id="67" name="Picture 44" descr=""/>
            <p:cNvPicPr/>
            <p:nvPr/>
          </p:nvPicPr>
          <p:blipFill>
            <a:blip r:embed="rId7"/>
            <a:stretch/>
          </p:blipFill>
          <p:spPr>
            <a:xfrm>
              <a:off x="1154160" y="16367040"/>
              <a:ext cx="7051680" cy="58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直接连接符 3"/>
            <p:cNvSpPr/>
            <p:nvPr/>
          </p:nvSpPr>
          <p:spPr>
            <a:xfrm flipH="1" flipV="1">
              <a:off x="4112640" y="16616520"/>
              <a:ext cx="17280" cy="4838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7" descr=""/>
          <p:cNvPicPr/>
          <p:nvPr/>
        </p:nvPicPr>
        <p:blipFill>
          <a:blip r:embed="rId8"/>
          <a:stretch/>
        </p:blipFill>
        <p:spPr>
          <a:xfrm>
            <a:off x="21626640" y="16551360"/>
            <a:ext cx="6492600" cy="81979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5"/>
          <p:cNvSpPr/>
          <p:nvPr/>
        </p:nvSpPr>
        <p:spPr>
          <a:xfrm>
            <a:off x="21636000" y="24574680"/>
            <a:ext cx="657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3 Flow chart for idea site occupancy of cations between the T, M1 and M2 sites of pyroxe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1060816"/>
          <p:cNvPicPr/>
          <p:nvPr/>
        </p:nvPicPr>
        <p:blipFill>
          <a:blip r:embed="rId9"/>
          <a:stretch/>
        </p:blipFill>
        <p:spPr>
          <a:xfrm>
            <a:off x="2422440" y="36407880"/>
            <a:ext cx="3336840" cy="30524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1" descr=""/>
          <p:cNvPicPr/>
          <p:nvPr/>
        </p:nvPicPr>
        <p:blipFill>
          <a:blip r:embed="rId10"/>
          <a:stretch/>
        </p:blipFill>
        <p:spPr>
          <a:xfrm>
            <a:off x="10969560" y="36021960"/>
            <a:ext cx="6389640" cy="3597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11"/>
          <a:srcRect l="0" t="9300" r="0" b="4059"/>
          <a:stretch/>
        </p:blipFill>
        <p:spPr>
          <a:xfrm>
            <a:off x="17510040" y="35955360"/>
            <a:ext cx="3384720" cy="2290680"/>
          </a:xfrm>
          <a:prstGeom prst="rect">
            <a:avLst/>
          </a:prstGeom>
          <a:ln w="0">
            <a:noFill/>
          </a:ln>
        </p:spPr>
      </p:pic>
      <p:pic>
        <p:nvPicPr>
          <p:cNvPr id="74" name="内容占位符 4" descr=""/>
          <p:cNvPicPr/>
          <p:nvPr/>
        </p:nvPicPr>
        <p:blipFill>
          <a:blip r:embed="rId12"/>
          <a:srcRect l="0" t="29965" r="0" b="0"/>
          <a:stretch/>
        </p:blipFill>
        <p:spPr>
          <a:xfrm>
            <a:off x="17540280" y="37444320"/>
            <a:ext cx="3753000" cy="231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5754600" y="36660240"/>
            <a:ext cx="2846520" cy="277164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12444480" y="24379200"/>
            <a:ext cx="30718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"/>
          <p:cNvSpPr/>
          <p:nvPr/>
        </p:nvSpPr>
        <p:spPr>
          <a:xfrm>
            <a:off x="13355640" y="29267280"/>
            <a:ext cx="354492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1063800" y="27230400"/>
            <a:ext cx="28139760" cy="77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pplication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Ceramic was produced from 45 wt.% stainless steel slag which contained 5.7 wt.% of Cr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. Results of leaching test of Cr, Pb and Cd in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eramics were respectively 25.17, 0.01 and 0.01 mg/kg, much lower than requirements of national standard of 100, 20 and 5 mg/kg (Fig.4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Ceramics was also prepared from red mud (proportion of 10-30 wt.% in raw materials) with good mechanical properties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including high bending strength of 127.39 MPa, low water absorption of 0.07% and good N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solidification behavior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3) As a new technology with proprietary intellectual property rights (Fig. 6), it has been applied into preparing ceramics from different soli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waste, such as steel slag, blast furnace slag, red mud, tailing, fly ash, ferroalloys slag and so on. At present, ceramic tiles from steel slag 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tailing have been produced on an industrial line in Guangdong and Guizhou province, in China (Fig. 5)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utloo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Effects of trace elements and sintering mechanisms in the ceramics prepared from different solid wastes need to be further research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New properties of the ceramics from metallurgical solid wastes should be revealed,  especially for function ceramic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1693800" y="39863880"/>
            <a:ext cx="86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4 Polished ceramic tiles from 45 wt.% stainless steel sla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2728160" y="39908160"/>
            <a:ext cx="69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5 Ceramic tiles produced on an industrial 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5"/>
          <p:cNvGrpSpPr/>
          <p:nvPr/>
        </p:nvGrpSpPr>
        <p:grpSpPr>
          <a:xfrm>
            <a:off x="8629560" y="16333920"/>
            <a:ext cx="11388960" cy="7707240"/>
            <a:chOff x="8629560" y="16333920"/>
            <a:chExt cx="11388960" cy="7707240"/>
          </a:xfrm>
        </p:grpSpPr>
        <p:grpSp>
          <p:nvGrpSpPr>
            <p:cNvPr id="82" name="组合 6"/>
            <p:cNvGrpSpPr/>
            <p:nvPr/>
          </p:nvGrpSpPr>
          <p:grpSpPr>
            <a:xfrm>
              <a:off x="8629560" y="16622640"/>
              <a:ext cx="11388960" cy="7418520"/>
              <a:chOff x="8629560" y="16622640"/>
              <a:chExt cx="11388960" cy="7418520"/>
            </a:xfrm>
          </p:grpSpPr>
          <p:pic>
            <p:nvPicPr>
              <p:cNvPr id="83" name="图片 34" descr=""/>
              <p:cNvPicPr/>
              <p:nvPr/>
            </p:nvPicPr>
            <p:blipFill>
              <a:blip r:embed="rId14"/>
              <a:srcRect l="43595" t="7293" r="0" b="0"/>
              <a:stretch/>
            </p:blipFill>
            <p:spPr>
              <a:xfrm>
                <a:off x="16366680" y="20199960"/>
                <a:ext cx="3651840" cy="34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图片 1" descr=""/>
              <p:cNvPicPr/>
              <p:nvPr/>
            </p:nvPicPr>
            <p:blipFill>
              <a:blip r:embed="rId15"/>
              <a:srcRect l="5689" t="18642" r="59999" b="24267"/>
              <a:stretch/>
            </p:blipFill>
            <p:spPr>
              <a:xfrm>
                <a:off x="15134040" y="17310960"/>
                <a:ext cx="2388600" cy="22554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5" name="直接箭头连接符 20"/>
              <p:cNvCxnSpPr/>
              <p:nvPr/>
            </p:nvCxnSpPr>
            <p:spPr>
              <a:xfrm flipH="1" flipV="1">
                <a:off x="16534800" y="19347480"/>
                <a:ext cx="299160" cy="2972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pic>
            <p:nvPicPr>
              <p:cNvPr id="86" name="图片 11" descr=""/>
              <p:cNvPicPr/>
              <p:nvPr/>
            </p:nvPicPr>
            <p:blipFill>
              <a:blip r:embed="rId16"/>
              <a:srcRect l="26797" t="906" r="4579" b="2628"/>
              <a:stretch/>
            </p:blipFill>
            <p:spPr>
              <a:xfrm>
                <a:off x="10837440" y="19907640"/>
                <a:ext cx="4893480" cy="41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79" descr=""/>
              <p:cNvPicPr/>
              <p:nvPr/>
            </p:nvPicPr>
            <p:blipFill>
              <a:blip r:embed="rId17"/>
              <a:srcRect l="13873" t="34218" r="52922" b="10659"/>
              <a:stretch/>
            </p:blipFill>
            <p:spPr>
              <a:xfrm>
                <a:off x="8629560" y="16622640"/>
                <a:ext cx="3868920" cy="38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文本框 5"/>
              <p:cNvSpPr/>
              <p:nvPr/>
            </p:nvSpPr>
            <p:spPr>
              <a:xfrm>
                <a:off x="14934960" y="19710720"/>
                <a:ext cx="1306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98760"/>
                    <a:tab algn="l" pos="3197160"/>
                    <a:tab algn="l" pos="4795920"/>
                    <a:tab algn="l" pos="6394320"/>
                    <a:tab algn="l" pos="7993080"/>
                    <a:tab algn="l" pos="959184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  <a:ea typeface="华文仿宋"/>
                  </a:rPr>
                  <a:t>107MP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" name="直接箭头连接符 7"/>
              <p:cNvCxnSpPr/>
              <p:nvPr/>
            </p:nvCxnSpPr>
            <p:spPr>
              <a:xfrm flipH="1">
                <a:off x="14754960" y="20114280"/>
                <a:ext cx="800640" cy="83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" name="文本框 28"/>
              <p:cNvSpPr/>
              <p:nvPr/>
            </p:nvSpPr>
            <p:spPr>
              <a:xfrm>
                <a:off x="14926320" y="23520960"/>
                <a:ext cx="19738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98760"/>
                    <a:tab algn="l" pos="3197160"/>
                    <a:tab algn="l" pos="4795920"/>
                    <a:tab algn="l" pos="6394320"/>
                    <a:tab algn="l" pos="7993080"/>
                    <a:tab algn="l" pos="959184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  <a:ea typeface="华文仿宋"/>
                  </a:rPr>
                  <a:t>0.045%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直接箭头连接符 29"/>
              <p:cNvCxnSpPr/>
              <p:nvPr/>
            </p:nvCxnSpPr>
            <p:spPr>
              <a:xfrm flipH="1" flipV="1">
                <a:off x="14674320" y="23258880"/>
                <a:ext cx="388440" cy="330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矩形 1"/>
            <p:cNvSpPr/>
            <p:nvPr/>
          </p:nvSpPr>
          <p:spPr>
            <a:xfrm>
              <a:off x="11987640" y="16333920"/>
              <a:ext cx="3448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598760"/>
                  <a:tab algn="l" pos="3197160"/>
                  <a:tab algn="l" pos="4795920"/>
                  <a:tab algn="l" pos="6394320"/>
                  <a:tab algn="l" pos="7993080"/>
                  <a:tab algn="l" pos="95918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yroxen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598760"/>
                  <a:tab algn="l" pos="3197160"/>
                  <a:tab algn="l" pos="4795920"/>
                  <a:tab algn="l" pos="6394320"/>
                  <a:tab algn="l" pos="7993080"/>
                  <a:tab algn="l" pos="95918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ugite, enstatite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直接箭头连接符 3"/>
            <p:cNvCxnSpPr/>
            <p:nvPr/>
          </p:nvCxnSpPr>
          <p:spPr>
            <a:xfrm flipH="1">
              <a:off x="12229920" y="17268840"/>
              <a:ext cx="623160" cy="52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94" name="图片 1" descr=""/>
          <p:cNvPicPr/>
          <p:nvPr/>
        </p:nvPicPr>
        <p:blipFill>
          <a:blip r:embed="rId18"/>
          <a:stretch/>
        </p:blipFill>
        <p:spPr>
          <a:xfrm>
            <a:off x="17640" y="58680"/>
            <a:ext cx="4162320" cy="4162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7738920" y="41530680"/>
            <a:ext cx="163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tional Slag Valorisation Symposium 2017 (KU LEUVEN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12:51:19Z</dcterms:created>
  <dc:creator>WG</dc:creator>
  <dc:description/>
  <dc:language>en-US</dc:language>
  <cp:lastModifiedBy>Ilska Cremers</cp:lastModifiedBy>
  <dcterms:modified xsi:type="dcterms:W3CDTF">2017-03-24T15:23:59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1</vt:lpwstr>
  </property>
</Properties>
</file>