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099-9744-4A4F-BA36-10B9EB133675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437-48AE-4160-BCBA-A6640DFF09AA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D905-39A4-4A76-8169-AF2E3653910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4803-2549-4D74-BB43-F19AEFCA3E7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1DE-B2BD-4466-B86D-92E59F2F30EC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878-60B7-4DE5-AD1E-8A2738667128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A high level techno-economic evaluation was conducted on six conceptual flowsheets for a plant modifying 355 kt/annum of waste slag. Because of different MnO levels in the starting waste slag, it was found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2D2E-D890-444F-83DC-D674F2350E9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5A93-056E-4770-B958-25298CC64B6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Mn leaches from the slag and potentially to ground water, most of all takes up land space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7DB4-BAAF-439D-97B1-02A37F439BDB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Calibri"/>
              </a:rPr>
              <a:t>The initial approach to reusing manganese ferroalloy slag, cement producers condition the manganese waste slag for the utilization as a cement ext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8A6B-20F1-4979-8D36-1ED38C0B3FA6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8D6-586D-4CC0-B508-85F1DEABA87E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9FF-CF97-44E4-97A1-3FF9B2BB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CA9-07D2-4498-93A7-FCA04D9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AF1-9C0E-4ADE-A2A4-A8CE346C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1F6-4322-4E5A-9060-15FF94D1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4CA5-CD14-4FEB-A7FA-FF757815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7C89-F8D0-436D-B5D5-452CA35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0CF7-390B-48F8-A4B0-AA30B7DE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E29C-E6D8-4615-ADF5-071F661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1770-380F-4F0C-A42A-54AC6D3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ED92-0E68-4EE8-B418-1444BB04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715A-CA68-4256-ABF1-64111FD1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4CB-67DF-4110-B449-975382AE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A1E8-9EF7-445A-B37C-1790D159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4298-9E8A-41BC-9107-5B167D30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44B1-0681-4441-87F0-1B30114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F502-C9E3-43F1-B434-AF551C9F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BBAB-B151-48D7-AEDC-83219465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955A7-EA0C-4088-A03F-855499B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CB04-07D5-4D07-AA6C-6817CFB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36ED-F62D-45BB-A000-9FF44A23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CB93-99D8-4B42-93C5-23FF101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1382-EF69-48F7-89D3-D49E1EA1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E3D-A6BB-4AB2-A85F-AA150982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ADAF-8D17-4DCA-8CD6-6688C96F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4639-C096-462C-BCD4-4E8DC7B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BC83-3112-4A3E-8DEB-8D94612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CAF0-E65B-47F4-978F-EA4EACD1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258B-459D-446A-BCCD-0A8EAFE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AB44-10B3-4F5F-BD18-5A5A5FB5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62712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699280"/>
            <a:ext cx="264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E9B23-2873-404B-BB7D-8C4FFFDB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819-A593-4E4E-8BAA-694568B1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6D5D-196E-4C06-85CE-8029B8F4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600" cy="14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DEC-94C2-45E9-B97B-35B444B9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591-151D-46E8-80BE-FE9F7B0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69928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5AC-3481-4679-A891-E078F64D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022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627120"/>
            <a:ext cx="40158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699280"/>
            <a:ext cx="82296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B3B-7716-4E28-B8AE-6862D584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7ED-F9D1-4CAA-9E41-B3C085F58E2A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4038-2E99-4D5D-A694-C102019633BB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:\Studio work\ThabangL\3. Mintek\1. Mintek 2013 - Powerpoint Presentation\Final changes Powerpoints\HEADING STRIP.jpg"/>
          <p:cNvPicPr/>
          <p:nvPr/>
        </p:nvPicPr>
        <p:blipFill>
          <a:blip r:embed="rId2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Z:\Studio work\ThabangL\3. Mintek\1. Mintek 2013 - Powerpoint Presentation\Final changes Powerpoints\Mintek logo powerpoint.png"/>
          <p:cNvPicPr/>
          <p:nvPr/>
        </p:nvPicPr>
        <p:blipFill>
          <a:blip r:embed="rId3"/>
          <a:stretch/>
        </p:blipFill>
        <p:spPr>
          <a:xfrm>
            <a:off x="3527280" y="987480"/>
            <a:ext cx="2089440" cy="1751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036-319B-418F-A071-7977F248354E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9F6-FDC1-42FC-8C57-654DB72DF19D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Z:\Studio work\ThabangL\3. Mintek\1. Mintek 2013 - Powerpoint Presentation\Final changes Powerpoints\HEADING STRIP.jpg"/>
          <p:cNvPicPr/>
          <p:nvPr/>
        </p:nvPicPr>
        <p:blipFill>
          <a:blip r:embed="rId2"/>
          <a:stretch/>
        </p:blipFill>
        <p:spPr>
          <a:xfrm>
            <a:off x="0" y="141120"/>
            <a:ext cx="9144000" cy="459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62712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709C-6C56-49A3-953D-61786F2DB351}" type="datetime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27E0-5438-486E-873F-082E5DB791F4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wesleyb@mintek.co.za" TargetMode="External"/><Relationship Id="rId2" Type="http://schemas.openxmlformats.org/officeDocument/2006/relationships/hyperlink" Target="mailto:hl@mintek.co.za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438280" y="486900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33B-1049-4DAD-BAC8-D6ABDC7F3A2A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31920"/>
            <a:ext cx="822960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PRODUCTION OF CEMENT EXTENDER FROM MANGANESE S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. K. Ba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H. Lagend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uven, April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:\Users\ThabangL\Documents\1. MINTEK POWERPOINT TEMPLATES 2013\Images Used\Wide screen\widescreen minteklogoicon.png"/>
          <p:cNvPicPr/>
          <p:nvPr/>
        </p:nvPicPr>
        <p:blipFill>
          <a:blip r:embed="rId1"/>
          <a:stretch/>
        </p:blipFill>
        <p:spPr>
          <a:xfrm>
            <a:off x="7740720" y="4156200"/>
            <a:ext cx="13748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78D0-8B00-427A-BBD7-83EAC1CBCB4E}" type="slidenum">
              <a:rPr b="0" lang="en-ZA" sz="14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971640" y="326376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 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# Average composition from 4 bags of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rcRect l="2277" t="0" r="0" b="0"/>
          <a:stretch/>
        </p:blipFill>
        <p:spPr>
          <a:xfrm>
            <a:off x="3243240" y="627120"/>
            <a:ext cx="5834160" cy="4140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"/>
          <p:cNvSpPr/>
          <p:nvPr/>
        </p:nvSpPr>
        <p:spPr>
          <a:xfrm>
            <a:off x="3252960" y="627120"/>
            <a:ext cx="31104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 rot="16200000">
            <a:off x="2973960" y="16628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 in mass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1440" y="987120"/>
            <a:ext cx="32022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slags produced in the actual tests were similar to the compositions predicted by Pyro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079B-FFEC-4297-AA77-47EF9A28151F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139920" y="627120"/>
            <a:ext cx="5969160" cy="4140000"/>
          </a:xfrm>
          <a:prstGeom prst="rect">
            <a:avLst/>
          </a:prstGeom>
          <a:ln w="0">
            <a:noFill/>
          </a:ln>
        </p:spPr>
      </p:pic>
      <p:sp>
        <p:nvSpPr>
          <p:cNvPr id="235" name="Oval 6"/>
          <p:cNvSpPr/>
          <p:nvPr/>
        </p:nvSpPr>
        <p:spPr>
          <a:xfrm>
            <a:off x="7524720" y="939960"/>
            <a:ext cx="1008000" cy="351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81040" y="1131840"/>
            <a:ext cx="21016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Significant decreas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00"/>
                </a:solidFill>
                <a:latin typeface="Arial"/>
              </a:rPr>
              <a:t>31% to 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8"/>
          <p:cNvCxnSpPr>
            <a:stCxn id="236" idx="3"/>
          </p:cNvCxnSpPr>
          <p:nvPr/>
        </p:nvCxnSpPr>
        <p:spPr>
          <a:xfrm>
            <a:off x="2682720" y="2031480"/>
            <a:ext cx="4842720" cy="1477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TextBox 4"/>
          <p:cNvSpPr/>
          <p:nvPr/>
        </p:nvSpPr>
        <p:spPr>
          <a:xfrm>
            <a:off x="971640" y="3263760"/>
            <a:ext cx="230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 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# Average composition from 4 bags of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8920" y="774360"/>
            <a:ext cx="878364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slags produced in the actual tests were similar to the compositions predicted by Pyrosim (results in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8883-BD13-43D8-95AF-FEE60051E9C2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236600" y="1704960"/>
          <a:ext cx="6670800" cy="2409840"/>
        </p:xfrm>
        <a:graphic>
          <a:graphicData uri="http://schemas.openxmlformats.org/drawingml/2006/table">
            <a:tbl>
              <a:tblPr/>
              <a:tblGrid>
                <a:gridCol w="2998800"/>
                <a:gridCol w="1839960"/>
                <a:gridCol w="1832040"/>
              </a:tblGrid>
              <a:tr h="673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aO+MgO)/SiO</a:t>
                      </a:r>
                      <a:r>
                        <a:rPr b="1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ΣCaO+MgO+SiO</a:t>
                      </a:r>
                      <a:r>
                        <a:rPr b="1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657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test results (averag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v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8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ro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43" name="TextBox 4"/>
          <p:cNvSpPr/>
          <p:nvPr/>
        </p:nvSpPr>
        <p:spPr>
          <a:xfrm>
            <a:off x="1187280" y="4105440"/>
            <a:ext cx="55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THERMODYNAMIC SIM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5BE3-3C47-4861-9910-9FB6949D94FC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08040" y="1933560"/>
          <a:ext cx="6127920" cy="1574640"/>
        </p:xfrm>
        <a:graphic>
          <a:graphicData uri="http://schemas.openxmlformats.org/drawingml/2006/table">
            <a:tbl>
              <a:tblPr/>
              <a:tblGrid>
                <a:gridCol w="2987640"/>
                <a:gridCol w="760680"/>
                <a:gridCol w="758520"/>
                <a:gridCol w="811440"/>
                <a:gridCol w="80964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  <a:ea typeface="Segoe UI Light"/>
                        </a:rPr>
                        <a:t>Compon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test results (averag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v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ros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1547640" y="3508200"/>
            <a:ext cx="55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Average composition from 6 t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8920" y="774360"/>
            <a:ext cx="878364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compositions of the alloys produced in the actual tests were similar to the compositions predicted by Pyrosim (results in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03040" y="1275840"/>
            <a:ext cx="8737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echnical eval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production of a cleaner slag with low MnO, concurrently with SiMn alloy was successf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re were minor deviations between the Pyrosim simulations and the actual average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met the specifications for the GGBFS (EN-1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Very stable slag under aggressive acid leach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can be used as a cement 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888-9FDD-4E3B-ABE0-2110A098076F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3040" y="1347480"/>
            <a:ext cx="873792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echno-economic eval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umped HCFeMn can be processed profitably by remelting and slag treatment in an E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iMn slag would need to be modified in the molten state using a ladle/ladle furnace, in order for the process to be economically v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is more profitable to use silicon and FeSi than aluminium as the reductant and bauxite as a fl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ocessing of manganese waste slag according to the new concept was found to be economically fea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E80F-4CF3-47C9-BF45-85AC43E9A12E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C9B-700C-46A3-A046-1EC92989B3C7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5666" t="15000" r="10329" b="8004"/>
          <a:stretch/>
        </p:blipFill>
        <p:spPr>
          <a:xfrm>
            <a:off x="828720" y="866880"/>
            <a:ext cx="259092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"/>
          <p:cNvSpPr txBox="1"/>
          <p:nvPr/>
        </p:nvSpPr>
        <p:spPr>
          <a:xfrm>
            <a:off x="826920" y="842760"/>
            <a:ext cx="259272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Arial"/>
              </a:rPr>
              <a:t>Herman Lagend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3564000" y="954000"/>
            <a:ext cx="515124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is work is published by permission of Mintek. Mintek acknowledges the support of NIPMO (South Africa’s National Intellectual Property Management Office) in the ongoing maintenance of its IP portfo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4489560" y="3333600"/>
            <a:ext cx="32986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1"/>
          <p:cNvSpPr/>
          <p:nvPr/>
        </p:nvSpPr>
        <p:spPr>
          <a:xfrm>
            <a:off x="2519280" y="476568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C4A2-291E-462D-8EB7-53F7FD8F1E1E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18920" y="2176560"/>
            <a:ext cx="352908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www.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1f497d"/>
                </a:solidFill>
                <a:uFillTx/>
                <a:latin typeface="Arial"/>
                <a:ea typeface="Arial"/>
                <a:hlinkClick r:id="rId1"/>
              </a:rPr>
              <a:t>wesleyb@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 u="sng">
                <a:solidFill>
                  <a:srgbClr val="1f497d"/>
                </a:solidFill>
                <a:uFillTx/>
                <a:latin typeface="Arial"/>
                <a:ea typeface="Arial"/>
                <a:hlinkClick r:id="rId2"/>
              </a:rPr>
              <a:t>hl@mintek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5"/>
          <p:cNvGrpSpPr/>
          <p:nvPr/>
        </p:nvGrpSpPr>
        <p:grpSpPr>
          <a:xfrm>
            <a:off x="179280" y="844560"/>
            <a:ext cx="2767320" cy="3959280"/>
            <a:chOff x="179280" y="844560"/>
            <a:chExt cx="2767320" cy="3959280"/>
          </a:xfrm>
        </p:grpSpPr>
        <p:pic>
          <p:nvPicPr>
            <p:cNvPr id="264" name="Picture 2" descr="C:\Users\Itumelengt\Dropbox\Photographs\2015_11_09_Joalet\IMG_8678.JPG"/>
            <p:cNvPicPr/>
            <p:nvPr/>
          </p:nvPicPr>
          <p:blipFill>
            <a:blip r:embed="rId3"/>
            <a:stretch/>
          </p:blipFill>
          <p:spPr>
            <a:xfrm>
              <a:off x="179280" y="844560"/>
              <a:ext cx="2521080" cy="395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5" name="TextBox 7"/>
            <p:cNvSpPr/>
            <p:nvPr/>
          </p:nvSpPr>
          <p:spPr>
            <a:xfrm rot="16200000">
              <a:off x="2163960" y="40132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5867280" y="844560"/>
            <a:ext cx="3270600" cy="3959280"/>
            <a:chOff x="5867280" y="844560"/>
            <a:chExt cx="3270600" cy="3959280"/>
          </a:xfrm>
        </p:grpSpPr>
        <p:pic>
          <p:nvPicPr>
            <p:cNvPr id="267" name="Picture 3" descr="C:\Users\Itumelengt\Dropbox\Photographs\2015_11_09_Joalet\IMG_8724.JPG"/>
            <p:cNvPicPr/>
            <p:nvPr/>
          </p:nvPicPr>
          <p:blipFill>
            <a:blip r:embed="rId4"/>
            <a:srcRect l="13265" t="0" r="24836" b="5715"/>
            <a:stretch/>
          </p:blipFill>
          <p:spPr>
            <a:xfrm>
              <a:off x="5867280" y="844560"/>
              <a:ext cx="3024360" cy="3959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68" name="TextBox 8"/>
            <p:cNvSpPr/>
            <p:nvPr/>
          </p:nvSpPr>
          <p:spPr>
            <a:xfrm rot="16200000">
              <a:off x="8355240" y="40132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4" descr="C:\Users\ThabangL\Documents\1. MINTEK POWERPOINT TEMPLATES 2013\Images Used\Wide screen\widescreen minteklogoicon.png"/>
          <p:cNvPicPr/>
          <p:nvPr/>
        </p:nvPicPr>
        <p:blipFill>
          <a:blip r:embed="rId5"/>
          <a:stretch/>
        </p:blipFill>
        <p:spPr>
          <a:xfrm>
            <a:off x="3597120" y="915840"/>
            <a:ext cx="1374840" cy="9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714920" y="1290240"/>
            <a:ext cx="3889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Processing conce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Technical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Thermodynamic sim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CD96-49D0-46CC-86C6-0592B7FC8C92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2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548640" y="4583160"/>
            <a:ext cx="16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000" spc="-1" strike="noStrike">
                <a:solidFill>
                  <a:srgbClr val="000000"/>
                </a:solidFill>
                <a:latin typeface="Arial"/>
              </a:rPr>
              <a:t>http://www.dailymail.co.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20191" t="0" r="17806" b="8795"/>
          <a:stretch/>
        </p:blipFill>
        <p:spPr>
          <a:xfrm>
            <a:off x="538200" y="915840"/>
            <a:ext cx="3744720" cy="366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B2BB-8EBE-43BE-8D8B-888F8E33267C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5600" y="1023480"/>
            <a:ext cx="5108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ducts from the manganese ferroalloy industry include alloy and sla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lloy has monetary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lag is classified as a hazardous product due to the MnO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20 Mt of HCFeMn and SiMn slag has accumulated over the years on dumps in South Africa</a:t>
            </a:r>
            <a:r>
              <a:rPr b="0" lang="en-ZA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n average 0.5 Mt are added to these dumps each year</a:t>
            </a:r>
            <a:r>
              <a:rPr b="0" lang="en-ZA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55600" y="4362480"/>
            <a:ext cx="5108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Arial"/>
              </a:rPr>
              <a:t>[1] Steenkamp, J.D. &amp; Basson, J., 2013. The manganese ferroalloys industry in southern Africa. Journal of The Southern African Institute of Mining and Metallurgy, 113, pp.667–67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357880" y="635040"/>
            <a:ext cx="3583440" cy="4448880"/>
            <a:chOff x="5357880" y="635040"/>
            <a:chExt cx="3583440" cy="4448880"/>
          </a:xfrm>
        </p:grpSpPr>
        <p:sp>
          <p:nvSpPr>
            <p:cNvPr id="146" name="TextBox 12"/>
            <p:cNvSpPr/>
            <p:nvPr/>
          </p:nvSpPr>
          <p:spPr>
            <a:xfrm>
              <a:off x="7395480" y="172692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lting p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7" name="Straight Arrow Connector 13"/>
            <p:cNvCxnSpPr/>
            <p:nvPr/>
          </p:nvCxnSpPr>
          <p:spPr>
            <a:xfrm flipH="1">
              <a:off x="7162560" y="2017800"/>
              <a:ext cx="496080" cy="288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8" name="TextBox 15"/>
            <p:cNvSpPr/>
            <p:nvPr/>
          </p:nvSpPr>
          <p:spPr>
            <a:xfrm>
              <a:off x="7330320" y="698400"/>
              <a:ext cx="112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ectr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Straight Arrow Connector 16"/>
            <p:cNvCxnSpPr/>
            <p:nvPr/>
          </p:nvCxnSpPr>
          <p:spPr>
            <a:xfrm flipH="1">
              <a:off x="6879960" y="914400"/>
              <a:ext cx="496080" cy="289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pic>
          <p:nvPicPr>
            <p:cNvPr id="150" name="Picture 4" descr=""/>
            <p:cNvPicPr/>
            <p:nvPr/>
          </p:nvPicPr>
          <p:blipFill>
            <a:blip r:embed="rId1"/>
            <a:stretch/>
          </p:blipFill>
          <p:spPr>
            <a:xfrm>
              <a:off x="5357880" y="2858760"/>
              <a:ext cx="3337200" cy="2225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1" name="Rectangle 12"/>
            <p:cNvSpPr/>
            <p:nvPr/>
          </p:nvSpPr>
          <p:spPr>
            <a:xfrm>
              <a:off x="6819840" y="3865680"/>
              <a:ext cx="10810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l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6" descr="C:\Users\joalets\Pictures\2015-11-09_Joalet\IMG_8672.JPG"/>
            <p:cNvPicPr/>
            <p:nvPr/>
          </p:nvPicPr>
          <p:blipFill>
            <a:blip r:embed="rId2"/>
            <a:stretch/>
          </p:blipFill>
          <p:spPr>
            <a:xfrm>
              <a:off x="5357880" y="635040"/>
              <a:ext cx="3337200" cy="2223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3" name="Rectangle 15"/>
            <p:cNvSpPr/>
            <p:nvPr/>
          </p:nvSpPr>
          <p:spPr>
            <a:xfrm>
              <a:off x="5391000" y="2266920"/>
              <a:ext cx="1811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ilicomangane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4"/>
            <p:cNvSpPr/>
            <p:nvPr/>
          </p:nvSpPr>
          <p:spPr>
            <a:xfrm rot="16200000">
              <a:off x="8158680" y="206172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7"/>
            <p:cNvSpPr/>
            <p:nvPr/>
          </p:nvSpPr>
          <p:spPr>
            <a:xfrm rot="16200000">
              <a:off x="8158680" y="4294080"/>
              <a:ext cx="1319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Joalet Steenkam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PROCESS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D64E-3996-43F0-BCBD-CFA2FF99EFE8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893520"/>
            <a:ext cx="561672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nitial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onditioning of manganese waste slag for the utilization as a cement ex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ilution of the manganese content using fluxes, including calcined lime, silica sand and alu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Uneconomical due to the ratio of slag: flux = 1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ew concep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tallothermic reduction of the manganese waste s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intek’s Pyrosim thermodynamic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xperimental trial tests using a 40 kW DC “tilting” 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ower flux requirements and two commercial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6084720" y="966960"/>
            <a:ext cx="2765880" cy="3830040"/>
            <a:chOff x="6084720" y="966960"/>
            <a:chExt cx="2765880" cy="3830040"/>
          </a:xfrm>
        </p:grpSpPr>
        <p:pic>
          <p:nvPicPr>
            <p:cNvPr id="160" name="Picture 2" descr=""/>
            <p:cNvPicPr/>
            <p:nvPr/>
          </p:nvPicPr>
          <p:blipFill>
            <a:blip r:embed="rId1"/>
            <a:stretch/>
          </p:blipFill>
          <p:spPr>
            <a:xfrm>
              <a:off x="6084720" y="966960"/>
              <a:ext cx="2520360" cy="379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1" name="TextBox 3"/>
            <p:cNvSpPr/>
            <p:nvPr/>
          </p:nvSpPr>
          <p:spPr>
            <a:xfrm>
              <a:off x="6766200" y="3868560"/>
              <a:ext cx="12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al 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2"/>
            <p:cNvSpPr/>
            <p:nvPr/>
          </p:nvSpPr>
          <p:spPr>
            <a:xfrm>
              <a:off x="7611480" y="1940040"/>
              <a:ext cx="112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lting p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Straight Arrow Connector 13"/>
            <p:cNvCxnSpPr/>
            <p:nvPr/>
          </p:nvCxnSpPr>
          <p:spPr>
            <a:xfrm flipH="1">
              <a:off x="7379640" y="2230560"/>
              <a:ext cx="496080" cy="288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4" name="TextBox 15"/>
            <p:cNvSpPr/>
            <p:nvPr/>
          </p:nvSpPr>
          <p:spPr>
            <a:xfrm>
              <a:off x="7546320" y="984240"/>
              <a:ext cx="112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ectr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16"/>
            <p:cNvCxnSpPr/>
            <p:nvPr/>
          </p:nvCxnSpPr>
          <p:spPr>
            <a:xfrm flipH="1">
              <a:off x="7097040" y="1127160"/>
              <a:ext cx="496080" cy="289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6" name="TextBox 11"/>
            <p:cNvSpPr/>
            <p:nvPr/>
          </p:nvSpPr>
          <p:spPr>
            <a:xfrm rot="16200000">
              <a:off x="8197200" y="4143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000" spc="-1" strike="noStrike">
                  <a:solidFill>
                    <a:srgbClr val="000000"/>
                  </a:solidFill>
                  <a:latin typeface="Arial"/>
                </a:rPr>
                <a:t>© Puso Ntika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2484360" y="473544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AE35-65D3-43EB-9F33-C15E8AA1D8BB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250920" y="7812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Conditioned slag target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235240" y="1496880"/>
          <a:ext cx="4673520" cy="1219320"/>
        </p:xfrm>
        <a:graphic>
          <a:graphicData uri="http://schemas.openxmlformats.org/drawingml/2006/table">
            <a:tbl>
              <a:tblPr/>
              <a:tblGrid>
                <a:gridCol w="3220920"/>
                <a:gridCol w="1452600"/>
              </a:tblGrid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ity (B</a:t>
                      </a:r>
                      <a:r>
                        <a:rPr b="1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= [(MgO+CaO)/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7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O+CaO+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7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243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 (amorphous)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5%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71" name="TextBox 5"/>
          <p:cNvSpPr/>
          <p:nvPr/>
        </p:nvSpPr>
        <p:spPr>
          <a:xfrm>
            <a:off x="250920" y="3571920"/>
            <a:ext cx="86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est leachability of the conditioned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viability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Strength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28600" y="277956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*From specifications of GGBFS EN-1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  <a:ea typeface="Arial"/>
              </a:rPr>
              <a:t>MnO specification was based on previous leaching test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D25E-316E-4F0B-8B74-0F267C1D07C7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ontent Placeholder 2"/>
          <p:cNvSpPr/>
          <p:nvPr/>
        </p:nvSpPr>
        <p:spPr>
          <a:xfrm>
            <a:off x="324000" y="771480"/>
            <a:ext cx="84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The modified granulated slag met the Ground Granulated Blast Furnace Slag (GGBFS) specifications (EN-19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1280" y="2001960"/>
          <a:ext cx="4680000" cy="2270160"/>
        </p:xfrm>
        <a:graphic>
          <a:graphicData uri="http://schemas.openxmlformats.org/drawingml/2006/table">
            <a:tbl>
              <a:tblPr/>
              <a:tblGrid>
                <a:gridCol w="2374920"/>
                <a:gridCol w="1225440"/>
                <a:gridCol w="1079640"/>
              </a:tblGrid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GBFS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 s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∑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gO+CaO+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92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r>
                        <a:rPr b="1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[(MgO+CaO)/SiO</a:t>
                      </a:r>
                      <a:r>
                        <a:rPr b="0" lang="en-ZA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 to 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ass 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± 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77" name="Group 4"/>
          <p:cNvGrpSpPr/>
          <p:nvPr/>
        </p:nvGrpSpPr>
        <p:grpSpPr>
          <a:xfrm>
            <a:off x="5456160" y="1347840"/>
            <a:ext cx="3148200" cy="3577320"/>
            <a:chOff x="5456160" y="1347840"/>
            <a:chExt cx="3148200" cy="3577320"/>
          </a:xfrm>
        </p:grpSpPr>
        <p:pic>
          <p:nvPicPr>
            <p:cNvPr id="178" name="Picture 8" descr=""/>
            <p:cNvPicPr/>
            <p:nvPr/>
          </p:nvPicPr>
          <p:blipFill>
            <a:blip r:embed="rId1"/>
            <a:srcRect l="23938" t="15000" r="31753" b="16401"/>
            <a:stretch/>
          </p:blipFill>
          <p:spPr>
            <a:xfrm>
              <a:off x="5456160" y="1347840"/>
              <a:ext cx="3148200" cy="32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9" name="TextBox 3"/>
            <p:cNvSpPr/>
            <p:nvPr/>
          </p:nvSpPr>
          <p:spPr>
            <a:xfrm>
              <a:off x="6207120" y="4587840"/>
              <a:ext cx="164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5mm partic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1A7-82AA-43CA-806F-F4F7E3A8629D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123840" y="698400"/>
            <a:ext cx="4232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SiMn alloy produced met the ASTM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3840" y="1514520"/>
          <a:ext cx="4106880" cy="2473200"/>
        </p:xfrm>
        <a:graphic>
          <a:graphicData uri="http://schemas.openxmlformats.org/drawingml/2006/table">
            <a:tbl>
              <a:tblPr/>
              <a:tblGrid>
                <a:gridCol w="1030320"/>
                <a:gridCol w="1359000"/>
                <a:gridCol w="1717560"/>
              </a:tblGrid>
              <a:tr h="365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n spe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oy produ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79600"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C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 -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±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B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A</a:t>
                      </a:r>
                      <a:r>
                        <a:rPr b="0" lang="en-ZA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5 – 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to 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± 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84" name="Rectangle 2"/>
          <p:cNvSpPr/>
          <p:nvPr/>
        </p:nvSpPr>
        <p:spPr>
          <a:xfrm>
            <a:off x="108000" y="4441680"/>
            <a:ext cx="90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ZA" sz="1200" spc="-1" strike="noStrike">
                <a:solidFill>
                  <a:srgbClr val="000000"/>
                </a:solidFill>
                <a:latin typeface="Arial"/>
                <a:ea typeface="Arial"/>
              </a:rPr>
              <a:t> ASTM Standards A483 / A483M - 10, “Standard Specification for Silicomanganese.” ASTM International, West Conshohocken, PA, 2003, pp. 1–2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0"/>
          <p:cNvGrpSpPr/>
          <p:nvPr/>
        </p:nvGrpSpPr>
        <p:grpSpPr>
          <a:xfrm>
            <a:off x="4356000" y="1492200"/>
            <a:ext cx="2347920" cy="2878920"/>
            <a:chOff x="4356000" y="1492200"/>
            <a:chExt cx="2347920" cy="2878920"/>
          </a:xfrm>
        </p:grpSpPr>
        <p:sp>
          <p:nvSpPr>
            <p:cNvPr id="186" name="TextBox 4"/>
            <p:cNvSpPr/>
            <p:nvPr/>
          </p:nvSpPr>
          <p:spPr>
            <a:xfrm>
              <a:off x="4364640" y="4033800"/>
              <a:ext cx="233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ained alloy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9"/>
            <p:cNvGrpSpPr/>
            <p:nvPr/>
          </p:nvGrpSpPr>
          <p:grpSpPr>
            <a:xfrm>
              <a:off x="4356000" y="1492200"/>
              <a:ext cx="2347920" cy="2519280"/>
              <a:chOff x="4356000" y="1492200"/>
              <a:chExt cx="2347920" cy="2519280"/>
            </a:xfrm>
          </p:grpSpPr>
          <p:pic>
            <p:nvPicPr>
              <p:cNvPr id="188" name="Picture 4" descr=""/>
              <p:cNvPicPr/>
              <p:nvPr/>
            </p:nvPicPr>
            <p:blipFill>
              <a:blip r:embed="rId1"/>
              <a:srcRect l="31101" t="18363" r="36615" b="20037"/>
              <a:stretch/>
            </p:blipFill>
            <p:spPr>
              <a:xfrm>
                <a:off x="4356000" y="1492200"/>
                <a:ext cx="2347920" cy="251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89" name="Straight Arrow Connector 4"/>
              <p:cNvCxnSpPr/>
              <p:nvPr/>
            </p:nvCxnSpPr>
            <p:spPr>
              <a:xfrm>
                <a:off x="4716000" y="3507840"/>
                <a:ext cx="432360" cy="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90" name="TextBox 5"/>
              <p:cNvSpPr/>
              <p:nvPr/>
            </p:nvSpPr>
            <p:spPr>
              <a:xfrm>
                <a:off x="4385880" y="3430440"/>
                <a:ext cx="115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 m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12"/>
          <p:cNvGrpSpPr/>
          <p:nvPr/>
        </p:nvGrpSpPr>
        <p:grpSpPr>
          <a:xfrm>
            <a:off x="6804000" y="1492200"/>
            <a:ext cx="2205000" cy="2878920"/>
            <a:chOff x="6804000" y="1492200"/>
            <a:chExt cx="2205000" cy="2878920"/>
          </a:xfrm>
        </p:grpSpPr>
        <p:sp>
          <p:nvSpPr>
            <p:cNvPr id="192" name="TextBox 9"/>
            <p:cNvSpPr/>
            <p:nvPr/>
          </p:nvSpPr>
          <p:spPr>
            <a:xfrm>
              <a:off x="7169040" y="4033800"/>
              <a:ext cx="14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oy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11"/>
            <p:cNvGrpSpPr/>
            <p:nvPr/>
          </p:nvGrpSpPr>
          <p:grpSpPr>
            <a:xfrm>
              <a:off x="6804000" y="1492200"/>
              <a:ext cx="2205000" cy="2519280"/>
              <a:chOff x="6804000" y="1492200"/>
              <a:chExt cx="2205000" cy="2519280"/>
            </a:xfrm>
          </p:grpSpPr>
          <p:pic>
            <p:nvPicPr>
              <p:cNvPr id="194" name="Picture 3" descr=""/>
              <p:cNvPicPr/>
              <p:nvPr/>
            </p:nvPicPr>
            <p:blipFill>
              <a:blip r:embed="rId2"/>
              <a:srcRect l="25888" t="400" r="588" b="-386"/>
              <a:stretch/>
            </p:blipFill>
            <p:spPr>
              <a:xfrm>
                <a:off x="6804000" y="1492200"/>
                <a:ext cx="2205000" cy="251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cxnSp>
            <p:nvCxnSpPr>
              <p:cNvPr id="195" name="Straight Arrow Connector 13"/>
              <p:cNvCxnSpPr/>
              <p:nvPr/>
            </p:nvCxnSpPr>
            <p:spPr>
              <a:xfrm>
                <a:off x="7308360" y="3416040"/>
                <a:ext cx="935640" cy="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96" name="TextBox 16"/>
              <p:cNvSpPr/>
              <p:nvPr/>
            </p:nvSpPr>
            <p:spPr>
              <a:xfrm>
                <a:off x="7331040" y="3379680"/>
                <a:ext cx="115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0 m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Content Placeholder 2"/>
          <p:cNvSpPr/>
          <p:nvPr/>
        </p:nvSpPr>
        <p:spPr>
          <a:xfrm>
            <a:off x="4356000" y="754200"/>
            <a:ext cx="4653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CEF5-EF02-4197-85C5-F42063AEE27E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1871640" y="915840"/>
            <a:ext cx="5402160" cy="3927240"/>
            <a:chOff x="1871640" y="915840"/>
            <a:chExt cx="5402160" cy="3927240"/>
          </a:xfrm>
        </p:grpSpPr>
        <p:sp>
          <p:nvSpPr>
            <p:cNvPr id="201" name="Rectangle 2"/>
            <p:cNvSpPr/>
            <p:nvPr/>
          </p:nvSpPr>
          <p:spPr>
            <a:xfrm>
              <a:off x="3671640" y="91584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eaching stability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465880" y="1995120"/>
              <a:ext cx="179856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TCLP</a:t>
              </a:r>
              <a:r>
                <a:rPr b="0" lang="en-ZA" sz="1800" spc="-1" strike="noStrike" baseline="30000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871640" y="194760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SPL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1871640" y="3159000"/>
              <a:ext cx="1800000" cy="72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Environmental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473800" y="3165480"/>
              <a:ext cx="1800000" cy="71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1d1b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Arial"/>
                </a:rPr>
                <a:t>Landfill condi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Elbow Connector 4"/>
            <p:cNvCxnSpPr>
              <a:stCxn id="201" idx="2"/>
              <a:endCxn id="203" idx="0"/>
            </p:cNvCxnSpPr>
            <p:nvPr/>
          </p:nvCxnSpPr>
          <p:spPr>
            <a:xfrm rot="5400000">
              <a:off x="3514680" y="891000"/>
              <a:ext cx="313200" cy="1800720"/>
            </a:xfrm>
            <a:prstGeom prst="bentConnector3">
              <a:avLst>
                <a:gd name="adj1" fmla="val 49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Elbow Connector 13"/>
            <p:cNvCxnSpPr/>
            <p:nvPr/>
          </p:nvCxnSpPr>
          <p:spPr>
            <a:xfrm flipH="1" rot="16200000">
              <a:off x="5283000" y="905760"/>
              <a:ext cx="378360" cy="1800720"/>
            </a:xfrm>
            <a:prstGeom prst="bentConnector3">
              <a:avLst>
                <a:gd name="adj1" fmla="val 472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Straight Arrow Connector 23"/>
            <p:cNvCxnSpPr>
              <a:stCxn id="203" idx="2"/>
              <a:endCxn id="204" idx="0"/>
            </p:cNvCxnSpPr>
            <p:nvPr/>
          </p:nvCxnSpPr>
          <p:spPr>
            <a:xfrm>
              <a:off x="2771280" y="2666520"/>
              <a:ext cx="1080" cy="49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Straight Arrow Connector 25"/>
            <p:cNvCxnSpPr>
              <a:stCxn id="202" idx="2"/>
              <a:endCxn id="205" idx="0"/>
            </p:cNvCxnSpPr>
            <p:nvPr/>
          </p:nvCxnSpPr>
          <p:spPr>
            <a:xfrm>
              <a:off x="6364440" y="2716200"/>
              <a:ext cx="10080" cy="450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0" name="Rectangle 26"/>
            <p:cNvSpPr/>
            <p:nvPr/>
          </p:nvSpPr>
          <p:spPr>
            <a:xfrm>
              <a:off x="2178000" y="4262400"/>
              <a:ext cx="486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Synthetic Precipitation Leaching Procedure </a:t>
              </a:r>
              <a:r>
                <a:rPr b="0" lang="en-ZA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</a:t>
              </a:r>
              <a:r>
                <a:rPr b="0" lang="en-ZA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xicity Characteristic Leaching Proced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31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500" spc="-1" strike="noStrike">
                <a:solidFill>
                  <a:srgbClr val="ffffff"/>
                </a:solidFill>
                <a:latin typeface="Arial"/>
              </a:rPr>
              <a:t>TECHNICAL RESULT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25192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8188-E31E-47FA-BFDC-B03D7D3F63B6}" type="slidenum">
              <a:rPr b="0" lang="en-Z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672000" y="915840"/>
            <a:ext cx="180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eaching stability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465880" y="1995480"/>
            <a:ext cx="17985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CLP</a:t>
            </a:r>
            <a:r>
              <a:rPr b="0" lang="en-ZA" sz="1800" spc="-1" strike="noStrike" baseline="30000">
                <a:solidFill>
                  <a:srgbClr val="000000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871640" y="1947960"/>
            <a:ext cx="180036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PLP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871640" y="3159000"/>
            <a:ext cx="1800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nvironment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473800" y="3165480"/>
            <a:ext cx="1800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1d1b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andfil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Elbow Connector 4"/>
          <p:cNvCxnSpPr>
            <a:stCxn id="213" idx="2"/>
            <a:endCxn id="215" idx="0"/>
          </p:cNvCxnSpPr>
          <p:nvPr/>
        </p:nvCxnSpPr>
        <p:spPr>
          <a:xfrm rot="5400000">
            <a:off x="3514680" y="891000"/>
            <a:ext cx="313560" cy="1801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Elbow Connector 13"/>
          <p:cNvCxnSpPr/>
          <p:nvPr/>
        </p:nvCxnSpPr>
        <p:spPr>
          <a:xfrm flipH="1" rot="16200000">
            <a:off x="5282280" y="906120"/>
            <a:ext cx="378360" cy="1801080"/>
          </a:xfrm>
          <a:prstGeom prst="bentConnector3">
            <a:avLst>
              <a:gd name="adj1" fmla="val 4723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Straight Arrow Connector 23"/>
          <p:cNvCxnSpPr>
            <a:stCxn id="215" idx="2"/>
            <a:endCxn id="216" idx="0"/>
          </p:cNvCxnSpPr>
          <p:nvPr/>
        </p:nvCxnSpPr>
        <p:spPr>
          <a:xfrm>
            <a:off x="2771280" y="2666520"/>
            <a:ext cx="1080" cy="49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Straight Arrow Connector 25"/>
          <p:cNvCxnSpPr>
            <a:stCxn id="214" idx="2"/>
            <a:endCxn id="217" idx="0"/>
          </p:cNvCxnSpPr>
          <p:nvPr/>
        </p:nvCxnSpPr>
        <p:spPr>
          <a:xfrm>
            <a:off x="6364440" y="2716200"/>
            <a:ext cx="1008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Straight Connector 14"/>
          <p:cNvSpPr/>
          <p:nvPr/>
        </p:nvSpPr>
        <p:spPr>
          <a:xfrm flipV="1">
            <a:off x="5076720" y="1708200"/>
            <a:ext cx="259092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1"/>
          <p:cNvSpPr/>
          <p:nvPr/>
        </p:nvSpPr>
        <p:spPr>
          <a:xfrm>
            <a:off x="7235280" y="13287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  <a:ea typeface="Arial"/>
              </a:rPr>
              <a:t>Not t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79280" y="409572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World Health Organization (WHO) standards were met with respect to Mg, Al, As, Co, Cr, Cu, Fe, Mn, Mo, Ni, Pb, V, Zn ,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Cd,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1:02:01Z</dcterms:created>
  <dc:creator>Thabang Letoaba</dc:creator>
  <dc:description/>
  <dc:language>en-US</dc:language>
  <cp:lastModifiedBy>Wesley Banda</cp:lastModifiedBy>
  <cp:lastPrinted>2013-09-17T13:45:45Z</cp:lastPrinted>
  <dcterms:modified xsi:type="dcterms:W3CDTF">2017-04-11T11:27:06Z</dcterms:modified>
  <cp:revision>239</cp:revision>
  <dc:subject/>
  <dc:title>Heading</dc:title>
</cp:coreProperties>
</file>