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31C2-F6ED-4E56-A398-B6FE1188FA0C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AF10-2208-4AE2-987E-941747D1E40B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37A5-7022-41A5-97D6-185E1DEFA566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AE28-2FCF-4B70-8322-03B103E4D4EF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1AE4-81E5-4BD7-A6BD-3E59C7CB1686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B3E7-3389-4119-9064-5E024194F09A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A high level techno-economic evaluation was conducted on six conceptual flowsheets for a plant modifying 355 kt/annum of waste slag. Because of different MnO levels in the starting waste slag, it was found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F17F-A73F-4F87-B163-5AD5109FF538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DC6B-FA0D-41C1-A754-BFBD2F5F684B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Mn leaches from the slag and potentially to ground water, most of all takes up land space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60DB-AF81-4767-9623-55BCA9674F87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initial approach to reusing manganese ferroalloy slag, cement producers condition the manganese waste slag for the utilization as a cement ext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6425-C4B7-4403-ABD8-845E65255738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A14F-567C-483A-A86B-E8FC4C2DE11A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923-E93B-4882-A496-55987908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D84-FA52-4DA5-9576-0EEF5397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6B0-31E5-4108-AC60-5C8D6BEE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FFF-27FC-4EF3-A799-13C24F40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357D-7938-450A-9B04-CB7B0988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113A-E7A6-4098-99EB-385F7C0D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145D-298C-40DD-A9FF-F22214D9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9EFB-3C52-4CA3-A2C3-CE1B9FFB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1D25-B06E-4731-9A71-235F5C43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73AC-DA54-4524-90ED-A020ABBC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7E4B-450F-4E37-BB49-23B6B58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716-325E-49AD-A688-C3E89DA1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F779-5619-41F6-8AF2-9F8FF215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7EE4-C09C-4646-9002-FC94DC28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4861-51FC-4AE6-BE6A-A2BE8ED7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5A02-6013-4AD4-9038-025B0559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D979-525C-4F40-A38E-5CDAFABB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3143-1526-4998-AF86-F0152C40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87E0D-9410-4210-9CBD-CC620144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CF43-E84A-4BE2-83B3-66ADBDE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BFE3D-0F3C-409D-92D5-8E8FFF76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9300-0B60-45A0-8B32-BD2AE869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200-D018-44FB-A671-5E4532E3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4308-7D4D-455C-8826-F865820D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F779-C9BB-4993-AB5D-B7D084CB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FA5B-FCDC-4FE3-B74C-3DA2118D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EC00D-543F-4A83-A3AF-40AF72C4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C483-8DF4-48E0-9DD1-EE3F5874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81B2-9D00-49F8-931A-EDECAE8C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55DBA-0C06-4DA6-9402-A8230D96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668-886C-4BFA-B4DE-E0C93995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7CA-7E9B-41EC-99C0-64BF7817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2EE-CFB1-4832-AA19-38EF8AE5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141-6298-4CDC-84F4-E0015167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719-AED2-4DE3-A5C5-8D3C7435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F43-2D89-4E49-8131-183A79C8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BD7F-5211-4616-A1E6-29745AB6E54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1F75-2C8C-4DA2-AE53-7D92E0DB63E4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:\Studio work\ThabangL\3. Mintek\1. Mintek 2013 - Powerpoint Presentation\Final changes Powerpoints\HEADING STRI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Z:\Studio work\ThabangL\3. Mintek\1. Mintek 2013 - Powerpoint Presentation\Final changes Powerpoints\Mintek logo powerpoint.png"/>
          <p:cNvPicPr/>
          <p:nvPr/>
        </p:nvPicPr>
        <p:blipFill>
          <a:blip r:embed="rId3"/>
          <a:stretch/>
        </p:blipFill>
        <p:spPr>
          <a:xfrm>
            <a:off x="3527280" y="987480"/>
            <a:ext cx="2089440" cy="1751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2575-EEB1-477A-B53E-6DE142AC3007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D75C-030F-45BD-BB07-C2DE398E21C9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Z:\Studio work\ThabangL\3. Mintek\1. Mintek 2013 - Powerpoint Presentation\Final changes Powerpoints\HEADING STRIP.jpg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459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463A-67CE-4597-A907-D4060609CB4C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1B50-C36D-4F68-9EC8-E435E234FF79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wesleyb@mintek.co.za" TargetMode="External"/><Relationship Id="rId2" Type="http://schemas.openxmlformats.org/officeDocument/2006/relationships/hyperlink" Target="mailto:hl@mintek.co.za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438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4B4B-5F6C-4382-B826-7837606F027D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31920"/>
            <a:ext cx="82296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PRODUCTION OF CEMENT EXTENDER FROM MANGANESE SL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. K. Ba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H. Lagend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uven, April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C:\Users\ThabangL\Documents\1. MINTEK POWERPOINT TEMPLATES 2013\Images Used\Wide screen\widescreen minteklogoicon.png"/>
          <p:cNvPicPr/>
          <p:nvPr/>
        </p:nvPicPr>
        <p:blipFill>
          <a:blip r:embed="rId1"/>
          <a:stretch/>
        </p:blipFill>
        <p:spPr>
          <a:xfrm>
            <a:off x="7740720" y="4156200"/>
            <a:ext cx="13748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THERMODYNAMIC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53E8-BEE1-4A9E-82B3-9E274F26C165}" type="slidenum">
              <a:rPr b="0" lang="en-ZA" sz="14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971640" y="3263760"/>
            <a:ext cx="230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* Average composition from 6 t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# Average composition from 4 bags of s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rcRect l="2277" t="0" r="0" b="0"/>
          <a:stretch/>
        </p:blipFill>
        <p:spPr>
          <a:xfrm>
            <a:off x="3243240" y="627120"/>
            <a:ext cx="5834160" cy="4140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3252960" y="627120"/>
            <a:ext cx="311040" cy="25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 rot="16200000">
            <a:off x="2973960" y="16628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 in mass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1440" y="987120"/>
            <a:ext cx="32022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compositions of the slags produced in the actual tests were similar to the compositions predicted by Pyro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THERMODYNAMIC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572F-5D73-4C5D-B9F3-73AC362C7DA9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3139920" y="627120"/>
            <a:ext cx="5969160" cy="4140000"/>
          </a:xfrm>
          <a:prstGeom prst="rect">
            <a:avLst/>
          </a:prstGeom>
          <a:ln w="0">
            <a:noFill/>
          </a:ln>
        </p:spPr>
      </p:pic>
      <p:sp>
        <p:nvSpPr>
          <p:cNvPr id="235" name="Oval 6"/>
          <p:cNvSpPr/>
          <p:nvPr/>
        </p:nvSpPr>
        <p:spPr>
          <a:xfrm>
            <a:off x="7524720" y="939960"/>
            <a:ext cx="1008000" cy="351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81040" y="1131840"/>
            <a:ext cx="21016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Significant decreas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31% to 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8"/>
          <p:cNvCxnSpPr>
            <a:stCxn id="236" idx="3"/>
          </p:cNvCxnSpPr>
          <p:nvPr/>
        </p:nvCxnSpPr>
        <p:spPr>
          <a:xfrm>
            <a:off x="2682720" y="2031480"/>
            <a:ext cx="4842720" cy="1477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TextBox 4"/>
          <p:cNvSpPr/>
          <p:nvPr/>
        </p:nvSpPr>
        <p:spPr>
          <a:xfrm>
            <a:off x="971640" y="3263760"/>
            <a:ext cx="230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* Average composition from 6 t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# Average composition from 4 bags of s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THERMODYNAMIC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8920" y="774360"/>
            <a:ext cx="878364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compositions of the slags produced in the actual tests were similar to the compositions predicted by Pyrosim (results in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3068-44C6-4EF2-98E3-94D8D253607F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236600" y="1704960"/>
          <a:ext cx="6670800" cy="2409840"/>
        </p:xfrm>
        <a:graphic>
          <a:graphicData uri="http://schemas.openxmlformats.org/drawingml/2006/table">
            <a:tbl>
              <a:tblPr/>
              <a:tblGrid>
                <a:gridCol w="2998800"/>
                <a:gridCol w="1839960"/>
                <a:gridCol w="1832040"/>
              </a:tblGrid>
              <a:tr h="67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aO+MgO)/SiO</a:t>
                      </a:r>
                      <a:r>
                        <a:rPr b="1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ΣCaO+MgO+SiO</a:t>
                      </a:r>
                      <a:r>
                        <a:rPr b="1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657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test results (average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 dev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18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ro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43" name="TextBox 4"/>
          <p:cNvSpPr/>
          <p:nvPr/>
        </p:nvSpPr>
        <p:spPr>
          <a:xfrm>
            <a:off x="1187280" y="4105440"/>
            <a:ext cx="55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*Average composition from 6 t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THERMODYNAMIC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C3EE-F6CC-428E-A142-B64BA5D74761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08040" y="1933560"/>
          <a:ext cx="6127920" cy="1574640"/>
        </p:xfrm>
        <a:graphic>
          <a:graphicData uri="http://schemas.openxmlformats.org/drawingml/2006/table">
            <a:tbl>
              <a:tblPr/>
              <a:tblGrid>
                <a:gridCol w="2987640"/>
                <a:gridCol w="760680"/>
                <a:gridCol w="758520"/>
                <a:gridCol w="811440"/>
                <a:gridCol w="80964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  <a:ea typeface="Segoe UI Light"/>
                        </a:rPr>
                        <a:t>Compon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test results (average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 dev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ro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47" name="TextBox 4"/>
          <p:cNvSpPr/>
          <p:nvPr/>
        </p:nvSpPr>
        <p:spPr>
          <a:xfrm>
            <a:off x="1547640" y="3508200"/>
            <a:ext cx="55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*Average composition from 6 t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8920" y="774360"/>
            <a:ext cx="878364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compositions of the alloys produced in the actual tests were similar to the compositions predicted by Pyrosim (results in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03040" y="1275840"/>
            <a:ext cx="8737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echnical eval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production of a cleaner slag with low MnO, concurrently with SiMn alloy was success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re were minor deviations between the Pyrosim simulations and the actual averaged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lag met the specifications for the GGBFS (EN-1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Very stable slag under aggressive acid leaching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lag can be used as a cement ex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8C3E-9C41-460D-A238-E8AA9375BB44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3040" y="1347480"/>
            <a:ext cx="873792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echno-economic eval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umped HCFeMn can be processed profitably by remelting and slag treatment in an E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iMn slag would need to be modified in the molten state using a ladle/ladle furnace, in order for the process to be economically v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t is more profitable to use silicon and FeSi than aluminium as the reductant and bauxite as a fl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rocessing of manganese waste slag according to the new concept was found to be economically fea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918F-54E2-4E64-B166-1ADBF2232FA6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E504-FA0C-4848-826D-68EA89A26C49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5666" t="15000" r="10329" b="8004"/>
          <a:stretch/>
        </p:blipFill>
        <p:spPr>
          <a:xfrm>
            <a:off x="828720" y="866880"/>
            <a:ext cx="259092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"/>
          <p:cNvSpPr txBox="1"/>
          <p:nvPr/>
        </p:nvSpPr>
        <p:spPr>
          <a:xfrm>
            <a:off x="826920" y="842760"/>
            <a:ext cx="259272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Herman Lagend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3564000" y="954000"/>
            <a:ext cx="515124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This work is published by permission of Mintek. Mintek acknowledges the support of NIPMO (South Africa’s National Intellectual Property Management Office) in the ongoing maintenance of its IP portfol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4489560" y="3333600"/>
            <a:ext cx="32986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1"/>
          <p:cNvSpPr/>
          <p:nvPr/>
        </p:nvSpPr>
        <p:spPr>
          <a:xfrm>
            <a:off x="2519280" y="47656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0F54-D41F-4D66-B677-B164CBEB8DAC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18920" y="2176560"/>
            <a:ext cx="352908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www.mintek.co.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1f497d"/>
                </a:solidFill>
                <a:uFillTx/>
                <a:latin typeface="Arial"/>
                <a:ea typeface="Arial"/>
                <a:hlinkClick r:id="rId1"/>
              </a:rPr>
              <a:t>wesleyb@mintek.co.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1f497d"/>
                </a:solidFill>
                <a:uFillTx/>
                <a:latin typeface="Arial"/>
                <a:ea typeface="Arial"/>
                <a:hlinkClick r:id="rId2"/>
              </a:rPr>
              <a:t>hl@mintek.co.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5"/>
          <p:cNvGrpSpPr/>
          <p:nvPr/>
        </p:nvGrpSpPr>
        <p:grpSpPr>
          <a:xfrm>
            <a:off x="179280" y="844560"/>
            <a:ext cx="2767320" cy="3959280"/>
            <a:chOff x="179280" y="844560"/>
            <a:chExt cx="2767320" cy="3959280"/>
          </a:xfrm>
        </p:grpSpPr>
        <p:pic>
          <p:nvPicPr>
            <p:cNvPr id="264" name="Picture 2" descr="C:\Users\Itumelengt\Dropbox\Photographs\2015_11_09_Joalet\IMG_8678.JPG"/>
            <p:cNvPicPr/>
            <p:nvPr/>
          </p:nvPicPr>
          <p:blipFill>
            <a:blip r:embed="rId3"/>
            <a:stretch/>
          </p:blipFill>
          <p:spPr>
            <a:xfrm>
              <a:off x="179280" y="844560"/>
              <a:ext cx="2521080" cy="3959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65" name="TextBox 7"/>
            <p:cNvSpPr/>
            <p:nvPr/>
          </p:nvSpPr>
          <p:spPr>
            <a:xfrm rot="16200000">
              <a:off x="2163960" y="401328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© Joalet Steenka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5867280" y="844560"/>
            <a:ext cx="3270600" cy="3959280"/>
            <a:chOff x="5867280" y="844560"/>
            <a:chExt cx="3270600" cy="3959280"/>
          </a:xfrm>
        </p:grpSpPr>
        <p:pic>
          <p:nvPicPr>
            <p:cNvPr id="267" name="Picture 3" descr="C:\Users\Itumelengt\Dropbox\Photographs\2015_11_09_Joalet\IMG_8724.JPG"/>
            <p:cNvPicPr/>
            <p:nvPr/>
          </p:nvPicPr>
          <p:blipFill>
            <a:blip r:embed="rId4"/>
            <a:srcRect l="13265" t="0" r="24836" b="5715"/>
            <a:stretch/>
          </p:blipFill>
          <p:spPr>
            <a:xfrm>
              <a:off x="5867280" y="844560"/>
              <a:ext cx="3024360" cy="3959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68" name="TextBox 8"/>
            <p:cNvSpPr/>
            <p:nvPr/>
          </p:nvSpPr>
          <p:spPr>
            <a:xfrm rot="16200000">
              <a:off x="8355240" y="401328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© Joalet Steenka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4" descr="C:\Users\ThabangL\Documents\1. MINTEK POWERPOINT TEMPLATES 2013\Images Used\Wide screen\widescreen minteklogoicon.png"/>
          <p:cNvPicPr/>
          <p:nvPr/>
        </p:nvPicPr>
        <p:blipFill>
          <a:blip r:embed="rId5"/>
          <a:stretch/>
        </p:blipFill>
        <p:spPr>
          <a:xfrm>
            <a:off x="3597120" y="915840"/>
            <a:ext cx="137484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714920" y="1290240"/>
            <a:ext cx="388944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Processing conce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Technical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Thermodynamic sim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DE3F-8517-4057-930A-F0DCD041D4CA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48640" y="4583160"/>
            <a:ext cx="16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http://www.dailymail.co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20191" t="0" r="17806" b="8795"/>
          <a:stretch/>
        </p:blipFill>
        <p:spPr>
          <a:xfrm>
            <a:off x="538200" y="915840"/>
            <a:ext cx="3744720" cy="366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2812-3C7A-419A-A0B8-AE66072D4E8F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5600" y="1023480"/>
            <a:ext cx="5108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roducts from the manganese ferroalloy industry include alloy and sla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lloy has monetary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lag is classified as a hazardous product due to the MnO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20 Mt of HCFeMn and SiMn slag has accumulated over the years on dumps in South Africa</a:t>
            </a:r>
            <a:r>
              <a:rPr b="0" lang="en-ZA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On average 0.5 Mt are added to these dumps each year</a:t>
            </a:r>
            <a:r>
              <a:rPr b="0" lang="en-ZA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255600" y="4362480"/>
            <a:ext cx="510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  <a:ea typeface="Arial"/>
              </a:rPr>
              <a:t>[1] Steenkamp, J.D. &amp; Basson, J., 2013. The manganese ferroalloys industry in southern Africa. Journal of The Southern African Institute of Mining and Metallurgy, 113, pp.667–67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5357880" y="635040"/>
            <a:ext cx="3583440" cy="4448880"/>
            <a:chOff x="5357880" y="635040"/>
            <a:chExt cx="3583440" cy="4448880"/>
          </a:xfrm>
        </p:grpSpPr>
        <p:sp>
          <p:nvSpPr>
            <p:cNvPr id="146" name="TextBox 12"/>
            <p:cNvSpPr/>
            <p:nvPr/>
          </p:nvSpPr>
          <p:spPr>
            <a:xfrm>
              <a:off x="7395480" y="172692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lting p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Straight Arrow Connector 13"/>
            <p:cNvCxnSpPr/>
            <p:nvPr/>
          </p:nvCxnSpPr>
          <p:spPr>
            <a:xfrm flipH="1">
              <a:off x="7162560" y="2017800"/>
              <a:ext cx="496080" cy="288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8" name="TextBox 15"/>
            <p:cNvSpPr/>
            <p:nvPr/>
          </p:nvSpPr>
          <p:spPr>
            <a:xfrm>
              <a:off x="7330320" y="69840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lectr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Straight Arrow Connector 16"/>
            <p:cNvCxnSpPr/>
            <p:nvPr/>
          </p:nvCxnSpPr>
          <p:spPr>
            <a:xfrm flipH="1">
              <a:off x="6879960" y="914400"/>
              <a:ext cx="496080" cy="289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pic>
          <p:nvPicPr>
            <p:cNvPr id="150" name="Picture 4" descr=""/>
            <p:cNvPicPr/>
            <p:nvPr/>
          </p:nvPicPr>
          <p:blipFill>
            <a:blip r:embed="rId1"/>
            <a:stretch/>
          </p:blipFill>
          <p:spPr>
            <a:xfrm>
              <a:off x="5357880" y="2858760"/>
              <a:ext cx="3337200" cy="2225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1" name="Rectangle 12"/>
            <p:cNvSpPr/>
            <p:nvPr/>
          </p:nvSpPr>
          <p:spPr>
            <a:xfrm>
              <a:off x="6819840" y="3865680"/>
              <a:ext cx="10810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l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6" descr="C:\Users\joalets\Pictures\2015-11-09_Joalet\IMG_8672.JPG"/>
            <p:cNvPicPr/>
            <p:nvPr/>
          </p:nvPicPr>
          <p:blipFill>
            <a:blip r:embed="rId2"/>
            <a:stretch/>
          </p:blipFill>
          <p:spPr>
            <a:xfrm>
              <a:off x="5357880" y="635040"/>
              <a:ext cx="3337200" cy="2223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3" name="Rectangle 15"/>
            <p:cNvSpPr/>
            <p:nvPr/>
          </p:nvSpPr>
          <p:spPr>
            <a:xfrm>
              <a:off x="5391000" y="2266920"/>
              <a:ext cx="1811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ilicomangane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4"/>
            <p:cNvSpPr/>
            <p:nvPr/>
          </p:nvSpPr>
          <p:spPr>
            <a:xfrm rot="16200000">
              <a:off x="8158680" y="206172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© Joalet Steenka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7"/>
            <p:cNvSpPr/>
            <p:nvPr/>
          </p:nvSpPr>
          <p:spPr>
            <a:xfrm rot="16200000">
              <a:off x="8158680" y="429408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© Joalet Steenka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PROCESSING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579E-1A80-4815-9266-D057C0D2D055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893520"/>
            <a:ext cx="56167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Initial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onditioning of manganese waste slag for the utilization as a cement ex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ilution of the manganese content using fluxes, including calcined lime, silica sand and alu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economical due to the ratio of slag: flux = 1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New conce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etallothermic reduction of the manganese waste s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intek’s Pyrosim thermodynamic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Experimental trial tests using a 40 kW DC “tilting” 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ower flux requirements and two commercial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6084720" y="966960"/>
            <a:ext cx="2765880" cy="3830040"/>
            <a:chOff x="6084720" y="966960"/>
            <a:chExt cx="2765880" cy="3830040"/>
          </a:xfrm>
        </p:grpSpPr>
        <p:pic>
          <p:nvPicPr>
            <p:cNvPr id="160" name="Picture 2" descr=""/>
            <p:cNvPicPr/>
            <p:nvPr/>
          </p:nvPicPr>
          <p:blipFill>
            <a:blip r:embed="rId1"/>
            <a:stretch/>
          </p:blipFill>
          <p:spPr>
            <a:xfrm>
              <a:off x="6084720" y="966960"/>
              <a:ext cx="2520360" cy="379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1" name="TextBox 3"/>
            <p:cNvSpPr/>
            <p:nvPr/>
          </p:nvSpPr>
          <p:spPr>
            <a:xfrm>
              <a:off x="6766200" y="3868560"/>
              <a:ext cx="12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al 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2"/>
            <p:cNvSpPr/>
            <p:nvPr/>
          </p:nvSpPr>
          <p:spPr>
            <a:xfrm>
              <a:off x="7611480" y="1940040"/>
              <a:ext cx="112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lting p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Straight Arrow Connector 13"/>
            <p:cNvCxnSpPr/>
            <p:nvPr/>
          </p:nvCxnSpPr>
          <p:spPr>
            <a:xfrm flipH="1">
              <a:off x="7379640" y="2230560"/>
              <a:ext cx="496080" cy="288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64" name="TextBox 15"/>
            <p:cNvSpPr/>
            <p:nvPr/>
          </p:nvSpPr>
          <p:spPr>
            <a:xfrm>
              <a:off x="7546320" y="984240"/>
              <a:ext cx="112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lectr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Straight Arrow Connector 16"/>
            <p:cNvCxnSpPr/>
            <p:nvPr/>
          </p:nvCxnSpPr>
          <p:spPr>
            <a:xfrm flipH="1">
              <a:off x="7097040" y="1127160"/>
              <a:ext cx="496080" cy="289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66" name="TextBox 11"/>
            <p:cNvSpPr/>
            <p:nvPr/>
          </p:nvSpPr>
          <p:spPr>
            <a:xfrm rot="16200000">
              <a:off x="8197200" y="414360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© Puso Ntika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2484360" y="473544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1781-BC97-491C-AFE9-37833DB181CC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250920" y="78120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Conditioned slag target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35240" y="1496880"/>
          <a:ext cx="4673520" cy="1219320"/>
        </p:xfrm>
        <a:graphic>
          <a:graphicData uri="http://schemas.openxmlformats.org/drawingml/2006/table">
            <a:tbl>
              <a:tblPr/>
              <a:tblGrid>
                <a:gridCol w="3220920"/>
                <a:gridCol w="1452600"/>
              </a:tblGrid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icity (B</a:t>
                      </a:r>
                      <a:r>
                        <a:rPr b="1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[(MgO+CaO)/SiO</a:t>
                      </a:r>
                      <a:r>
                        <a:rPr b="0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7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∑ 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O+CaO+SiO</a:t>
                      </a:r>
                      <a:r>
                        <a:rPr b="0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7%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ass (amorphous)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5%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5"/>
          <p:cNvSpPr/>
          <p:nvPr/>
        </p:nvSpPr>
        <p:spPr>
          <a:xfrm>
            <a:off x="250920" y="357192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Test leachability of the conditioned 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viability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Strength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28600" y="277956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*From specifications of GGBFS EN-1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MnO specification was based on previous leaching test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TECHNICAL RESUL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B65A-42AF-4DA2-90E2-EF30A955BA11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ntent Placeholder 2"/>
          <p:cNvSpPr/>
          <p:nvPr/>
        </p:nvSpPr>
        <p:spPr>
          <a:xfrm>
            <a:off x="324000" y="771480"/>
            <a:ext cx="84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The modified granulated slag met the Ground Granulated Blast Furnace Slag (GGBFS) specifications (EN-19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11280" y="2001960"/>
          <a:ext cx="4680000" cy="2270160"/>
        </p:xfrm>
        <a:graphic>
          <a:graphicData uri="http://schemas.openxmlformats.org/drawingml/2006/table">
            <a:tbl>
              <a:tblPr/>
              <a:tblGrid>
                <a:gridCol w="2374920"/>
                <a:gridCol w="1225440"/>
                <a:gridCol w="1079640"/>
              </a:tblGrid>
              <a:tr h="579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GBFS spe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d s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∑ 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O+CaO+SiO</a:t>
                      </a:r>
                      <a:r>
                        <a:rPr b="0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r>
                        <a:rPr b="1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[(MgO+CaO)/SiO</a:t>
                      </a:r>
                      <a:r>
                        <a:rPr b="0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 to 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ass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± 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77" name="Group 4"/>
          <p:cNvGrpSpPr/>
          <p:nvPr/>
        </p:nvGrpSpPr>
        <p:grpSpPr>
          <a:xfrm>
            <a:off x="5456160" y="1347840"/>
            <a:ext cx="3148200" cy="3577320"/>
            <a:chOff x="5456160" y="1347840"/>
            <a:chExt cx="3148200" cy="3577320"/>
          </a:xfrm>
        </p:grpSpPr>
        <p:pic>
          <p:nvPicPr>
            <p:cNvPr id="178" name="Picture 8" descr=""/>
            <p:cNvPicPr/>
            <p:nvPr/>
          </p:nvPicPr>
          <p:blipFill>
            <a:blip r:embed="rId1"/>
            <a:srcRect l="23938" t="15000" r="31753" b="16401"/>
            <a:stretch/>
          </p:blipFill>
          <p:spPr>
            <a:xfrm>
              <a:off x="5456160" y="1347840"/>
              <a:ext cx="3148200" cy="32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9" name="TextBox 3"/>
            <p:cNvSpPr/>
            <p:nvPr/>
          </p:nvSpPr>
          <p:spPr>
            <a:xfrm>
              <a:off x="6207120" y="4587840"/>
              <a:ext cx="164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5mm partic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TECHNICAL RESUL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02CB-0534-4ADB-B5A2-C2AA5378ECF3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123840" y="698400"/>
            <a:ext cx="423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SiMn alloy produced met the ASTM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3840" y="1514520"/>
          <a:ext cx="4106880" cy="2473200"/>
        </p:xfrm>
        <a:graphic>
          <a:graphicData uri="http://schemas.openxmlformats.org/drawingml/2006/table">
            <a:tbl>
              <a:tblPr/>
              <a:tblGrid>
                <a:gridCol w="1030320"/>
                <a:gridCol w="1359000"/>
                <a:gridCol w="1717560"/>
              </a:tblGrid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n spe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oy produc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79600"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C</a:t>
                      </a:r>
                      <a:r>
                        <a:rPr b="0" lang="en-ZA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 -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± 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B</a:t>
                      </a:r>
                      <a:r>
                        <a:rPr b="0" lang="en-ZA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A</a:t>
                      </a:r>
                      <a:r>
                        <a:rPr b="0" lang="en-ZA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 – 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to 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± 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84" name="Rectangle 2"/>
          <p:cNvSpPr/>
          <p:nvPr/>
        </p:nvSpPr>
        <p:spPr>
          <a:xfrm>
            <a:off x="108000" y="4441680"/>
            <a:ext cx="90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ZA" sz="1200" spc="-1" strike="noStrike">
                <a:solidFill>
                  <a:srgbClr val="000000"/>
                </a:solidFill>
                <a:latin typeface="Arial"/>
                <a:ea typeface="Arial"/>
              </a:rPr>
              <a:t> ASTM Standards A483 / A483M - 10, “Standard Specification for Silicomanganese.” ASTM International, West Conshohocken, PA, 2003, pp. 1–2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0"/>
          <p:cNvGrpSpPr/>
          <p:nvPr/>
        </p:nvGrpSpPr>
        <p:grpSpPr>
          <a:xfrm>
            <a:off x="4356000" y="1492200"/>
            <a:ext cx="2347920" cy="2878920"/>
            <a:chOff x="4356000" y="1492200"/>
            <a:chExt cx="2347920" cy="2878920"/>
          </a:xfrm>
        </p:grpSpPr>
        <p:sp>
          <p:nvSpPr>
            <p:cNvPr id="186" name="TextBox 4"/>
            <p:cNvSpPr/>
            <p:nvPr/>
          </p:nvSpPr>
          <p:spPr>
            <a:xfrm>
              <a:off x="4364640" y="4033800"/>
              <a:ext cx="233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rained alloy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9"/>
            <p:cNvGrpSpPr/>
            <p:nvPr/>
          </p:nvGrpSpPr>
          <p:grpSpPr>
            <a:xfrm>
              <a:off x="4356000" y="1492200"/>
              <a:ext cx="2347920" cy="2519280"/>
              <a:chOff x="4356000" y="1492200"/>
              <a:chExt cx="2347920" cy="2519280"/>
            </a:xfrm>
          </p:grpSpPr>
          <p:pic>
            <p:nvPicPr>
              <p:cNvPr id="188" name="Picture 4" descr=""/>
              <p:cNvPicPr/>
              <p:nvPr/>
            </p:nvPicPr>
            <p:blipFill>
              <a:blip r:embed="rId1"/>
              <a:srcRect l="31101" t="18363" r="36615" b="20037"/>
              <a:stretch/>
            </p:blipFill>
            <p:spPr>
              <a:xfrm>
                <a:off x="4356000" y="1492200"/>
                <a:ext cx="2347920" cy="2519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cxnSp>
            <p:nvCxnSpPr>
              <p:cNvPr id="189" name="Straight Arrow Connector 4"/>
              <p:cNvCxnSpPr/>
              <p:nvPr/>
            </p:nvCxnSpPr>
            <p:spPr>
              <a:xfrm>
                <a:off x="4716000" y="3507840"/>
                <a:ext cx="432360" cy="108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90" name="TextBox 5"/>
              <p:cNvSpPr/>
              <p:nvPr/>
            </p:nvSpPr>
            <p:spPr>
              <a:xfrm>
                <a:off x="4385880" y="3430440"/>
                <a:ext cx="115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 m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12"/>
          <p:cNvGrpSpPr/>
          <p:nvPr/>
        </p:nvGrpSpPr>
        <p:grpSpPr>
          <a:xfrm>
            <a:off x="6804000" y="1492200"/>
            <a:ext cx="2205000" cy="2878920"/>
            <a:chOff x="6804000" y="1492200"/>
            <a:chExt cx="2205000" cy="2878920"/>
          </a:xfrm>
        </p:grpSpPr>
        <p:sp>
          <p:nvSpPr>
            <p:cNvPr id="192" name="TextBox 9"/>
            <p:cNvSpPr/>
            <p:nvPr/>
          </p:nvSpPr>
          <p:spPr>
            <a:xfrm>
              <a:off x="7169040" y="4033800"/>
              <a:ext cx="14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loy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1"/>
            <p:cNvGrpSpPr/>
            <p:nvPr/>
          </p:nvGrpSpPr>
          <p:grpSpPr>
            <a:xfrm>
              <a:off x="6804000" y="1492200"/>
              <a:ext cx="2205000" cy="2519280"/>
              <a:chOff x="6804000" y="1492200"/>
              <a:chExt cx="2205000" cy="2519280"/>
            </a:xfrm>
          </p:grpSpPr>
          <p:pic>
            <p:nvPicPr>
              <p:cNvPr id="194" name="Picture 3" descr=""/>
              <p:cNvPicPr/>
              <p:nvPr/>
            </p:nvPicPr>
            <p:blipFill>
              <a:blip r:embed="rId2"/>
              <a:srcRect l="25888" t="400" r="588" b="-386"/>
              <a:stretch/>
            </p:blipFill>
            <p:spPr>
              <a:xfrm>
                <a:off x="6804000" y="1492200"/>
                <a:ext cx="2205000" cy="2519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cxnSp>
            <p:nvCxnSpPr>
              <p:cNvPr id="195" name="Straight Arrow Connector 13"/>
              <p:cNvCxnSpPr/>
              <p:nvPr/>
            </p:nvCxnSpPr>
            <p:spPr>
              <a:xfrm>
                <a:off x="7308360" y="3416040"/>
                <a:ext cx="935640" cy="108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96" name="TextBox 16"/>
              <p:cNvSpPr/>
              <p:nvPr/>
            </p:nvSpPr>
            <p:spPr>
              <a:xfrm>
                <a:off x="7331040" y="3379680"/>
                <a:ext cx="11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0 m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Content Placeholder 2"/>
          <p:cNvSpPr/>
          <p:nvPr/>
        </p:nvSpPr>
        <p:spPr>
          <a:xfrm>
            <a:off x="4356000" y="754200"/>
            <a:ext cx="465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TECHNICAL RESUL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DC3D-A9B2-4F0E-AF4F-776BDE91BFCD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871640" y="915840"/>
            <a:ext cx="5402160" cy="3927240"/>
            <a:chOff x="1871640" y="915840"/>
            <a:chExt cx="5402160" cy="3927240"/>
          </a:xfrm>
        </p:grpSpPr>
        <p:sp>
          <p:nvSpPr>
            <p:cNvPr id="201" name="Rectangle 2"/>
            <p:cNvSpPr/>
            <p:nvPr/>
          </p:nvSpPr>
          <p:spPr>
            <a:xfrm>
              <a:off x="3671640" y="915840"/>
              <a:ext cx="1800000" cy="71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d1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Leaching stability t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5465880" y="1995120"/>
              <a:ext cx="179856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d1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TCLP</a:t>
              </a:r>
              <a:r>
                <a:rPr b="0" lang="en-ZA" sz="1800" spc="-1" strike="noStrike" baseline="30000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871640" y="1947600"/>
              <a:ext cx="1800000" cy="71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d1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SPL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1871640" y="3159000"/>
              <a:ext cx="180000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d1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Environmental condi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5473800" y="3165480"/>
              <a:ext cx="1800000" cy="71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d1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Landfill condi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Elbow Connector 4"/>
            <p:cNvCxnSpPr>
              <a:stCxn id="201" idx="2"/>
              <a:endCxn id="203" idx="0"/>
            </p:cNvCxnSpPr>
            <p:nvPr/>
          </p:nvCxnSpPr>
          <p:spPr>
            <a:xfrm rot="5400000">
              <a:off x="3514680" y="891000"/>
              <a:ext cx="313200" cy="1800720"/>
            </a:xfrm>
            <a:prstGeom prst="bentConnector3">
              <a:avLst>
                <a:gd name="adj1" fmla="val 49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Elbow Connector 13"/>
            <p:cNvCxnSpPr/>
            <p:nvPr/>
          </p:nvCxnSpPr>
          <p:spPr>
            <a:xfrm flipH="1" rot="16200000">
              <a:off x="5283000" y="905760"/>
              <a:ext cx="378360" cy="1800720"/>
            </a:xfrm>
            <a:prstGeom prst="bentConnector3">
              <a:avLst>
                <a:gd name="adj1" fmla="val 4723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Straight Arrow Connector 23"/>
            <p:cNvCxnSpPr>
              <a:stCxn id="203" idx="2"/>
              <a:endCxn id="204" idx="0"/>
            </p:cNvCxnSpPr>
            <p:nvPr/>
          </p:nvCxnSpPr>
          <p:spPr>
            <a:xfrm>
              <a:off x="2771280" y="2666520"/>
              <a:ext cx="1080" cy="49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Straight Arrow Connector 25"/>
            <p:cNvCxnSpPr>
              <a:stCxn id="202" idx="2"/>
              <a:endCxn id="205" idx="0"/>
            </p:cNvCxnSpPr>
            <p:nvPr/>
          </p:nvCxnSpPr>
          <p:spPr>
            <a:xfrm>
              <a:off x="6364440" y="2716200"/>
              <a:ext cx="10080" cy="450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0" name="Rectangle 26"/>
            <p:cNvSpPr/>
            <p:nvPr/>
          </p:nvSpPr>
          <p:spPr>
            <a:xfrm>
              <a:off x="2178000" y="4262400"/>
              <a:ext cx="486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Synthetic Precipitation Leaching Procedure </a:t>
              </a:r>
              <a:r>
                <a:rPr b="0" lang="en-Z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</a:t>
              </a:r>
              <a:r>
                <a:rPr b="0" lang="en-Z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xicity Characteristic Leaching Proced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TECHNICAL RESUL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4E8D-85EB-4A0B-8C4C-669646419BA0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672000" y="915840"/>
            <a:ext cx="180000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1d1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Leaching stability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465880" y="1995480"/>
            <a:ext cx="17985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1d1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CLP</a:t>
            </a:r>
            <a:r>
              <a:rPr b="0" lang="en-ZA" sz="18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871640" y="1947960"/>
            <a:ext cx="180036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d1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PL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871640" y="3159000"/>
            <a:ext cx="180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1d1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nvironment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473800" y="3165480"/>
            <a:ext cx="180000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1d1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Landfil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Elbow Connector 4"/>
          <p:cNvCxnSpPr>
            <a:stCxn id="213" idx="2"/>
            <a:endCxn id="215" idx="0"/>
          </p:cNvCxnSpPr>
          <p:nvPr/>
        </p:nvCxnSpPr>
        <p:spPr>
          <a:xfrm rot="5400000">
            <a:off x="3514680" y="891000"/>
            <a:ext cx="313560" cy="1801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Elbow Connector 13"/>
          <p:cNvCxnSpPr/>
          <p:nvPr/>
        </p:nvCxnSpPr>
        <p:spPr>
          <a:xfrm flipH="1" rot="16200000">
            <a:off x="5282280" y="906120"/>
            <a:ext cx="378360" cy="1801080"/>
          </a:xfrm>
          <a:prstGeom prst="bentConnector3">
            <a:avLst>
              <a:gd name="adj1" fmla="val 4723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Straight Arrow Connector 23"/>
          <p:cNvCxnSpPr>
            <a:stCxn id="215" idx="2"/>
            <a:endCxn id="216" idx="0"/>
          </p:cNvCxnSpPr>
          <p:nvPr/>
        </p:nvCxnSpPr>
        <p:spPr>
          <a:xfrm>
            <a:off x="2771280" y="2666520"/>
            <a:ext cx="1080" cy="49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Straight Arrow Connector 25"/>
          <p:cNvCxnSpPr>
            <a:stCxn id="214" idx="2"/>
            <a:endCxn id="217" idx="0"/>
          </p:cNvCxnSpPr>
          <p:nvPr/>
        </p:nvCxnSpPr>
        <p:spPr>
          <a:xfrm>
            <a:off x="6364440" y="2716200"/>
            <a:ext cx="1008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Straight Connector 14"/>
          <p:cNvSpPr/>
          <p:nvPr/>
        </p:nvSpPr>
        <p:spPr>
          <a:xfrm flipV="1">
            <a:off x="5076720" y="1708200"/>
            <a:ext cx="259092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7235280" y="13287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  <a:ea typeface="Arial"/>
              </a:rPr>
              <a:t>Not 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79280" y="409572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World Health Organization (WHO) standards were met with respect to Mg, Al, As, Co, Cr, Cu, Fe, Mn, Mo, Ni, Pb, V, Zn , </a:t>
            </a: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Cd,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1:02:01Z</dcterms:created>
  <dc:creator>Thabang Letoaba</dc:creator>
  <dc:description/>
  <dc:language>en-US</dc:language>
  <cp:lastModifiedBy>Wesley Banda</cp:lastModifiedBy>
  <cp:lastPrinted>2013-09-17T13:45:45Z</cp:lastPrinted>
  <dcterms:modified xsi:type="dcterms:W3CDTF">2017-04-11T11:27:06Z</dcterms:modified>
  <cp:revision>239</cp:revision>
  <dc:subject/>
  <dc:title>Heading</dc:title>
</cp:coreProperties>
</file>