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7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43.png" ContentType="image/png"/>
  <Override PartName="/ppt/media/image32.png" ContentType="image/png"/>
  <Override PartName="/ppt/media/image44.png" ContentType="image/png"/>
  <Override PartName="/ppt/media/image38.png" ContentType="image/png"/>
  <Override PartName="/ppt/media/image8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25.png" ContentType="image/png"/>
  <Override PartName="/ppt/media/image4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3B6A-17A5-4363-9309-DDE007ECE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3E0-4017-440B-911D-30E4C663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2381-25BB-45F8-A8C7-2BECC029944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F5C2-C88E-4699-8C47-9CD84815CD3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FFE4-E418-4691-ADC6-0419D3D7A2C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7BACE05-713A-4DFF-BAB5-806FA4909F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 speaker notes he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0247-97E6-4028-9A17-0E8B0B04F7E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 build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2010, extraction of natural gravle not exceed 12 million 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otal quantity of waste generated will not increase and maximum use will be made of it’s resource potenti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ppt_bakgrund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"/>
          <p:cNvSpPr/>
          <p:nvPr/>
        </p:nvSpPr>
        <p:spPr>
          <a:xfrm>
            <a:off x="142920" y="6308640"/>
            <a:ext cx="7237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t. of Civil, Environmental and Natural Resources Engineering </a:t>
            </a: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</a:t>
            </a:r>
            <a:fld id="{88504D9E-DE7D-4961-B7FA-0D2F173B4463}" type="slidenum">
              <a:rPr b="0" lang="sv-S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 | </a:t>
            </a:r>
            <a:fld id="{711FD14E-D7B0-462F-9E09-90D5B11D49A3}" type="datetime">
              <a:rPr b="0" lang="sv-SE" sz="1000" spc="-1" strike="noStrike">
                <a:solidFill>
                  <a:srgbClr val="ffffff"/>
                </a:solidFill>
                <a:latin typeface="Arial"/>
              </a:rPr>
              <a:t>26-07-28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www.ltu.se/org/sb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3" descr="ppt_bakgrund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4"/>
          <p:cNvSpPr/>
          <p:nvPr/>
        </p:nvSpPr>
        <p:spPr>
          <a:xfrm>
            <a:off x="142920" y="6308640"/>
            <a:ext cx="7237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t. of Civil, Environmental and Natural Resources Engineering </a:t>
            </a: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</a:t>
            </a:r>
            <a:fld id="{C1BD8B69-7E77-4699-9598-8FADB04BF7A7}" type="slidenum">
              <a:rPr b="0" lang="sv-S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 | </a:t>
            </a:r>
            <a:fld id="{7B5F8752-8269-4EAA-A691-C3CB2BE5508D}" type="datetime">
              <a:rPr b="0" lang="sv-SE" sz="1000" spc="-1" strike="noStrike">
                <a:solidFill>
                  <a:srgbClr val="ffffff"/>
                </a:solidFill>
                <a:latin typeface="Arial"/>
              </a:rPr>
              <a:t>26-07-28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www.ltu.se/org/sb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ppt_bakgrund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142920" y="6308640"/>
            <a:ext cx="723744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pt. of Civil, Environmental and Natural Resources Engineering </a:t>
            </a:r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</a:t>
            </a:r>
            <a:fld id="{F361CEFA-07AB-4509-A1B9-51574B93095E}" type="slidenum">
              <a:rPr b="0" lang="sv-S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 | </a:t>
            </a:r>
            <a:fld id="{E12B2AF0-DC94-4CFA-B49B-F0A566E7BD8D}" type="datetime">
              <a:rPr b="0" lang="sv-SE" sz="1000" spc="-1" strike="noStrike">
                <a:solidFill>
                  <a:srgbClr val="ffffff"/>
                </a:solidFill>
                <a:latin typeface="Arial"/>
              </a:rPr>
              <a:t>26-07-28</a:t>
            </a:fld>
            <a:r>
              <a:rPr b="0" lang="sv-SE" sz="1000" spc="-1" strike="noStrike">
                <a:solidFill>
                  <a:srgbClr val="ffffff"/>
                </a:solidFill>
                <a:latin typeface="Arial"/>
              </a:rPr>
              <a:t>| www.ltu.se/org/sb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jpe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-74520" y="1521000"/>
            <a:ext cx="928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uence of slag mineralogy on possibilities for use in alternativ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rik Engström, Ida Strandkvist, Caisa Samuelsson and Bo Björk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s and Metals Research Laboratory (M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leå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3640" y="2305080"/>
            <a:ext cx="3671640" cy="27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Dissolves Chromium(Cr</a:t>
            </a:r>
            <a:r>
              <a:rPr b="0" lang="en-GB" sz="1600" spc="-1" strike="noStrike" u="sng" baseline="30000">
                <a:solidFill>
                  <a:srgbClr val="000000"/>
                </a:solidFill>
                <a:uFillTx/>
                <a:latin typeface="Arial"/>
              </a:rPr>
              <a:t>+3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rwinit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kermani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-Ca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g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hleni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3CaO*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fig14"/>
          <p:cNvPicPr/>
          <p:nvPr/>
        </p:nvPicPr>
        <p:blipFill>
          <a:blip r:embed="rId1"/>
          <a:stretch/>
        </p:blipFill>
        <p:spPr>
          <a:xfrm>
            <a:off x="4643280" y="2205000"/>
            <a:ext cx="4226040" cy="37130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889600" y="4191120"/>
            <a:ext cx="547560" cy="169920"/>
            <a:chOff x="5889600" y="4191120"/>
            <a:chExt cx="547560" cy="169920"/>
          </a:xfrm>
        </p:grpSpPr>
        <p:sp>
          <p:nvSpPr>
            <p:cNvPr id="171" name="Freeform 8"/>
            <p:cNvSpPr/>
            <p:nvPr/>
          </p:nvSpPr>
          <p:spPr>
            <a:xfrm>
              <a:off x="6356520" y="4241880"/>
              <a:ext cx="80640" cy="680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1" h="43">
                  <a:moveTo>
                    <a:pt x="51" y="43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0"/>
            <p:cNvGrpSpPr/>
            <p:nvPr/>
          </p:nvGrpSpPr>
          <p:grpSpPr>
            <a:xfrm>
              <a:off x="5889600" y="4191120"/>
              <a:ext cx="544680" cy="169920"/>
              <a:chOff x="5889600" y="4191120"/>
              <a:chExt cx="544680" cy="169920"/>
            </a:xfrm>
          </p:grpSpPr>
          <p:sp>
            <p:nvSpPr>
              <p:cNvPr id="173" name="Freeform 6"/>
              <p:cNvSpPr/>
              <p:nvPr/>
            </p:nvSpPr>
            <p:spPr>
              <a:xfrm>
                <a:off x="5889600" y="4191120"/>
                <a:ext cx="357120" cy="16668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25" h="105">
                    <a:moveTo>
                      <a:pt x="225" y="105"/>
                    </a:moveTo>
                    <a:lnTo>
                      <a:pt x="103" y="54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251400" y="4313160"/>
                <a:ext cx="182880" cy="4788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5" h="30">
                    <a:moveTo>
                      <a:pt x="0" y="30"/>
                    </a:moveTo>
                    <a:lnTo>
                      <a:pt x="60" y="19"/>
                    </a:lnTo>
                    <a:lnTo>
                      <a:pt x="115" y="0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9"/>
              <p:cNvSpPr/>
              <p:nvPr/>
            </p:nvSpPr>
            <p:spPr>
              <a:xfrm>
                <a:off x="5894280" y="4191120"/>
                <a:ext cx="463680" cy="5076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92" h="32">
                    <a:moveTo>
                      <a:pt x="0" y="0"/>
                    </a:moveTo>
                    <a:lnTo>
                      <a:pt x="198" y="11"/>
                    </a:lnTo>
                    <a:lnTo>
                      <a:pt x="292" y="32"/>
                    </a:ln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18"/>
          <p:cNvGrpSpPr/>
          <p:nvPr/>
        </p:nvGrpSpPr>
        <p:grpSpPr>
          <a:xfrm>
            <a:off x="5889600" y="3941640"/>
            <a:ext cx="647640" cy="295560"/>
            <a:chOff x="5889600" y="3941640"/>
            <a:chExt cx="647640" cy="295560"/>
          </a:xfrm>
        </p:grpSpPr>
        <p:grpSp>
          <p:nvGrpSpPr>
            <p:cNvPr id="177" name="Group 17"/>
            <p:cNvGrpSpPr/>
            <p:nvPr/>
          </p:nvGrpSpPr>
          <p:grpSpPr>
            <a:xfrm>
              <a:off x="5889600" y="3941640"/>
              <a:ext cx="647640" cy="247680"/>
              <a:chOff x="5889600" y="3941640"/>
              <a:chExt cx="647640" cy="247680"/>
            </a:xfrm>
          </p:grpSpPr>
          <p:sp>
            <p:nvSpPr>
              <p:cNvPr id="178" name="Freeform 12"/>
              <p:cNvSpPr/>
              <p:nvPr/>
            </p:nvSpPr>
            <p:spPr>
              <a:xfrm>
                <a:off x="5889600" y="4167360"/>
                <a:ext cx="1440" cy="1872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3"/>
              <p:cNvSpPr/>
              <p:nvPr/>
            </p:nvSpPr>
            <p:spPr>
              <a:xfrm>
                <a:off x="5891040" y="3943440"/>
                <a:ext cx="395640" cy="228600"/>
              </a:xfrm>
              <a:custGeom>
                <a:avLst/>
                <a:gdLst>
                  <a:gd name="textAreaLeft" fmla="*/ 0 w 395640"/>
                  <a:gd name="textAreaRight" fmla="*/ 396000 w 3956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49" h="144">
                    <a:moveTo>
                      <a:pt x="0" y="144"/>
                    </a:moveTo>
                    <a:lnTo>
                      <a:pt x="249" y="0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4"/>
              <p:cNvSpPr/>
              <p:nvPr/>
            </p:nvSpPr>
            <p:spPr>
              <a:xfrm>
                <a:off x="6294600" y="3941640"/>
                <a:ext cx="242640" cy="5256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53" h="33">
                    <a:moveTo>
                      <a:pt x="0" y="0"/>
                    </a:moveTo>
                    <a:lnTo>
                      <a:pt x="78" y="21"/>
                    </a:lnTo>
                    <a:lnTo>
                      <a:pt x="153" y="33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5"/>
              <p:cNvSpPr/>
              <p:nvPr/>
            </p:nvSpPr>
            <p:spPr>
              <a:xfrm>
                <a:off x="6515280" y="3989520"/>
                <a:ext cx="21960" cy="199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14" h="126">
                    <a:moveTo>
                      <a:pt x="14" y="0"/>
                    </a:moveTo>
                    <a:lnTo>
                      <a:pt x="0" y="126"/>
                    </a:lnTo>
                  </a:path>
                </a:pathLst>
              </a:custGeom>
              <a:noFill/>
              <a:ln w="190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16"/>
            <p:cNvSpPr/>
            <p:nvPr/>
          </p:nvSpPr>
          <p:spPr>
            <a:xfrm>
              <a:off x="6362640" y="4189320"/>
              <a:ext cx="147600" cy="47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93" h="30">
                  <a:moveTo>
                    <a:pt x="93" y="0"/>
                  </a:moveTo>
                  <a:lnTo>
                    <a:pt x="0" y="30"/>
                  </a:lnTo>
                </a:path>
              </a:pathLst>
            </a:custGeom>
            <a:noFill/>
            <a:ln w="1908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5410080" y="4176720"/>
            <a:ext cx="828720" cy="512640"/>
            <a:chOff x="5410080" y="4176720"/>
            <a:chExt cx="828720" cy="512640"/>
          </a:xfrm>
        </p:grpSpPr>
        <p:sp>
          <p:nvSpPr>
            <p:cNvPr id="184" name="Freeform 19"/>
            <p:cNvSpPr/>
            <p:nvPr/>
          </p:nvSpPr>
          <p:spPr>
            <a:xfrm>
              <a:off x="5676840" y="4176720"/>
              <a:ext cx="208080" cy="126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31" h="8">
                  <a:moveTo>
                    <a:pt x="0" y="3"/>
                  </a:moveTo>
                  <a:lnTo>
                    <a:pt x="68" y="0"/>
                  </a:lnTo>
                  <a:lnTo>
                    <a:pt x="131" y="8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23"/>
            <p:cNvGrpSpPr/>
            <p:nvPr/>
          </p:nvGrpSpPr>
          <p:grpSpPr>
            <a:xfrm>
              <a:off x="5410080" y="4184640"/>
              <a:ext cx="828720" cy="504720"/>
              <a:chOff x="5410080" y="4184640"/>
              <a:chExt cx="828720" cy="504720"/>
            </a:xfrm>
          </p:grpSpPr>
          <p:sp>
            <p:nvSpPr>
              <p:cNvPr id="186" name="Freeform 20"/>
              <p:cNvSpPr/>
              <p:nvPr/>
            </p:nvSpPr>
            <p:spPr>
              <a:xfrm>
                <a:off x="5894280" y="4365720"/>
                <a:ext cx="344520" cy="31572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17" h="199">
                    <a:moveTo>
                      <a:pt x="217" y="0"/>
                    </a:moveTo>
                    <a:lnTo>
                      <a:pt x="93" y="97"/>
                    </a:lnTo>
                    <a:lnTo>
                      <a:pt x="0" y="19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1"/>
              <p:cNvSpPr/>
              <p:nvPr/>
            </p:nvSpPr>
            <p:spPr>
              <a:xfrm>
                <a:off x="5410080" y="4641840"/>
                <a:ext cx="479520" cy="4752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02" h="30">
                    <a:moveTo>
                      <a:pt x="302" y="30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2"/>
              <p:cNvSpPr/>
              <p:nvPr/>
            </p:nvSpPr>
            <p:spPr>
              <a:xfrm>
                <a:off x="5413320" y="4184640"/>
                <a:ext cx="257400" cy="45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458640"/>
                  <a:gd name="textAreaBottom" fmla="*/ 459000 h 458640"/>
                </a:gdLst>
                <a:ahLst/>
                <a:rect l="textAreaLeft" t="textAreaTop" r="textAreaRight" b="textAreaBottom"/>
                <a:pathLst>
                  <a:path w="162" h="289">
                    <a:moveTo>
                      <a:pt x="162" y="0"/>
                    </a:moveTo>
                    <a:lnTo>
                      <a:pt x="0" y="289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33"/>
          <p:cNvGrpSpPr/>
          <p:nvPr/>
        </p:nvGrpSpPr>
        <p:grpSpPr>
          <a:xfrm>
            <a:off x="5829480" y="4270320"/>
            <a:ext cx="2804760" cy="1349280"/>
            <a:chOff x="5829480" y="4270320"/>
            <a:chExt cx="2804760" cy="1349280"/>
          </a:xfrm>
        </p:grpSpPr>
        <p:sp>
          <p:nvSpPr>
            <p:cNvPr id="190" name="Freeform 25"/>
            <p:cNvSpPr/>
            <p:nvPr/>
          </p:nvSpPr>
          <p:spPr>
            <a:xfrm>
              <a:off x="6443640" y="4272120"/>
              <a:ext cx="162000" cy="410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02" h="26">
                  <a:moveTo>
                    <a:pt x="0" y="26"/>
                  </a:moveTo>
                  <a:lnTo>
                    <a:pt x="102" y="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32"/>
            <p:cNvGrpSpPr/>
            <p:nvPr/>
          </p:nvGrpSpPr>
          <p:grpSpPr>
            <a:xfrm>
              <a:off x="5829480" y="4270320"/>
              <a:ext cx="2804760" cy="1349280"/>
              <a:chOff x="5829480" y="4270320"/>
              <a:chExt cx="2804760" cy="1349280"/>
            </a:xfrm>
          </p:grpSpPr>
          <p:sp>
            <p:nvSpPr>
              <p:cNvPr id="192" name="Freeform 26"/>
              <p:cNvSpPr/>
              <p:nvPr/>
            </p:nvSpPr>
            <p:spPr>
              <a:xfrm>
                <a:off x="6610320" y="4270320"/>
                <a:ext cx="1309680" cy="147600"/>
              </a:xfrm>
              <a:custGeom>
                <a:avLst/>
                <a:gdLst>
                  <a:gd name="textAreaLeft" fmla="*/ 0 w 1309680"/>
                  <a:gd name="textAreaRight" fmla="*/ 1310040 w 1309680"/>
                  <a:gd name="textAreaTop" fmla="*/ 0 h 147600"/>
                  <a:gd name="textAreaBottom" fmla="*/ 147600 h 147600"/>
                </a:gdLst>
                <a:ahLst/>
                <a:rect l="textAreaLeft" t="textAreaTop" r="textAreaRight" b="textAreaBottom"/>
                <a:pathLst>
                  <a:path w="825" h="93">
                    <a:moveTo>
                      <a:pt x="0" y="0"/>
                    </a:moveTo>
                    <a:lnTo>
                      <a:pt x="188" y="6"/>
                    </a:lnTo>
                    <a:lnTo>
                      <a:pt x="401" y="27"/>
                    </a:lnTo>
                    <a:lnTo>
                      <a:pt x="596" y="51"/>
                    </a:lnTo>
                    <a:lnTo>
                      <a:pt x="825" y="93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7"/>
              <p:cNvSpPr/>
              <p:nvPr/>
            </p:nvSpPr>
            <p:spPr>
              <a:xfrm>
                <a:off x="7923240" y="4413240"/>
                <a:ext cx="709560" cy="117144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1171440"/>
                  <a:gd name="textAreaBottom" fmla="*/ 1171440 h 1171440"/>
                </a:gdLst>
                <a:ahLst/>
                <a:rect l="textAreaLeft" t="textAreaTop" r="textAreaRight" b="textAreaBottom"/>
                <a:pathLst>
                  <a:path w="447" h="738">
                    <a:moveTo>
                      <a:pt x="447" y="738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8"/>
              <p:cNvSpPr/>
              <p:nvPr/>
            </p:nvSpPr>
            <p:spPr>
              <a:xfrm>
                <a:off x="6099120" y="5584680"/>
                <a:ext cx="2535120" cy="34920"/>
              </a:xfrm>
              <a:custGeom>
                <a:avLst/>
                <a:gdLst>
                  <a:gd name="textAreaLeft" fmla="*/ 0 w 2535120"/>
                  <a:gd name="textAreaRight" fmla="*/ 2535480 w 2535120"/>
                  <a:gd name="textAreaTop" fmla="*/ 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1597" h="22">
                    <a:moveTo>
                      <a:pt x="1597" y="0"/>
                    </a:moveTo>
                    <a:lnTo>
                      <a:pt x="0" y="22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9"/>
              <p:cNvSpPr/>
              <p:nvPr/>
            </p:nvSpPr>
            <p:spPr>
              <a:xfrm>
                <a:off x="5829480" y="4808520"/>
                <a:ext cx="266400" cy="8096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809640"/>
                  <a:gd name="textAreaBottom" fmla="*/ 810000 h 809640"/>
                </a:gdLst>
                <a:ahLst/>
                <a:rect l="textAreaLeft" t="textAreaTop" r="textAreaRight" b="textAreaBottom"/>
                <a:pathLst>
                  <a:path w="168" h="510">
                    <a:moveTo>
                      <a:pt x="168" y="510"/>
                    </a:moveTo>
                    <a:lnTo>
                      <a:pt x="147" y="387"/>
                    </a:lnTo>
                    <a:lnTo>
                      <a:pt x="107" y="232"/>
                    </a:lnTo>
                    <a:lnTo>
                      <a:pt x="60" y="10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31"/>
              <p:cNvSpPr/>
              <p:nvPr/>
            </p:nvSpPr>
            <p:spPr>
              <a:xfrm>
                <a:off x="5829480" y="4699080"/>
                <a:ext cx="52200" cy="1015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33" h="64">
                    <a:moveTo>
                      <a:pt x="33" y="0"/>
                    </a:moveTo>
                    <a:lnTo>
                      <a:pt x="0" y="64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Rectangle 17"/>
          <p:cNvSpPr/>
          <p:nvPr/>
        </p:nvSpPr>
        <p:spPr>
          <a:xfrm>
            <a:off x="610560" y="647640"/>
            <a:ext cx="69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istribution of Cr in slag min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7807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slag minerals/ ti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14200" y="1500120"/>
            <a:ext cx="8501040" cy="928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dicalsiumsilicate"/>
          <p:cNvPicPr/>
          <p:nvPr/>
        </p:nvPicPr>
        <p:blipFill>
          <a:blip r:embed="rId1"/>
          <a:stretch/>
        </p:blipFill>
        <p:spPr>
          <a:xfrm>
            <a:off x="142920" y="2643120"/>
            <a:ext cx="3903480" cy="201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Akermanite"/>
          <p:cNvPicPr/>
          <p:nvPr/>
        </p:nvPicPr>
        <p:blipFill>
          <a:blip r:embed="rId2"/>
          <a:stretch/>
        </p:blipFill>
        <p:spPr>
          <a:xfrm>
            <a:off x="4572000" y="2643120"/>
            <a:ext cx="3903840" cy="20163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0"/>
          <p:cNvSpPr/>
          <p:nvPr/>
        </p:nvSpPr>
        <p:spPr>
          <a:xfrm>
            <a:off x="500040" y="1785960"/>
            <a:ext cx="807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-38 μm size, 0.1 M HN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50 mg mineral / 100 ml H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Merwinite"/>
          <p:cNvPicPr/>
          <p:nvPr/>
        </p:nvPicPr>
        <p:blipFill>
          <a:blip r:embed="rId3"/>
          <a:stretch/>
        </p:blipFill>
        <p:spPr>
          <a:xfrm>
            <a:off x="142920" y="4714920"/>
            <a:ext cx="3903480" cy="201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gehlenite"/>
          <p:cNvPicPr/>
          <p:nvPr/>
        </p:nvPicPr>
        <p:blipFill>
          <a:blip r:embed="rId4"/>
          <a:stretch/>
        </p:blipFill>
        <p:spPr>
          <a:xfrm>
            <a:off x="4572000" y="4714920"/>
            <a:ext cx="390384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33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erals responsible for Cr lea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9280" y="2600280"/>
            <a:ext cx="4176720" cy="34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MgO (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v-SE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(Fe,Al)</a:t>
            </a:r>
            <a:r>
              <a:rPr b="0" lang="sv-SE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v-SE" sz="3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sv-SE" sz="3000" spc="-1" strike="noStrike">
                <a:solidFill>
                  <a:srgbClr val="000000"/>
                </a:solidFill>
                <a:latin typeface="Arial"/>
              </a:rPr>
              <a:t> (ss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319640" y="2313000"/>
            <a:ext cx="4541760" cy="3402000"/>
          </a:xfrm>
          <a:prstGeom prst="rect">
            <a:avLst/>
          </a:prstGeom>
          <a:ln w="0">
            <a:noFill/>
          </a:ln>
        </p:spPr>
      </p:pic>
      <p:cxnSp>
        <p:nvCxnSpPr>
          <p:cNvPr id="208" name="Rak pil 5"/>
          <p:cNvCxnSpPr/>
          <p:nvPr/>
        </p:nvCxnSpPr>
        <p:spPr>
          <a:xfrm>
            <a:off x="3166920" y="2923920"/>
            <a:ext cx="2377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9" name="Text Box 12"/>
          <p:cNvSpPr/>
          <p:nvPr/>
        </p:nvSpPr>
        <p:spPr>
          <a:xfrm>
            <a:off x="4772160" y="1881360"/>
            <a:ext cx="36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F slag from black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Rak pil 8"/>
          <p:cNvCxnSpPr/>
          <p:nvPr/>
        </p:nvCxnSpPr>
        <p:spPr>
          <a:xfrm>
            <a:off x="3742920" y="3608280"/>
            <a:ext cx="3709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11" name="Bildobjekt 1" descr=""/>
          <p:cNvPicPr/>
          <p:nvPr/>
        </p:nvPicPr>
        <p:blipFill>
          <a:blip r:embed="rId2"/>
          <a:stretch/>
        </p:blipFill>
        <p:spPr>
          <a:xfrm>
            <a:off x="395280" y="3914640"/>
            <a:ext cx="326232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36520" y="2168640"/>
            <a:ext cx="4541760" cy="34081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33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erals responsible for Cr lea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ktangel 4"/>
          <p:cNvSpPr/>
          <p:nvPr/>
        </p:nvSpPr>
        <p:spPr>
          <a:xfrm>
            <a:off x="1814760" y="18003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MgO-FeO (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5283360" y="1700280"/>
            <a:ext cx="3565440" cy="2324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5243400" y="4149720"/>
            <a:ext cx="355932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16080" y="2168640"/>
            <a:ext cx="3983040" cy="29890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533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erals responsible for Cr leach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ktangel 4"/>
          <p:cNvSpPr/>
          <p:nvPr/>
        </p:nvSpPr>
        <p:spPr>
          <a:xfrm>
            <a:off x="615960" y="1798560"/>
            <a:ext cx="398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(Fe,Al)O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(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5040360" y="1700280"/>
            <a:ext cx="3554280" cy="2181240"/>
          </a:xfrm>
          <a:prstGeom prst="rect">
            <a:avLst/>
          </a:prstGeom>
          <a:ln w="0">
            <a:noFill/>
          </a:ln>
        </p:spPr>
      </p:pic>
      <p:sp>
        <p:nvSpPr>
          <p:cNvPr id="221" name="textruta 1"/>
          <p:cNvSpPr/>
          <p:nvPr/>
        </p:nvSpPr>
        <p:spPr>
          <a:xfrm>
            <a:off x="5040360" y="13302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ray diffraction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4765680" y="3881520"/>
            <a:ext cx="410364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080" y="25992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SE STUDY 2-PHOSPHORUS CAPA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981000"/>
            <a:ext cx="9325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's were asked to submit slag sample for P-scre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2 samples from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re evaluated using chemical analysis and X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27160" y="2457360"/>
            <a:ext cx="4241520" cy="3319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4624560" y="2468520"/>
            <a:ext cx="4360680" cy="34131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2050920" y="5983200"/>
            <a:ext cx="4075200" cy="860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347920" y="6181560"/>
            <a:ext cx="35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Cluster + 2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00" y="18864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RESULTS-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tretch/>
        </p:blipFill>
        <p:spPr>
          <a:xfrm>
            <a:off x="919080" y="765000"/>
            <a:ext cx="7373880" cy="55231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2916360" y="6267600"/>
            <a:ext cx="3671640" cy="46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3016080" y="6267600"/>
            <a:ext cx="34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1 and 2 be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976320" y="252576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6"/>
          <p:cNvCxnSpPr/>
          <p:nvPr/>
        </p:nvCxnSpPr>
        <p:spPr>
          <a:xfrm>
            <a:off x="1979640" y="2690280"/>
            <a:ext cx="289440" cy="1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6" name="TextBox 5"/>
          <p:cNvSpPr/>
          <p:nvPr/>
        </p:nvSpPr>
        <p:spPr>
          <a:xfrm>
            <a:off x="7812000" y="35258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9"/>
          <p:cNvCxnSpPr/>
          <p:nvPr/>
        </p:nvCxnSpPr>
        <p:spPr>
          <a:xfrm flipH="1" flipV="1">
            <a:off x="7524000" y="3212280"/>
            <a:ext cx="361080" cy="3135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38" name="Rectangle 8"/>
          <p:cNvSpPr/>
          <p:nvPr/>
        </p:nvSpPr>
        <p:spPr>
          <a:xfrm>
            <a:off x="2411280" y="1700280"/>
            <a:ext cx="5292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2205000" y="15796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 of P removal % and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1727280" y="3105000"/>
            <a:ext cx="237960" cy="11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 rot="16200000">
            <a:off x="1263240" y="3527640"/>
            <a:ext cx="123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removal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ktangel 2"/>
          <p:cNvSpPr/>
          <p:nvPr/>
        </p:nvSpPr>
        <p:spPr>
          <a:xfrm>
            <a:off x="1511280" y="4722840"/>
            <a:ext cx="63738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080" y="44100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RESULTS-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0" y="3860640"/>
            <a:ext cx="9144000" cy="299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19200" y="1270080"/>
            <a:ext cx="7905600" cy="4752720"/>
          </a:xfrm>
          <a:prstGeom prst="rect">
            <a:avLst/>
          </a:prstGeom>
          <a:ln w="0">
            <a:noFill/>
          </a:ln>
        </p:spPr>
      </p:pic>
      <p:sp>
        <p:nvSpPr>
          <p:cNvPr id="246" name="Rektangel 4"/>
          <p:cNvSpPr/>
          <p:nvPr/>
        </p:nvSpPr>
        <p:spPr>
          <a:xfrm>
            <a:off x="1763640" y="6157800"/>
            <a:ext cx="6264360" cy="468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ruta 3"/>
          <p:cNvSpPr/>
          <p:nvPr/>
        </p:nvSpPr>
        <p:spPr>
          <a:xfrm>
            <a:off x="1763640" y="620712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0.01 g mineral, 20-38um, 10 ml solution, konc 10 mg/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7080" y="441000"/>
            <a:ext cx="9494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RESULTS-OTHER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7920" y="1592280"/>
            <a:ext cx="4584600" cy="275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4587840" y="1584360"/>
            <a:ext cx="4584600" cy="2755800"/>
          </a:xfrm>
          <a:prstGeom prst="rect">
            <a:avLst/>
          </a:prstGeom>
          <a:ln w="0">
            <a:noFill/>
          </a:ln>
        </p:spPr>
      </p:pic>
      <p:sp>
        <p:nvSpPr>
          <p:cNvPr id="251" name="Rektangel 5"/>
          <p:cNvSpPr/>
          <p:nvPr/>
        </p:nvSpPr>
        <p:spPr>
          <a:xfrm>
            <a:off x="880920" y="5049720"/>
            <a:ext cx="6985080" cy="368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ruta 4"/>
          <p:cNvSpPr/>
          <p:nvPr/>
        </p:nvSpPr>
        <p:spPr>
          <a:xfrm>
            <a:off x="892080" y="5049720"/>
            <a:ext cx="80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0.01g mineral, 20-38um, 10 ml solution, Cu=15ug/L, Ni=4ug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1258920" y="1376280"/>
            <a:ext cx="6373800" cy="64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428760" y="475920"/>
            <a:ext cx="10001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Bildobjekt 2" descr="Ny bild CaO_Al2O3_SiO2 20110304.JPG"/>
          <p:cNvPicPr/>
          <p:nvPr/>
        </p:nvPicPr>
        <p:blipFill>
          <a:blip r:embed="rId1"/>
          <a:stretch/>
        </p:blipFill>
        <p:spPr>
          <a:xfrm>
            <a:off x="4681440" y="2097000"/>
            <a:ext cx="4276800" cy="43434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7" descr=""/>
          <p:cNvPicPr/>
          <p:nvPr/>
        </p:nvPicPr>
        <p:blipFill>
          <a:blip r:embed="rId2"/>
          <a:stretch/>
        </p:blipFill>
        <p:spPr>
          <a:xfrm>
            <a:off x="-236520" y="2484360"/>
            <a:ext cx="5772240" cy="35672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7"/>
          <p:cNvSpPr/>
          <p:nvPr/>
        </p:nvSpPr>
        <p:spPr>
          <a:xfrm>
            <a:off x="3780000" y="34815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8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"/>
          <p:cNvSpPr/>
          <p:nvPr/>
        </p:nvSpPr>
        <p:spPr>
          <a:xfrm>
            <a:off x="1332000" y="1469880"/>
            <a:ext cx="64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perties of the slags is influen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348000" y="584280"/>
            <a:ext cx="194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16000" y="2349000"/>
            <a:ext cx="4643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e studies/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framsida"/>
          <p:cNvPicPr/>
          <p:nvPr/>
        </p:nvPicPr>
        <p:blipFill>
          <a:blip r:embed="rId1"/>
          <a:stretch/>
        </p:blipFill>
        <p:spPr>
          <a:xfrm>
            <a:off x="4967280" y="2023920"/>
            <a:ext cx="3957480" cy="30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1"/>
          <a:srcRect l="744" t="1694" r="2063" b="736"/>
          <a:stretch/>
        </p:blipFill>
        <p:spPr>
          <a:xfrm>
            <a:off x="4357800" y="3429000"/>
            <a:ext cx="4348080" cy="2773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jernkontoret"/>
          <p:cNvPicPr/>
          <p:nvPr/>
        </p:nvPicPr>
        <p:blipFill>
          <a:blip r:embed="rId2"/>
          <a:stretch/>
        </p:blipFill>
        <p:spPr>
          <a:xfrm>
            <a:off x="395280" y="6237360"/>
            <a:ext cx="2808360" cy="314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sigill"/>
          <p:cNvPicPr/>
          <p:nvPr/>
        </p:nvPicPr>
        <p:blipFill>
          <a:blip r:embed="rId3"/>
          <a:stretch/>
        </p:blipFill>
        <p:spPr>
          <a:xfrm>
            <a:off x="3348000" y="5950080"/>
            <a:ext cx="792360" cy="77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MiMeR"/>
          <p:cNvPicPr/>
          <p:nvPr/>
        </p:nvPicPr>
        <p:blipFill>
          <a:blip r:embed="rId4"/>
          <a:stretch/>
        </p:blipFill>
        <p:spPr>
          <a:xfrm>
            <a:off x="0" y="1700280"/>
            <a:ext cx="3168720" cy="681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logga_179x42"/>
          <p:cNvPicPr/>
          <p:nvPr/>
        </p:nvPicPr>
        <p:blipFill>
          <a:blip r:embed="rId5"/>
          <a:stretch/>
        </p:blipFill>
        <p:spPr>
          <a:xfrm>
            <a:off x="214200" y="4143240"/>
            <a:ext cx="1704960" cy="4003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multiserv"/>
          <p:cNvPicPr/>
          <p:nvPr/>
        </p:nvPicPr>
        <p:blipFill>
          <a:blip r:embed="rId6"/>
          <a:stretch/>
        </p:blipFill>
        <p:spPr>
          <a:xfrm>
            <a:off x="571680" y="4857840"/>
            <a:ext cx="952200" cy="790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OK_logo_black"/>
          <p:cNvPicPr/>
          <p:nvPr/>
        </p:nvPicPr>
        <p:blipFill>
          <a:blip r:embed="rId7"/>
          <a:stretch/>
        </p:blipFill>
        <p:spPr>
          <a:xfrm>
            <a:off x="500040" y="3357720"/>
            <a:ext cx="1152720" cy="474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sandvik"/>
          <p:cNvPicPr/>
          <p:nvPr/>
        </p:nvPicPr>
        <p:blipFill>
          <a:blip r:embed="rId8"/>
          <a:stretch/>
        </p:blipFill>
        <p:spPr>
          <a:xfrm>
            <a:off x="2357280" y="3857760"/>
            <a:ext cx="1168560" cy="455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uddeholm"/>
          <p:cNvPicPr/>
          <p:nvPr/>
        </p:nvPicPr>
        <p:blipFill>
          <a:blip r:embed="rId9"/>
          <a:stretch/>
        </p:blipFill>
        <p:spPr>
          <a:xfrm>
            <a:off x="2286000" y="4714920"/>
            <a:ext cx="1171440" cy="237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2" descr="Hög+Logg+blå+transp"/>
          <p:cNvPicPr/>
          <p:nvPr/>
        </p:nvPicPr>
        <p:blipFill>
          <a:blip r:embed="rId10"/>
          <a:stretch/>
        </p:blipFill>
        <p:spPr>
          <a:xfrm>
            <a:off x="2071800" y="5500800"/>
            <a:ext cx="1726920" cy="317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4" descr="logotype_vinnova"/>
          <p:cNvPicPr/>
          <p:nvPr/>
        </p:nvPicPr>
        <p:blipFill>
          <a:blip r:embed="rId11"/>
          <a:stretch/>
        </p:blipFill>
        <p:spPr>
          <a:xfrm>
            <a:off x="3348000" y="1700280"/>
            <a:ext cx="1728720" cy="677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5" descr="MISTRAsv"/>
          <p:cNvPicPr/>
          <p:nvPr/>
        </p:nvPicPr>
        <p:blipFill>
          <a:blip r:embed="rId12"/>
          <a:stretch/>
        </p:blipFill>
        <p:spPr>
          <a:xfrm>
            <a:off x="5508720" y="1700280"/>
            <a:ext cx="3382920" cy="7635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78073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cknowled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4" descr="logo_main_ssab.gif"/>
          <p:cNvPicPr/>
          <p:nvPr/>
        </p:nvPicPr>
        <p:blipFill>
          <a:blip r:embed="rId13"/>
          <a:stretch/>
        </p:blipFill>
        <p:spPr>
          <a:xfrm>
            <a:off x="428760" y="2714760"/>
            <a:ext cx="1247760" cy="4093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6" descr="logo-camm.gif"/>
          <p:cNvPicPr/>
          <p:nvPr/>
        </p:nvPicPr>
        <p:blipFill>
          <a:blip r:embed="rId14"/>
          <a:stretch/>
        </p:blipFill>
        <p:spPr>
          <a:xfrm>
            <a:off x="2071800" y="2571840"/>
            <a:ext cx="2519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9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5105520" y="20574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10: ~ 45 million tonnes 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118120" y="245412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use: ~ 8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181480" y="16002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3964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85840" y="2112840"/>
            <a:ext cx="345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010:  1.4 million tonnes 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use: ~ 3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andfilling: ~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285840" y="3457440"/>
            <a:ext cx="857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428760" y="407196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1"/>
          <a:stretch/>
        </p:blipFill>
        <p:spPr>
          <a:xfrm>
            <a:off x="2195640" y="3732120"/>
            <a:ext cx="42465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78073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nditions in Sw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571400"/>
            <a:ext cx="8675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million tonne virgin material used in construction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access  to high quality natural ston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teria for use in building applications and road construction are missing for thes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availability of land for land 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” of using by-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sfalt%201"/>
          <p:cNvPicPr/>
          <p:nvPr/>
        </p:nvPicPr>
        <p:blipFill>
          <a:blip r:embed="rId1"/>
          <a:stretch/>
        </p:blipFill>
        <p:spPr>
          <a:xfrm>
            <a:off x="5889600" y="4005360"/>
            <a:ext cx="3227400" cy="25207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5"/>
          <p:cNvSpPr/>
          <p:nvPr/>
        </p:nvSpPr>
        <p:spPr>
          <a:xfrm>
            <a:off x="214200" y="207180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214200" y="2857680"/>
            <a:ext cx="857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096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826920" y="1727280"/>
            <a:ext cx="2505240" cy="1411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826920" y="374796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42" name="Höger 4"/>
          <p:cNvSpPr/>
          <p:nvPr/>
        </p:nvSpPr>
        <p:spPr>
          <a:xfrm>
            <a:off x="3433680" y="3375000"/>
            <a:ext cx="647640" cy="17928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441600" y="1844640"/>
            <a:ext cx="5330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ching tests used to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Bildobjekt 8" descr=""/>
          <p:cNvPicPr/>
          <p:nvPr/>
        </p:nvPicPr>
        <p:blipFill>
          <a:blip r:embed="rId3"/>
          <a:stretch/>
        </p:blipFill>
        <p:spPr>
          <a:xfrm>
            <a:off x="4473720" y="2552760"/>
            <a:ext cx="32670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968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68400" y="2716200"/>
            <a:ext cx="23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lack Box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ildobjekt 4" descr=""/>
          <p:cNvPicPr/>
          <p:nvPr/>
        </p:nvPicPr>
        <p:blipFill>
          <a:blip r:embed="rId1"/>
          <a:stretch/>
        </p:blipFill>
        <p:spPr>
          <a:xfrm>
            <a:off x="2519280" y="1525680"/>
            <a:ext cx="4448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770040" y="1419120"/>
            <a:ext cx="78912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460872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S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09680" y="1490760"/>
            <a:ext cx="42530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lti-crystalline materials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BILD1"/>
          <p:cNvPicPr/>
          <p:nvPr/>
        </p:nvPicPr>
        <p:blipFill>
          <a:blip r:embed="rId1"/>
          <a:stretch/>
        </p:blipFill>
        <p:spPr>
          <a:xfrm>
            <a:off x="357120" y="3057480"/>
            <a:ext cx="3672000" cy="2873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F4OKLA"/>
          <p:cNvPicPr/>
          <p:nvPr/>
        </p:nvPicPr>
        <p:blipFill>
          <a:blip r:embed="rId2"/>
          <a:stretch/>
        </p:blipFill>
        <p:spPr>
          <a:xfrm>
            <a:off x="4989600" y="3068640"/>
            <a:ext cx="3671640" cy="2865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500040" y="2529000"/>
            <a:ext cx="36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F slag from black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989600" y="2529000"/>
            <a:ext cx="36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F slag from stainless st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93120" y="642960"/>
            <a:ext cx="72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inerals commonly found in sla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41360" y="1700280"/>
          <a:ext cx="3975120" cy="4537080"/>
        </p:xfrm>
        <a:graphic>
          <a:graphicData uri="http://schemas.openxmlformats.org/drawingml/2006/table">
            <a:tbl>
              <a:tblPr/>
              <a:tblGrid>
                <a:gridCol w="1346040"/>
                <a:gridCol w="609840"/>
                <a:gridCol w="1409760"/>
                <a:gridCol w="609480"/>
              </a:tblGrid>
              <a:tr h="21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al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ical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erma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i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wi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i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hle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i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i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llasto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ic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g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eso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β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deg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calcium silic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nel (Fe,Mg,Mn,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+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+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6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ust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cla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ebrodolsk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wnmiller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l,Fe)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en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calcium alumin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1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9" name="Rectangle 5"/>
          <p:cNvSpPr/>
          <p:nvPr/>
        </p:nvSpPr>
        <p:spPr>
          <a:xfrm>
            <a:off x="4794120" y="4040280"/>
            <a:ext cx="40006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508640" y="4184640"/>
            <a:ext cx="428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X has been synthetic manufactured by us in order to evaluate it’s propert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794120" y="1736640"/>
            <a:ext cx="4071960" cy="180504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567320" y="1774800"/>
            <a:ext cx="4286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ehaviour of the slags depends on what minerals that are available in the slag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1224000" y="1585800"/>
            <a:ext cx="6480000" cy="1014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1706400" y="476280"/>
            <a:ext cx="557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tudy 1, Cr lea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25440" y="1657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1279440" y="1770120"/>
            <a:ext cx="65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order to explain the chromium leaching occurring from slags, at least two questions have to be answered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224000" y="2997360"/>
            <a:ext cx="71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chromium distribu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is the chromium containing phase reacting with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15:51Z</dcterms:created>
  <dc:creator>johe</dc:creator>
  <dc:description/>
  <dc:language>en-US</dc:language>
  <cp:lastModifiedBy>Fredrik Engström</cp:lastModifiedBy>
  <dcterms:modified xsi:type="dcterms:W3CDTF">2017-04-03T08:25:16Z</dcterms:modified>
  <cp:revision>324</cp:revision>
  <dc:subject/>
  <dc:title>Slide 1</dc:title>
</cp:coreProperties>
</file>